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ng" ContentType="image/png"/>
  <Override PartName="/ppt/media/image5.pct" ContentType="image/x-pict"/>
  <Override PartName="/ppt/media/image10.pct" ContentType="image/x-pict"/>
  <Override PartName="/ppt/media/image6.pct" ContentType="image/x-pict"/>
  <Override PartName="/ppt/media/image9.png" ContentType="image/png"/>
  <Override PartName="/ppt/media/image11.pct" ContentType="image/x-pict"/>
  <Override PartName="/ppt/media/image7.png" ContentType="image/png"/>
  <Override PartName="/ppt/media/image8.pct" ContentType="image/x-pict"/>
  <Override PartName="/ppt/media/image12.pct" ContentType="image/x-pi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A7830-E5AE-48DE-B240-C8EEB8735B6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But how does a node know what packets its neighbors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Report to its neighbors the packets it sto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However, at times of severe congestion, report may get lost in collisions. They also may arrive too late after the coding dec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The first way and the third way are reli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dge the gap between theory of network coding and practical network desig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A8A61-ACB4-4BB5-A0BA-51A72FD0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7ED6D-EE5B-4DD5-8AD2-4AB91549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D08F-DCCF-4AA6-AD1A-F6BCCDF58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537B-CFBC-4110-B8C0-4F82AC454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838-E507-43B7-9079-1BEBE5D35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22DA0-4A40-494C-BC8C-12FCFF644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24E1A-CC41-48EE-8BE9-E9D9835A0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527E-A4DC-42BF-8E2F-9E9F1DFD7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AC7C-C7DA-40C0-8DBE-EBCE9DCE7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BC66-09E7-462D-9E87-8A222A87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CF0C9-0ACA-4DC9-A8B3-EB58DDC4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4B32B-DDF1-428B-97B4-D146217F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uly 20,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Brunel Univer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558D8-2059-4B98-A4A0-77DD9A0B7E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66ff"/>
                </a:solidFill>
                <a:latin typeface="Arial Black"/>
              </a:rPr>
              <a:t>XORs in The Air: Practical Wireless Network Coding</a:t>
            </a:r>
            <a:endParaRPr b="0" lang="en-US" sz="40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Sachin Katti, Dina Katabi, Wenjun Hu, Jon Crowcroft et 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Presented by Jon Crowcrof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Slides borrowed from MIT Collaborators including Yan Ga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ree ways to get neighbor st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ption re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ues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sed on ETX metric (delivery probabilit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the probability that packets are overhe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neighbor is the previous hop of the packe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’s Gai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lice-and-Bob example gains 4/3 (maximum is 2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+MAC 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Due to Mac allocation, relay node is the bottleneck and throughput is 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With COPE, throughput is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ding+Mac Gain = 2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ake the packet at the head of its output que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Never delay packets (if can not code, simply send i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ategorize larger packets and small pack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de packets headed for the different nextho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Two virtual queues for each neighbor: large and sma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M neighbors </a:t>
            </a:r>
            <a:r>
              <a:rPr b="0" lang="zh-CN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2M virtual que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ding Algorith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523880" y="2514600"/>
            <a:ext cx="0" cy="342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320040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2743200"/>
            <a:ext cx="121896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352680" y="2743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29200" y="2743200"/>
            <a:ext cx="121932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cket_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6765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8954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35268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292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36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671840" y="23004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348360" y="2286000"/>
            <a:ext cx="122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24880" y="2286000"/>
            <a:ext cx="12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irtual Q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916560" y="334152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916560" y="412920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916560" y="4967280"/>
            <a:ext cx="43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890720" y="41911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906560" y="504360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554280" y="3505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54280" y="5119560"/>
            <a:ext cx="5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85800" y="40384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85800" y="4952880"/>
            <a:ext cx="5638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35560" y="350532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394240" y="42670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447920" y="2209680"/>
            <a:ext cx="1676160" cy="18288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124080" y="2209680"/>
            <a:ext cx="1676520" cy="27432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85800" y="5638680"/>
            <a:ext cx="5715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506760" y="586728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2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6760" y="6186600"/>
            <a:ext cx="55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800600" y="2209680"/>
            <a:ext cx="1676520" cy="3429000"/>
          </a:xfrm>
          <a:prstGeom prst="rect">
            <a:avLst/>
          </a:prstGeom>
          <a:noFill/>
          <a:ln w="381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" name=""/>
          <p:cNvGrpSpPr/>
          <p:nvPr/>
        </p:nvGrpSpPr>
        <p:grpSpPr>
          <a:xfrm>
            <a:off x="5106960" y="5715000"/>
            <a:ext cx="1055160" cy="368280"/>
            <a:chOff x="5106960" y="5715000"/>
            <a:chExt cx="1055160" cy="368280"/>
          </a:xfrm>
        </p:grpSpPr>
        <p:sp>
          <p:nvSpPr>
            <p:cNvPr id="173" name=""/>
            <p:cNvSpPr/>
            <p:nvPr/>
          </p:nvSpPr>
          <p:spPr>
            <a:xfrm>
              <a:off x="5106960" y="571500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469120" y="571500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097240" y="6019920"/>
            <a:ext cx="1055160" cy="368280"/>
            <a:chOff x="5097240" y="6019920"/>
            <a:chExt cx="1055160" cy="368280"/>
          </a:xfrm>
        </p:grpSpPr>
        <p:sp>
          <p:nvSpPr>
            <p:cNvPr id="176" name=""/>
            <p:cNvSpPr/>
            <p:nvPr/>
          </p:nvSpPr>
          <p:spPr>
            <a:xfrm>
              <a:off x="5097240" y="6019920"/>
              <a:ext cx="558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459400" y="6019920"/>
              <a:ext cx="69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3b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106960" y="6338880"/>
            <a:ext cx="1043640" cy="368280"/>
            <a:chOff x="5106960" y="6338880"/>
            <a:chExt cx="1043640" cy="368280"/>
          </a:xfrm>
        </p:grpSpPr>
        <p:sp>
          <p:nvSpPr>
            <p:cNvPr id="179" name=""/>
            <p:cNvSpPr/>
            <p:nvPr/>
          </p:nvSpPr>
          <p:spPr>
            <a:xfrm>
              <a:off x="5106960" y="6338880"/>
              <a:ext cx="5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468400" y="6338880"/>
              <a:ext cx="68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×P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2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7315200" y="5791320"/>
            <a:ext cx="76212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et id: A 32-bit hash of src IP and Seq. 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XOR the encoded packet with the corresponding stored packets to get native pack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the native packet in packet po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Pseudo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ns of broad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Unreliable due to no 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ack of backo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ggy back on uni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Set one of intended node as Mac add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List  all others in COPE header (between MAC and IP head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Receiver: if it is on the list, decode the packet, else store the packet in its p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Hop by hop AC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synchronous A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Each of native packet schedules an event for retransmi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Re-enqueue the packet if no Ack within Ta second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cks added in COPE head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COPE Desig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he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icate what packets are enco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port sender’s packet pool inf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knowledge what packets the sender receiv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66ff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apacity of Multi-hop Wireless Networks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pta/Kumar limit (for 1/r^2 far field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on geometry/receiver inter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rossglauser/Tse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(random) mo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se co-operative MIMO improv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quires smart antennae and v. accurate clo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t Coding - originally for broadca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welde result for rateless code/ca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d Bob (T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6629400" y="22096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4114800" y="2438280"/>
            <a:ext cx="830160" cy="93996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1093680" y="3463920"/>
            <a:ext cx="6526440" cy="33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ice and Bob (UD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1154160" y="2286000"/>
            <a:ext cx="6618240" cy="3467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396720" y="5797440"/>
            <a:ext cx="8350560" cy="6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erformanc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Large Scale Experi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0 no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2 flo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ick sender and receiver random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Packet size based on actual measur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Flow arrival are Pos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Large Scale Exp.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1752480" y="1523880"/>
            <a:ext cx="5710320" cy="323064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1063800" y="5546880"/>
            <a:ext cx="7089480" cy="62532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3584520" y="4836960"/>
            <a:ext cx="223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ffered load in Mb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Conclusion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: a new approach to wir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rge throughput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implement network coding to wireless net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roblems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The experiment runs on a hidden node free net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Almost no gain due to hidden termi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More general (3+ packets coded togethe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Very hard (np) to figure out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Better (e.g. Luby) c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mputationally expensiv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counter indicated for wireless nodes:-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Future work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o: Bjorn Scheuermann/Wenjun H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bine hop-by-hop Congestion control &amp;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hieves near optimal coding advan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ate target is set to incorporate coding improv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 Casting: Gkantsidis/Hu et 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ath (e.g. VRR) routing + co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gain near opti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al MAC would be “simpler”/b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early impossible to desig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Questions?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y questions….please e-mail me and I can forward &amp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gements to my colleagues, collaborators and students 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mbridge, MIT and Microsoft rese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.b. some work was funded by the Cambridge MIT Institute (DTI+BT) and some by MS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Problem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57200" y="2971800"/>
            <a:ext cx="8231040" cy="110016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2895480" y="4572000"/>
            <a:ext cx="342900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twork 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830160" cy="9399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117320" y="245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5146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47920" y="38862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162920" y="3886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58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5146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5812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981080" y="4876920"/>
            <a:ext cx="495324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4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Background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b and Ali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1447920" y="2666880"/>
            <a:ext cx="1030320" cy="116064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629400" y="2666880"/>
            <a:ext cx="990720" cy="116064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4114800" y="2895480"/>
            <a:ext cx="830160" cy="9399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117320" y="2452680"/>
            <a:ext cx="7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l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457200" cy="3045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47920" y="38862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162920" y="38862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095880" y="380988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342900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502920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2590920" y="365760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81080" y="4876920"/>
            <a:ext cx="4953240" cy="990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rans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581280" y="3809880"/>
            <a:ext cx="457200" cy="304920"/>
            <a:chOff x="3581280" y="3809880"/>
            <a:chExt cx="457200" cy="304920"/>
          </a:xfrm>
        </p:grpSpPr>
        <p:sp>
          <p:nvSpPr>
            <p:cNvPr id="88" name=""/>
            <p:cNvSpPr/>
            <p:nvPr/>
          </p:nvSpPr>
          <p:spPr>
            <a:xfrm>
              <a:off x="3581280" y="38098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09880" y="38098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029200" y="3048120"/>
            <a:ext cx="457200" cy="304560"/>
            <a:chOff x="5029200" y="3048120"/>
            <a:chExt cx="457200" cy="304560"/>
          </a:xfrm>
        </p:grpSpPr>
        <p:sp>
          <p:nvSpPr>
            <p:cNvPr id="91" name=""/>
            <p:cNvSpPr/>
            <p:nvPr/>
          </p:nvSpPr>
          <p:spPr>
            <a:xfrm>
              <a:off x="5029200" y="3048120"/>
              <a:ext cx="457200" cy="3045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257800" y="3048120"/>
              <a:ext cx="228600" cy="3045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" name=""/>
          <p:cNvSpPr/>
          <p:nvPr/>
        </p:nvSpPr>
        <p:spPr>
          <a:xfrm>
            <a:off x="4191120" y="380988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1447920" y="4495680"/>
            <a:ext cx="457200" cy="304920"/>
            <a:chOff x="1447920" y="4495680"/>
            <a:chExt cx="457200" cy="304920"/>
          </a:xfrm>
        </p:grpSpPr>
        <p:sp>
          <p:nvSpPr>
            <p:cNvPr id="95" name=""/>
            <p:cNvSpPr/>
            <p:nvPr/>
          </p:nvSpPr>
          <p:spPr>
            <a:xfrm>
              <a:off x="1447920" y="44956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1676520" y="44956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162920" y="4495680"/>
            <a:ext cx="457200" cy="304920"/>
            <a:chOff x="7162920" y="4495680"/>
            <a:chExt cx="457200" cy="304920"/>
          </a:xfrm>
        </p:grpSpPr>
        <p:sp>
          <p:nvSpPr>
            <p:cNvPr id="98" name=""/>
            <p:cNvSpPr/>
            <p:nvPr/>
          </p:nvSpPr>
          <p:spPr>
            <a:xfrm>
              <a:off x="7162920" y="4495680"/>
              <a:ext cx="457200" cy="304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1520" y="4495680"/>
              <a:ext cx="228600" cy="30492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7086600" y="41148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371600" y="4114800"/>
            <a:ext cx="609480" cy="53352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 Black"/>
              </a:rPr>
              <a:t>X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467480" y="4952880"/>
            <a:ext cx="0" cy="228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47920" y="5257800"/>
            <a:ext cx="4572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162920" y="5257800"/>
            <a:ext cx="457200" cy="3049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utline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PE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66ff"/>
                </a:solidFill>
                <a:latin typeface="Arial Black"/>
              </a:rPr>
              <a:t>COPE</a:t>
            </a:r>
            <a:br>
              <a:rPr sz="4000"/>
            </a:br>
            <a:r>
              <a:rPr b="0" lang="en-US" sz="4000" spc="-1" strike="noStrike">
                <a:solidFill>
                  <a:srgbClr val="3366ff"/>
                </a:solidFill>
                <a:latin typeface="Arial Black"/>
              </a:rPr>
              <a:t>(Coding Opportunistically)</a:t>
            </a:r>
            <a:endParaRPr b="0" lang="en-US" sz="40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Consider multiple unicast f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Generalize Alice-Bob scenar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Exploits Shared Nature of Wireless Mediu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Store Overheard Packets for Short Ti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These packets are used for decoding perspective pack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First implement Wireless Network Coding in the real wor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verhear neighbors’ transmis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 these packets in a buffer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Packet Poo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short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port the packet pool info. to neighb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rmine what packets to code based on the inf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nd encoded packe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3366ff"/>
                </a:solidFill>
                <a:latin typeface="Arial Black"/>
              </a:rPr>
              <a:t>Opportunistic Coding</a:t>
            </a:r>
            <a:endParaRPr b="0" lang="en-US" sz="4400" spc="-1" strike="noStrike">
              <a:solidFill>
                <a:srgbClr val="3366ff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80880" y="1898640"/>
            <a:ext cx="3733920" cy="30542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4267080" y="2666880"/>
            <a:ext cx="1636920" cy="198144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5943600" y="1676520"/>
            <a:ext cx="2187720" cy="30477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04920" y="1523880"/>
            <a:ext cx="3962160" cy="403884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43400" y="2209680"/>
            <a:ext cx="1523880" cy="274320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19920" y="1447920"/>
            <a:ext cx="2819160" cy="4038480"/>
          </a:xfrm>
          <a:prstGeom prst="rect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7924680" y="2590920"/>
            <a:ext cx="380880" cy="457200"/>
            <a:chOff x="7924680" y="2590920"/>
            <a:chExt cx="380880" cy="457200"/>
          </a:xfrm>
        </p:grpSpPr>
        <p:sp>
          <p:nvSpPr>
            <p:cNvPr id="122" name=""/>
            <p:cNvSpPr/>
            <p:nvPr/>
          </p:nvSpPr>
          <p:spPr>
            <a:xfrm>
              <a:off x="7924680" y="259092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24680" y="259092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7848720" y="3200400"/>
            <a:ext cx="609480" cy="457200"/>
            <a:chOff x="7848720" y="3200400"/>
            <a:chExt cx="609480" cy="457200"/>
          </a:xfrm>
        </p:grpSpPr>
        <p:sp>
          <p:nvSpPr>
            <p:cNvPr id="125" name=""/>
            <p:cNvSpPr/>
            <p:nvPr/>
          </p:nvSpPr>
          <p:spPr>
            <a:xfrm>
              <a:off x="7848720" y="3352680"/>
              <a:ext cx="228600" cy="30492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V="1">
              <a:off x="8077320" y="3200400"/>
              <a:ext cx="38088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077320" y="3276720"/>
              <a:ext cx="304560" cy="304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924680" y="3809880"/>
            <a:ext cx="609840" cy="457200"/>
            <a:chOff x="7924680" y="3809880"/>
            <a:chExt cx="609840" cy="457200"/>
          </a:xfrm>
        </p:grpSpPr>
        <p:sp>
          <p:nvSpPr>
            <p:cNvPr id="129" name=""/>
            <p:cNvSpPr/>
            <p:nvPr/>
          </p:nvSpPr>
          <p:spPr>
            <a:xfrm>
              <a:off x="7924680" y="3962520"/>
              <a:ext cx="228600" cy="30456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V="1">
              <a:off x="8153280" y="3809880"/>
              <a:ext cx="381240" cy="457200"/>
            </a:xfrm>
            <a:prstGeom prst="line">
              <a:avLst/>
            </a:prstGeom>
            <a:ln w="5724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3T06:54:36Z</dcterms:created>
  <dc:creator>gy</dc:creator>
  <dc:description/>
  <dc:language>en-US</dc:language>
  <cp:lastModifiedBy>jon crowcroft</cp:lastModifiedBy>
  <dcterms:modified xsi:type="dcterms:W3CDTF">2007-07-20T17:43:46Z</dcterms:modified>
  <cp:revision>17</cp:revision>
  <dc:subject/>
  <dc:title>XORs in The Air: Practical Wireless Network Coding</dc:title>
</cp:coreProperties>
</file>