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51422F4-EBDB-4CD6-B45C-5D56BAE45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urpose of this talk is to report on the current (November 1995) status of the field of object oriented databases. It assumes an understanding of the basic concepts of relational databases.</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DMG, formed in 1991, is a consortium of object database vendors led by a small and focused group of experts. Their aim is to produce an open standard for object database management systems. Among the requirements for voting members is that the parent company must commercially ship an object database product and must commit to implement the ODMG specific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MG system has a strong CORBA flavour; although not derived from OMG, ODMG is affiliated with OMG and OMG has approved ODMG-93 as a standard interface for a Persistence Servi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L (Object Definition Language) is an extension of CORBA’s IDL and as such has a C++ flavou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QL (Object Query Language) has a syntax based on SQ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ML (Object Manipulation Language) is a C++ language binding which provides access to database functions and persistence to objects defined with ODL. Among other things it  defines standard container class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tandard has been formalised in a book [cattell94] but there are no full implementations just yet. A private communication from the ODMG executive director received while compiling these notes (1995 11 22) said “</a:t>
            </a:r>
            <a:r>
              <a:rPr b="0" i="1" lang="en-US" sz="1300" spc="-1" strike="noStrike">
                <a:solidFill>
                  <a:srgbClr val="000000"/>
                </a:solidFill>
                <a:latin typeface="Times New Roman"/>
                <a:ea typeface="Times New Roman"/>
              </a:rPr>
              <a:t>A listing of ODMG-93 compliant products will be posted at http://www.odmg.org within the next two weeks</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lmost everyone in the field acknowledges the “impedance mismatch” problem and agrees that relational databases are insufficient for certain classes of applications. However, while object technology seems to provide a solution for improvement, there is no consensus on what the ideal ODBMS should look like, not even from a theoretical standpoint (see the three manifesto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advantages of object databases are their rich type system which matches the expressive power and preserves the strong typing of its counterpart in OO programming languages, and the performance advantage they offer in certain applications to which relational systems are not sui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drawbacks are that, unlike relational systems, they don’t rest on a mathematical foundation and, partly as a consequence of this, they haven’t currently attained the same maturit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ew products are being brought out and refined continuously, both in academia and industry, but there is no universally agreed benchmark (like Codd’s rules for RDBMS) against which to compare them. </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capital letters in the above are mainly of “local” (Olivetti Research Laboratory) interes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E = I’ve got an electronic copy of i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P = I’ve got a paper copy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nnotated bibliography, which includes the complete bibliographical references which could not fit on this page as well as a few more texts and some online resources, is available as a separate document at the following URL, where this same set of slides and all the “E” documents are available too:</a:t>
            </a:r>
            <a:endParaRPr b="0" lang="en-US" sz="1300" spc="-1" strike="noStrike">
              <a:solidFill>
                <a:srgbClr val="000000"/>
              </a:solidFill>
              <a:latin typeface="Arial"/>
            </a:endParaRPr>
          </a:p>
          <a:p>
            <a:pPr indent="0" algn="ctr">
              <a:lnSpc>
                <a:spcPct val="130000"/>
              </a:lnSpc>
              <a:spcBef>
                <a:spcPts val="720"/>
              </a:spcBef>
              <a:buNone/>
            </a:pPr>
            <a:r>
              <a:rPr b="0" lang="en-US" sz="1300" spc="-1" strike="noStrike">
                <a:solidFill>
                  <a:srgbClr val="000000"/>
                </a:solidFill>
                <a:latin typeface="Courier New"/>
                <a:ea typeface="Courier New"/>
              </a:rPr>
              <a:t>http://www.cam-orl.co.uk/~fms/d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n the annotated bibliography, the above texts are referred to as follows:</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atkinson89], [cadf90], [darwen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date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ullman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manola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4]</a:t>
            </a:r>
            <a:endParaRPr b="0" lang="en-US" sz="1300" spc="-1" strike="noStrike">
              <a:solidFill>
                <a:srgbClr val="000000"/>
              </a:solidFill>
              <a:latin typeface="Arial"/>
            </a:endParaRPr>
          </a:p>
          <a:p>
            <a:pPr marL="91440" indent="-91440">
              <a:lnSpc>
                <a:spcPct val="17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1]</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oriented databases emerged in the mid-80’s in response to the feeling that relational databases were inadequate for certain classes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shall expose this inadequacy by means of an example from the world of electronic CAD, borrowed from [manola94].</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have a system that represents circuits made of interconnected logic gates. The portion of diagram pictured above has three 2-input AND gates C1, C2 and C3 connected to form a bigger, 4-input AND gate P. How would we represent this in a relational database? The tables above are an attempt. We make a table describing gate types and another table with gate instances. Then a table with pin types and one with wire instances (not all columns shown because of space limit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re are several problems with this representation. Scattering the details of a single gate among several tables is unnatural and counterintuitive from the application’s point of view, leading to complexity and inefficiency in manipulation; it also makes it not obvious which gates are part of which others. Traversal of the circuit following the logic paths is an expensive operation which requires many joins; also, these are joins of the worse type, where you join very large relations only to extract a few tuples.</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nother attempt at a relational solution which uses BLOBs, or Binary Large OBjects. A BLOB is basically a byte string that is stored as is in the database;  the application understands it, the database doesn’t. In the pictorial representation above, the circuit diagrams in the “Layout” column stand for BLOB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rouble with BLOBs is of course that you can’t run queries on them: Does a 4-AND contain any 2-ANDs? The BLOB contains the answer, but not in a form that the database can access. Also, the database cannot perform any form of type checking on the BLO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f the BLOB represents a data structure containing pointers, the application must transform these pointers in a “relocatable” form that makes sense outside the process context before dumping the data structure to a BLOB. </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example just shown is representative of a problem of relational databases described metaphorically in the literature as “impedance mismatch”. The two components whose impedances do not match are the application (in this case the CAD system) and the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pplication is procedural, deals with one item of data at a time and creates complex data structures; the database, conversely, is declarative, deals with tuples in sets instead of individually and holds data in flat tables. Both approaches have their good reasons and strengths in their respective fields, but bringing the two paradigms together in an application that uses the database exposes this mismatch.</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olution proposed by the supporters of object oriented databases is to bring the type systems of the application and database closer to each other, so that a data item defined in the application can be stored in the database without being first “unwound”, and to integrate the programming language of the application with the database’s DML.</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s don’t normally let you define your own data types (although some authors, most notably [date95], argue that this is a deficiency of current implementations and not a prescription of the relational model); object databases, instead, let you define arbitrarily complex, data types like their programming language counterparts, possibly nested in is-a and/or has-a hierarch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ts, lists, bags (i.e. multisets) and other containers are used, among other things, to represent the result of a query which returns several object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 method is a piece of code associated with an object that has privileged access to the object’s state. Checking whether an object has or doesn’t have a property which is “derived” from its state may sometimes be done more efficiently by invoking a specially written method than by running a query on the attributes. Stored procedures (stored in the database, that is) which can be executed on the server side were for certain aspects a precursor of this idea.</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Rules” is a generic name for code that is automatically activated when certain events occur. A form of constraint programm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one of the most important features of object databases is that the commonality between the application’s and the database’s type systems  preserves the strong typing in the communication between the two.</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dvantages of the object database approach are that applications which define a rich type system for their data structures can carry this over to the database when these data structures are made persistent. The impedance mismatch is eliminated as the database becomes a “persistence extension” to the language rather than an external service that one has to talk to through a narrow and limited interface.</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systems introduce pointers linking objects to each other. This in turn promotes a procedural style of navigation among the data items that can be seen as a step backwards from the higher-level declarative approach introduced by relational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hile encapsulation (the idea that an object’s internal state is only accessible through its designated methods) is a valuable modular technique, it presents problems with queries. Even if the Employee class has an extensive set of methods for hire_employee, change_salary, fire_employee etc., I might still not be able to answer a simple question like “who is the manager of this employee?” unless an appropriate method has been written. There is a tradeoff between giving up encapsulation (by exposing all of the object’s state through methods or by allowing queries to violate encapsulation under certain circumstances) and severely restricting the class of possible quer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losure of the relational algebra (the property that operators take relations as their arguments and give out relations as their results, thus allowing nested queries) is an important property that is normally lost in object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but perhaps most importantly, object databases do not rest on a formal mathematical base like their relational predecessors. A powerful instrument of analysis, deduction and insight is lost. </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an OODBMS? Or, as some used to claim that no real one exists yet, what should it be? Ask this question to different people and you’ll get wildly different answers. The three papers listed above were important milestones that attempted to define the iss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manifesto, [atkinson89], said: ok, no one agrees on what an OODBMS is; so we are giving a set of golden rules. If a database system complies with these rules, you can call it OO. The rules stressed mostly the OO properties and considered relational databases as legacy systems not suited to the new crop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manifesto, [cadf90], which presented its own set of rules, was a counter-manifesto to the first. It stressed that relational systems had introduced two major developments (non procedural access and data independence) which it would be foolish to abandon in any future system. SQL, defined as “intergalactic dataspeak”, had to be suppor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hird manifesto, [darwen95], more formal and technical than the first two, presented a system firmly rooted in the relational model. [atkinson89] got it wrong, they said, in ignoring relational; [cadf90] got it right on that point, but wrong when they supported SQL, which is a flawed perversion of the relational ideals. The system defined in [darwen 95] extends the relational model by allowing the definition of new data types for domains.</a:t>
            </a:r>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first object databases (left portion of the diagram) restarted from scratch, without any ties to relational systems; they based their type systems on object oriented programming languages and went on from there to add database features. This is the approach described in the first manifesto referred to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other strain of object databases started from relational systems and added object features to them, as in the approaches described in the second and third manifestos. [manola94] describes this approach as “object relational DBMS”, using the name “object oriented DBMS” for the first style and “object DBMS” as a collective name for the two.</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wo approaches tend to a common point, but they reach it from different routes. The OODBMS approach starts from an object oriented framework and adds facilities to express declarative queries. The ORDBMS approach starts from a relational framework and extends the type system with objects. </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 name=""/>
          <p:cNvGrpSpPr/>
          <p:nvPr/>
        </p:nvGrpSpPr>
        <p:grpSpPr>
          <a:xfrm>
            <a:off x="152280" y="76320"/>
            <a:ext cx="8839080" cy="6629760"/>
            <a:chOff x="152280" y="76320"/>
            <a:chExt cx="8839080" cy="6629760"/>
          </a:xfrm>
        </p:grpSpPr>
        <p:sp>
          <p:nvSpPr>
            <p:cNvPr id="2" name=""/>
            <p:cNvSpPr/>
            <p:nvPr/>
          </p:nvSpPr>
          <p:spPr>
            <a:xfrm>
              <a:off x="152280" y="228600"/>
              <a:ext cx="8839080" cy="60199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3" name=""/>
            <p:cNvSpPr/>
            <p:nvPr/>
          </p:nvSpPr>
          <p:spPr>
            <a:xfrm>
              <a:off x="6399360" y="7632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154240" y="6019920"/>
              <a:ext cx="783000" cy="686160"/>
            </a:xfrm>
            <a:custGeom>
              <a:avLst/>
              <a:gdLst/>
              <a:ahLst/>
              <a:rect l="0" t="0" r="r" b="b"/>
              <a:pathLst>
                <a:path w="2175" h="1906">
                  <a:moveTo>
                    <a:pt x="0" y="1906"/>
                  </a:moveTo>
                  <a:lnTo>
                    <a:pt x="2175" y="1906"/>
                  </a:lnTo>
                  <a:lnTo>
                    <a:pt x="1087" y="0"/>
                  </a:lnTo>
                  <a:lnTo>
                    <a:pt x="0"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4" name=""/>
          <p:cNvGrpSpPr/>
          <p:nvPr/>
        </p:nvGrpSpPr>
        <p:grpSpPr>
          <a:xfrm>
            <a:off x="152280" y="1295280"/>
            <a:ext cx="8839080" cy="2514960"/>
            <a:chOff x="152280" y="1295280"/>
            <a:chExt cx="8839080" cy="2514960"/>
          </a:xfrm>
        </p:grpSpPr>
        <p:sp>
          <p:nvSpPr>
            <p:cNvPr id="45" name=""/>
            <p:cNvSpPr/>
            <p:nvPr/>
          </p:nvSpPr>
          <p:spPr>
            <a:xfrm>
              <a:off x="152280" y="1447920"/>
              <a:ext cx="8839080" cy="23623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912960" y="129528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133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Databases:</a:t>
            </a:r>
            <a:br>
              <a:rPr sz="4400"/>
            </a:br>
            <a:r>
              <a:rPr b="0" lang="en-US" sz="4400" spc="-1" strike="noStrike">
                <a:solidFill>
                  <a:srgbClr val="ff9966"/>
                </a:solidFill>
                <a:latin typeface="Times New Roman"/>
                <a:ea typeface="Times New Roman"/>
              </a:rPr>
              <a:t>An Overview</a:t>
            </a:r>
            <a:endParaRPr b="0" lang="en-US" sz="4400" spc="-1" strike="noStrike">
              <a:solidFill>
                <a:srgbClr val="000000"/>
              </a:solidFill>
              <a:latin typeface="Arial"/>
            </a:endParaRPr>
          </a:p>
        </p:txBody>
      </p:sp>
      <p:sp>
        <p:nvSpPr>
          <p:cNvPr id="92" name=""/>
          <p:cNvSpPr txBox="1"/>
          <p:nvPr/>
        </p:nvSpPr>
        <p:spPr>
          <a:xfrm>
            <a:off x="1371600" y="419112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cc99"/>
                </a:solidFill>
                <a:latin typeface="Times New Roman"/>
                <a:ea typeface="Times New Roman"/>
              </a:rPr>
              <a:t>Frank Stajano</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ffcc99"/>
                </a:solidFill>
                <a:latin typeface="Times New Roman"/>
                <a:ea typeface="Times New Roman"/>
              </a:rPr>
              <a:t>Olivetti Research Lim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Data Management Group</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sortium of vendor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L based on IDL and C++</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QL based on SQL</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ML is C++ language binding</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ffiliated with OMG; works with CORBA</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mising, but no complete products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74640" y="324000"/>
            <a:ext cx="7772400" cy="84312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ummary</a:t>
            </a:r>
            <a:endParaRPr b="0" lang="en-US" sz="4400" spc="-1" strike="noStrike">
              <a:solidFill>
                <a:srgbClr val="000000"/>
              </a:solidFill>
              <a:latin typeface="Arial"/>
            </a:endParaRPr>
          </a:p>
        </p:txBody>
      </p:sp>
      <p:sp>
        <p:nvSpPr>
          <p:cNvPr id="178" name=""/>
          <p:cNvSpPr txBox="1"/>
          <p:nvPr/>
        </p:nvSpPr>
        <p:spPr>
          <a:xfrm>
            <a:off x="333360" y="1106640"/>
            <a:ext cx="8466120" cy="448956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General consensus on impedance mismatch</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consensus on what an ODBMS must b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dvantages of ODBMS:</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ich, flexible type system</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good interfacing to existing object environments</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better performance in specific domains</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h bg of R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urity of RDBMS (yet?)</a:t>
            </a:r>
            <a:endParaRPr b="0" lang="en-US" sz="3200" spc="-1" strike="noStrike">
              <a:solidFill>
                <a:srgbClr val="000000"/>
              </a:solidFill>
              <a:latin typeface="Arial"/>
            </a:endParaRPr>
          </a:p>
          <a:p>
            <a:pPr marL="343080" indent="-343080" algn="ctr">
              <a:lnSpc>
                <a:spcPct val="100000"/>
              </a:lnSpc>
              <a:spcBef>
                <a:spcPts val="479"/>
              </a:spcBef>
            </a:pPr>
            <a:r>
              <a:rPr b="1" i="1" lang="en-US" sz="3200" spc="-1" strike="noStrike">
                <a:solidFill>
                  <a:srgbClr val="cc3300"/>
                </a:solidFill>
                <a:latin typeface="Times New Roman"/>
                <a:ea typeface="Times New Roman"/>
              </a:rPr>
              <a:t>Field currently in wild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Bibliography</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three manifesto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O chapters of Date’s textbook (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llman’s lecture note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Manola report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MG-93 (P)</a:t>
            </a:r>
            <a:endParaRPr b="0" lang="en-US" sz="3200" spc="-1" strike="noStrike">
              <a:solidFill>
                <a:srgbClr val="000000"/>
              </a:solidFill>
              <a:latin typeface="Arial"/>
            </a:endParaRPr>
          </a:p>
          <a:p>
            <a:pPr marL="343080" indent="-343080">
              <a:lnSpc>
                <a:spcPct val="15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attell’s </a:t>
            </a:r>
            <a:r>
              <a:rPr b="0" i="1" lang="en-US" sz="3200" spc="-1" strike="noStrike">
                <a:solidFill>
                  <a:srgbClr val="ffcc99"/>
                </a:solidFill>
                <a:latin typeface="Times New Roman"/>
                <a:ea typeface="Times New Roman"/>
              </a:rPr>
              <a:t>Object Data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717480" y="160812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1</a:t>
            </a:r>
            <a:endParaRPr b="0" lang="en-US" sz="4400" spc="-1" strike="noStrike">
              <a:solidFill>
                <a:srgbClr val="000000"/>
              </a:solidFill>
              <a:latin typeface="Arial"/>
            </a:endParaRPr>
          </a:p>
        </p:txBody>
      </p:sp>
      <p:sp>
        <p:nvSpPr>
          <p:cNvPr id="95" name=""/>
          <p:cNvSpPr/>
          <p:nvPr/>
        </p:nvSpPr>
        <p:spPr>
          <a:xfrm>
            <a:off x="870120" y="17604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936800" y="201924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870120" y="24462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641520" y="18367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641520" y="1989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41520" y="25225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641520" y="26748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251000" y="191304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251000" y="221760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2394000" y="214164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798480" y="16794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06" name=""/>
          <p:cNvSpPr txBox="1"/>
          <p:nvPr/>
        </p:nvSpPr>
        <p:spPr>
          <a:xfrm>
            <a:off x="784080" y="23734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07" name=""/>
          <p:cNvSpPr txBox="1"/>
          <p:nvPr/>
        </p:nvSpPr>
        <p:spPr>
          <a:xfrm>
            <a:off x="1889280" y="198612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08" name=""/>
          <p:cNvSpPr txBox="1"/>
          <p:nvPr/>
        </p:nvSpPr>
        <p:spPr>
          <a:xfrm>
            <a:off x="2171520" y="252252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09" name=""/>
          <p:cNvSpPr txBox="1"/>
          <p:nvPr/>
        </p:nvSpPr>
        <p:spPr>
          <a:xfrm>
            <a:off x="384120" y="3278160"/>
            <a:ext cx="3809880" cy="28717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flattening and scattering: unnatura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traversal: expensiv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ops on composite parts: awkward</a:t>
            </a:r>
            <a:endParaRPr b="0" lang="en-US" sz="2800" spc="-1" strike="noStrike">
              <a:solidFill>
                <a:srgbClr val="000000"/>
              </a:solidFill>
              <a:latin typeface="Arial"/>
            </a:endParaRPr>
          </a:p>
        </p:txBody>
      </p:sp>
      <p:grpSp>
        <p:nvGrpSpPr>
          <p:cNvPr id="110" name=""/>
          <p:cNvGrpSpPr/>
          <p:nvPr/>
        </p:nvGrpSpPr>
        <p:grpSpPr>
          <a:xfrm>
            <a:off x="3386160" y="1701720"/>
            <a:ext cx="4299120" cy="1013040"/>
            <a:chOff x="3386160" y="1701720"/>
            <a:chExt cx="4299120" cy="1013040"/>
          </a:xfrm>
        </p:grpSpPr>
        <p:sp>
          <p:nvSpPr>
            <p:cNvPr id="111" name=""/>
            <p:cNvSpPr/>
            <p:nvPr/>
          </p:nvSpPr>
          <p:spPr>
            <a:xfrm>
              <a:off x="3476520" y="1701720"/>
              <a:ext cx="4179960" cy="988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3386160" y="1708200"/>
              <a:ext cx="4299120" cy="10065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r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p:txBody>
        </p:sp>
      </p:grpSp>
      <p:grpSp>
        <p:nvGrpSpPr>
          <p:cNvPr id="113" name=""/>
          <p:cNvGrpSpPr/>
          <p:nvPr/>
        </p:nvGrpSpPr>
        <p:grpSpPr>
          <a:xfrm>
            <a:off x="5742000" y="2500200"/>
            <a:ext cx="3163680" cy="1630440"/>
            <a:chOff x="5742000" y="2500200"/>
            <a:chExt cx="3163680" cy="1630440"/>
          </a:xfrm>
        </p:grpSpPr>
        <p:sp>
          <p:nvSpPr>
            <p:cNvPr id="114" name=""/>
            <p:cNvSpPr/>
            <p:nvPr/>
          </p:nvSpPr>
          <p:spPr>
            <a:xfrm>
              <a:off x="5773680" y="2500200"/>
              <a:ext cx="3132000" cy="16304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742000" y="2506680"/>
              <a:ext cx="3156120" cy="16160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Pin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O</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0</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O</a:t>
              </a:r>
              <a:endParaRPr b="0" lang="en-US" sz="1000" spc="-1" strike="noStrike">
                <a:solidFill>
                  <a:srgbClr val="000000"/>
                </a:solidFill>
                <a:latin typeface="Arial"/>
              </a:endParaRPr>
            </a:p>
          </p:txBody>
        </p:sp>
      </p:grpSp>
      <p:grpSp>
        <p:nvGrpSpPr>
          <p:cNvPr id="116" name=""/>
          <p:cNvGrpSpPr/>
          <p:nvPr/>
        </p:nvGrpSpPr>
        <p:grpSpPr>
          <a:xfrm>
            <a:off x="3720960" y="2816280"/>
            <a:ext cx="2889360" cy="701640"/>
            <a:chOff x="3720960" y="2816280"/>
            <a:chExt cx="2889360" cy="701640"/>
          </a:xfrm>
        </p:grpSpPr>
        <p:sp>
          <p:nvSpPr>
            <p:cNvPr id="117" name=""/>
            <p:cNvSpPr/>
            <p:nvPr/>
          </p:nvSpPr>
          <p:spPr>
            <a:xfrm>
              <a:off x="3811680" y="2844720"/>
              <a:ext cx="2798640" cy="6206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3720960" y="2816280"/>
              <a:ext cx="2851200" cy="7016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grpSp>
        <p:nvGrpSpPr>
          <p:cNvPr id="119" name=""/>
          <p:cNvGrpSpPr/>
          <p:nvPr/>
        </p:nvGrpSpPr>
        <p:grpSpPr>
          <a:xfrm>
            <a:off x="3909960" y="4221000"/>
            <a:ext cx="4984920" cy="1553040"/>
            <a:chOff x="3909960" y="4221000"/>
            <a:chExt cx="4984920" cy="1553040"/>
          </a:xfrm>
        </p:grpSpPr>
        <p:sp>
          <p:nvSpPr>
            <p:cNvPr id="120" name=""/>
            <p:cNvSpPr/>
            <p:nvPr/>
          </p:nvSpPr>
          <p:spPr>
            <a:xfrm>
              <a:off x="3963960" y="4237200"/>
              <a:ext cx="4870440" cy="15368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3909960" y="4221000"/>
              <a:ext cx="4984920" cy="14637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Wir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4</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5</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6</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7</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35600" y="2119320"/>
            <a:ext cx="4573440" cy="17035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2</a:t>
            </a:r>
            <a:endParaRPr b="0" lang="en-US" sz="4400" spc="-1" strike="noStrike">
              <a:solidFill>
                <a:srgbClr val="000000"/>
              </a:solidFill>
              <a:latin typeface="Arial"/>
            </a:endParaRPr>
          </a:p>
        </p:txBody>
      </p:sp>
      <p:sp>
        <p:nvSpPr>
          <p:cNvPr id="124" name=""/>
          <p:cNvSpPr txBox="1"/>
          <p:nvPr/>
        </p:nvSpPr>
        <p:spPr>
          <a:xfrm>
            <a:off x="338040" y="3125880"/>
            <a:ext cx="3809880" cy="29383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internal structure inaccessibl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no type checking on BLOB</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app must generate relocatable byte string</a:t>
            </a:r>
            <a:endParaRPr b="0" lang="en-US" sz="2800" spc="-1" strike="noStrike">
              <a:solidFill>
                <a:srgbClr val="000000"/>
              </a:solidFill>
              <a:latin typeface="Arial"/>
            </a:endParaRPr>
          </a:p>
        </p:txBody>
      </p:sp>
      <p:sp>
        <p:nvSpPr>
          <p:cNvPr id="125" name=""/>
          <p:cNvSpPr/>
          <p:nvPr/>
        </p:nvSpPr>
        <p:spPr>
          <a:xfrm>
            <a:off x="714240" y="164160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66880" y="17938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933560" y="205272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66880" y="24796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638280" y="18702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38280" y="20224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638280" y="2556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638280" y="27082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247760" y="194616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247760" y="225108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2390760" y="217476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795240" y="17128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37" name=""/>
          <p:cNvSpPr txBox="1"/>
          <p:nvPr/>
        </p:nvSpPr>
        <p:spPr>
          <a:xfrm>
            <a:off x="781200" y="24066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38" name=""/>
          <p:cNvSpPr txBox="1"/>
          <p:nvPr/>
        </p:nvSpPr>
        <p:spPr>
          <a:xfrm>
            <a:off x="1886040" y="2019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39" name=""/>
          <p:cNvSpPr txBox="1"/>
          <p:nvPr/>
        </p:nvSpPr>
        <p:spPr>
          <a:xfrm>
            <a:off x="2168640" y="255600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40" name=""/>
          <p:cNvSpPr txBox="1"/>
          <p:nvPr/>
        </p:nvSpPr>
        <p:spPr>
          <a:xfrm>
            <a:off x="3990960" y="2125800"/>
            <a:ext cx="4299120" cy="131112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Layou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nvGrpSpPr>
          <p:cNvPr id="141" name=""/>
          <p:cNvGrpSpPr/>
          <p:nvPr/>
        </p:nvGrpSpPr>
        <p:grpSpPr>
          <a:xfrm>
            <a:off x="7594560" y="2471760"/>
            <a:ext cx="847800" cy="304920"/>
            <a:chOff x="7594560" y="2471760"/>
            <a:chExt cx="847800" cy="304920"/>
          </a:xfrm>
        </p:grpSpPr>
        <p:sp>
          <p:nvSpPr>
            <p:cNvPr id="142" name=""/>
            <p:cNvSpPr/>
            <p:nvPr/>
          </p:nvSpPr>
          <p:spPr>
            <a:xfrm>
              <a:off x="7823160" y="247176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7594560" y="25480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7594560" y="270036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8213760" y="26161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 name=""/>
          <p:cNvGrpSpPr/>
          <p:nvPr/>
        </p:nvGrpSpPr>
        <p:grpSpPr>
          <a:xfrm>
            <a:off x="7591320" y="3130560"/>
            <a:ext cx="814320" cy="496800"/>
            <a:chOff x="7591320" y="3130560"/>
            <a:chExt cx="814320" cy="496800"/>
          </a:xfrm>
        </p:grpSpPr>
        <p:sp>
          <p:nvSpPr>
            <p:cNvPr id="147" name=""/>
            <p:cNvSpPr/>
            <p:nvPr/>
          </p:nvSpPr>
          <p:spPr>
            <a:xfrm>
              <a:off x="7620120" y="3130560"/>
              <a:ext cx="727200" cy="49680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678800" y="318924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8085240" y="3289320"/>
              <a:ext cx="174600" cy="14436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78800" y="345276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7591320" y="32180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7591320" y="327672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591320" y="348156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7591320" y="35402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824960" y="3246480"/>
              <a:ext cx="260640" cy="59040"/>
            </a:xfrm>
            <a:custGeom>
              <a:avLst/>
              <a:gdLst/>
              <a:ahLst/>
              <a:rect l="0" t="0" r="r" b="b"/>
              <a:pathLst>
                <a:path fill="none" w="724" h="164">
                  <a:moveTo>
                    <a:pt x="724" y="164"/>
                  </a:moveTo>
                  <a:lnTo>
                    <a:pt x="483" y="164"/>
                  </a:lnTo>
                  <a:lnTo>
                    <a:pt x="483" y="0"/>
                  </a:lnTo>
                  <a:lnTo>
                    <a:pt x="0" y="0"/>
                  </a:lnTo>
                </a:path>
              </a:pathLst>
            </a:custGeom>
            <a:ln w="12600">
              <a:solidFill>
                <a:srgbClr val="ffcc99"/>
              </a:solidFill>
              <a:round/>
            </a:ln>
          </p:spPr>
          <p:txBody>
            <a:bodyPr lIns="96120" rIns="96120" tIns="7920" bIns="7920" anchor="t">
              <a:noAutofit/>
            </a:bodyPr>
            <a:p>
              <a:endParaRPr b="0" lang="en-US" sz="1800" spc="-1" strike="noStrike">
                <a:solidFill>
                  <a:srgbClr val="000000"/>
                </a:solidFill>
                <a:latin typeface="Arial"/>
              </a:endParaRPr>
            </a:p>
          </p:txBody>
        </p:sp>
        <p:sp>
          <p:nvSpPr>
            <p:cNvPr id="156" name=""/>
            <p:cNvSpPr/>
            <p:nvPr/>
          </p:nvSpPr>
          <p:spPr>
            <a:xfrm>
              <a:off x="7824960" y="3363840"/>
              <a:ext cx="260640" cy="147960"/>
            </a:xfrm>
            <a:custGeom>
              <a:avLst/>
              <a:gdLst/>
              <a:ahLst/>
              <a:rect l="0" t="0" r="r" b="b"/>
              <a:pathLst>
                <a:path fill="none" w="724" h="411">
                  <a:moveTo>
                    <a:pt x="724" y="0"/>
                  </a:moveTo>
                  <a:lnTo>
                    <a:pt x="483" y="0"/>
                  </a:lnTo>
                  <a:lnTo>
                    <a:pt x="483" y="411"/>
                  </a:lnTo>
                  <a:lnTo>
                    <a:pt x="0" y="411"/>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8259840" y="3333600"/>
              <a:ext cx="1458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The “impedance mismatch”</a:t>
            </a:r>
            <a:endParaRPr b="0" lang="en-US" sz="4400" spc="-1" strike="noStrike">
              <a:solidFill>
                <a:srgbClr val="000000"/>
              </a:solidFill>
              <a:latin typeface="Arial"/>
            </a:endParaRPr>
          </a:p>
        </p:txBody>
      </p:sp>
      <p:sp>
        <p:nvSpPr>
          <p:cNvPr id="159" name=""/>
          <p:cNvSpPr txBox="1"/>
          <p:nvPr/>
        </p:nvSpPr>
        <p:spPr>
          <a:xfrm>
            <a:off x="685800" y="1614600"/>
            <a:ext cx="7772400" cy="448164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between application and 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creates complex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wants to access them in specific way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worse if app itself is OO</a:t>
            </a:r>
            <a:endParaRPr b="0" lang="en-US" sz="3200" spc="-1" strike="noStrike">
              <a:solidFill>
                <a:srgbClr val="000000"/>
              </a:solidFill>
              <a:latin typeface="Arial"/>
            </a:endParaRPr>
          </a:p>
          <a:p>
            <a:pPr marL="343080" indent="-343080">
              <a:lnSpc>
                <a:spcPct val="180000"/>
              </a:lnSpc>
              <a:spcBef>
                <a:spcPts val="479"/>
              </a:spcBef>
            </a:pPr>
            <a:r>
              <a:rPr b="0" i="1" lang="en-US" sz="3200" spc="-1" strike="noStrike">
                <a:solidFill>
                  <a:srgbClr val="ffcc99"/>
                </a:solidFill>
                <a:latin typeface="Times New Roman"/>
                <a:ea typeface="Times New Roman"/>
              </a:rPr>
              <a:t>To solve thi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ring app and db type systems closer</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Integrate programming language and d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features</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ser-defined data typ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ested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tainers: sets, lists, bag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ethods (precursor: stored proc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ul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eserve strong typing across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trengths</a:t>
            </a:r>
            <a:endParaRPr b="0" lang="en-US" sz="4400" spc="-1" strike="noStrike">
              <a:solidFill>
                <a:srgbClr val="000000"/>
              </a:solidFill>
              <a:latin typeface="Arial"/>
            </a:endParaRPr>
          </a:p>
        </p:txBody>
      </p:sp>
      <p:sp>
        <p:nvSpPr>
          <p:cNvPr id="163" name=""/>
          <p:cNvSpPr txBox="1"/>
          <p:nvPr/>
        </p:nvSpPr>
        <p:spPr>
          <a:xfrm>
            <a:off x="463680" y="1981080"/>
            <a:ext cx="799452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ich type system</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at modelling complex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performance on certain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impedance misma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eaknesses</a:t>
            </a:r>
            <a:endParaRPr b="0" lang="en-US" sz="4400" spc="-1" strike="noStrike">
              <a:solidFill>
                <a:srgbClr val="000000"/>
              </a:solidFill>
              <a:latin typeface="Arial"/>
            </a:endParaRPr>
          </a:p>
        </p:txBody>
      </p:sp>
      <p:sp>
        <p:nvSpPr>
          <p:cNvPr id="165" name=""/>
          <p:cNvSpPr txBox="1"/>
          <p:nvPr/>
        </p:nvSpPr>
        <p:spPr>
          <a:xfrm>
            <a:off x="547560" y="1981080"/>
            <a:ext cx="791064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cedural navigation</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querying breaks encapsulation (or is limited)</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what about closur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mathematical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 is an OODBMS anyway?</a:t>
            </a:r>
            <a:endParaRPr b="0" lang="en-US" sz="4400" spc="-1" strike="noStrike">
              <a:solidFill>
                <a:srgbClr val="000000"/>
              </a:solidFill>
              <a:latin typeface="Arial"/>
            </a:endParaRPr>
          </a:p>
        </p:txBody>
      </p:sp>
      <p:sp>
        <p:nvSpPr>
          <p:cNvPr id="167" name=""/>
          <p:cNvSpPr txBox="1"/>
          <p:nvPr/>
        </p:nvSpPr>
        <p:spPr>
          <a:xfrm>
            <a:off x="76212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i="1" lang="en-US" sz="3200" spc="-1" strike="noStrike">
                <a:solidFill>
                  <a:srgbClr val="ffcc99"/>
                </a:solidFill>
                <a:latin typeface="Times New Roman"/>
                <a:ea typeface="Times New Roman"/>
              </a:rPr>
              <a:t>Different things to different peopl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89: The OO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elational is old and inadequat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0: Third Generation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dd classes and inheritance, but keep declarative queries and SQ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5: The Third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gain! Extend relational, but dump SQ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Different approaches to ODBMS</a:t>
            </a:r>
            <a:endParaRPr b="0" lang="en-US" sz="4400" spc="-1" strike="noStrike">
              <a:solidFill>
                <a:srgbClr val="000000"/>
              </a:solidFill>
              <a:latin typeface="Arial"/>
            </a:endParaRPr>
          </a:p>
        </p:txBody>
      </p:sp>
      <p:sp>
        <p:nvSpPr>
          <p:cNvPr id="169" name=""/>
          <p:cNvSpPr txBox="1"/>
          <p:nvPr/>
        </p:nvSpPr>
        <p:spPr>
          <a:xfrm>
            <a:off x="465120" y="2781360"/>
            <a:ext cx="2722680" cy="94608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 programming</a:t>
            </a:r>
            <a:endParaRPr b="0" lang="en-US" sz="2800" spc="-1" strike="noStrike">
              <a:solidFill>
                <a:srgbClr val="000000"/>
              </a:solidFill>
              <a:latin typeface="Arial"/>
            </a:endParaRPr>
          </a:p>
          <a:p>
            <a:pPr>
              <a:lnSpc>
                <a:spcPct val="100000"/>
              </a:lnSpc>
            </a:pPr>
            <a:r>
              <a:rPr b="0" lang="en-US" sz="2800" spc="-1" strike="noStrike">
                <a:solidFill>
                  <a:srgbClr val="ffcc99"/>
                </a:solidFill>
                <a:latin typeface="Times New Roman"/>
                <a:ea typeface="Times New Roman"/>
              </a:rPr>
              <a:t>environment</a:t>
            </a:r>
            <a:endParaRPr b="0" lang="en-US" sz="2800" spc="-1" strike="noStrike">
              <a:solidFill>
                <a:srgbClr val="000000"/>
              </a:solidFill>
              <a:latin typeface="Arial"/>
            </a:endParaRPr>
          </a:p>
        </p:txBody>
      </p:sp>
      <p:sp>
        <p:nvSpPr>
          <p:cNvPr id="170" name=""/>
          <p:cNvSpPr txBox="1"/>
          <p:nvPr/>
        </p:nvSpPr>
        <p:spPr>
          <a:xfrm>
            <a:off x="7335720" y="3137040"/>
            <a:ext cx="142884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RDBMS</a:t>
            </a:r>
            <a:endParaRPr b="0" lang="en-US" sz="2800" spc="-1" strike="noStrike">
              <a:solidFill>
                <a:srgbClr val="000000"/>
              </a:solidFill>
              <a:latin typeface="Arial"/>
            </a:endParaRPr>
          </a:p>
        </p:txBody>
      </p:sp>
      <p:sp>
        <p:nvSpPr>
          <p:cNvPr id="171" name=""/>
          <p:cNvSpPr/>
          <p:nvPr/>
        </p:nvSpPr>
        <p:spPr>
          <a:xfrm>
            <a:off x="533520" y="3962520"/>
            <a:ext cx="3657600" cy="0"/>
          </a:xfrm>
          <a:prstGeom prst="line">
            <a:avLst/>
          </a:prstGeom>
          <a:ln w="38160">
            <a:solidFill>
              <a:srgbClr val="ff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txBox="1"/>
          <p:nvPr/>
        </p:nvSpPr>
        <p:spPr>
          <a:xfrm>
            <a:off x="2724120" y="4089240"/>
            <a:ext cx="170496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DBMS</a:t>
            </a:r>
            <a:endParaRPr b="0" lang="en-US" sz="2800" spc="-1" strike="noStrike">
              <a:solidFill>
                <a:srgbClr val="000000"/>
              </a:solidFill>
              <a:latin typeface="Arial"/>
            </a:endParaRPr>
          </a:p>
        </p:txBody>
      </p:sp>
      <p:sp>
        <p:nvSpPr>
          <p:cNvPr id="173" name=""/>
          <p:cNvSpPr txBox="1"/>
          <p:nvPr/>
        </p:nvSpPr>
        <p:spPr>
          <a:xfrm>
            <a:off x="5095800" y="4070520"/>
            <a:ext cx="168588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RDMBS</a:t>
            </a:r>
            <a:endParaRPr b="0" lang="en-US" sz="2800" spc="-1" strike="noStrike">
              <a:solidFill>
                <a:srgbClr val="000000"/>
              </a:solidFill>
              <a:latin typeface="Arial"/>
            </a:endParaRPr>
          </a:p>
        </p:txBody>
      </p:sp>
      <p:sp>
        <p:nvSpPr>
          <p:cNvPr id="174" name=""/>
          <p:cNvSpPr/>
          <p:nvPr/>
        </p:nvSpPr>
        <p:spPr>
          <a:xfrm>
            <a:off x="5029200" y="3962520"/>
            <a:ext cx="3657600" cy="0"/>
          </a:xfrm>
          <a:prstGeom prst="line">
            <a:avLst/>
          </a:prstGeom>
          <a:ln w="38160">
            <a:solidFill>
              <a:srgbClr val="ff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Object Oriented Databases: An Overview</dc:title>
</cp:coreProperties>
</file>