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1FA6-8D34-45A6-85F3-191558EF311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m Eijiro Sumii from Tohok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m going to talk about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 _very_ simple _and_ efficient compile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a small but non-trivial functional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was developed in year 2001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en I took over the compiler lab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class, MinCaml is used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are given high-level descriptions of MinCam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Japanese prose and mathematical pseudo-cod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ll give examples of the pseudo-code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iven these descriptions, each _group_ is required to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mplement the compiler for their own CP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addition, every _student_ is required to solve small exercise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hand compilation of tiny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use of MinCaml in Tokyo has been successfu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sense that students liked 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 of them implemented polymorphism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means of code duplication like MLt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arbage collection, inter-procedural register alloca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 on _even though_ I didn’t tell them to do so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thers started a portal site in Japanese for OCam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ranslated its manuals, again without being t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has also been used by outsi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body anonymous published a nice commentary about MinCaml on the Web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mplementing my own tutorial, but I _really_ don’t know the auth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lso, according to their blogs, some Ruby hacker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eld a seminar to read the source code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Prof. Asai, sitting there, is using MinCaml for some research and education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Ochanomiz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, that’s enough pedagogy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move on to technical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iler for the class had to be as simple as possib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students are undergraduat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same time, it had to be effici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least for one application: ray tra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iven these requirements, I designed the source language of our compiler clas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rst of all, it is a functional languag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eaning no destructive update of variabl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it is _definitely_ not C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other words, it is a kind of static single assignment form in the first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higher-order, call-by-value, impure for I/O and destructive update of _arrays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the efficiency of floating-point number computations in ray trac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implicitly typed but monomorph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language is named MinCaml, because its syntax is a minimal subset of Objective 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the syntax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constants, primitives for arithmetic, conditional branch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ariable definitions, reading from variables, recursive function definition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function applications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don’t support partial function applica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ough it is easy to implement by a type-based trans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also have tuple creations, reading from tupl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rray creations, reading from arrays, writing to array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un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reading from tuples is a pattern matching form instead of a projection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o avoid the flex record problem in type inference like Standard 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syntax is literally implemented as an ML data type Syntax.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is _intended_ to be a minimal functional languag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_everything_ else is o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example, we _don’t_ have array boundary check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ough this one is easy to implement; we don’t hav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arbage collection; we don’t have data types or pattern match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olymorphism, exceptions, or objects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mplementation of these features is optional homework: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past, some students did implement a few of them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complained that the lab is too easy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rom this year, it becomes compulsory to implement at least tw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verall structure of the MinCaml compiler look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a sequence of transformations from the source language to SPARC assemb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se numbers are the code lines of each module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lexing, parsing, type inference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 am not going to lecture a full compiler cours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let’s have a short look at each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compiler is as simple as only 2000 lines of O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yet, it is almost as efficient as OCamlOpt and even G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several applications such as ray tracing and Huffman enco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f course, OCamlOpt compiles OCaml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CC compiles C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compiles a small functional languag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are comparing _different_ implementations of the same application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ritten in the optimal style of each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has been used in an undergraduate cours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CS major in the University of Tokyo since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the way, I myself am no longer in Tokyo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I moved to Pennsylvania and then to Tohoku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MinCaml is still used in Tokyo by my success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exing and parsing are totally standar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are just given by the instructor in OCamlLex and OCamlYacc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algorithms for lexing and parsing are already covered in the previous compiler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lternatively, we could use simpler algorithms like packrat pars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we haven’t yet implement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monomorpihc type inference is also very standard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using ML references for unification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also easy because students have already implemented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even polymorphic type inference in a previous lab on programming langu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nly non-standard point is that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types of free variables are automatically inferred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 external functions or array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don’t have to declare their types by hand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principal typing is possible because our types are monomorph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ith ML-polymorphism, this is known to be im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utline of this talk i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rst, I talk about the pedagogical backgroud of MinCaml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the computer science major curriculum in Toky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we look at a little details of MinCaml itself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experiments to see the efficiency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okyo, _all_ undergraduate students first study liberal arts for 1.5 year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English, a second foreign language, mathematic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ic (including topics like Goedel’s incompleteness theorem)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hysics, chemistry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ticular, all of them take a computer literacy cours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this is almost equivalent to how to use UNIX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everybody knows how to use Windows already)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me study introductory computer science, Java programm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data structures such as lists and tr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about 30 of them choose the computer science majo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ake standard CS courses such as algorithms, operating systems, and archit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ticular, they learn programming languages inclu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PARC assembly, ..., and Prol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se imperative languages are mainly used in operating system and architecture class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ile these more declarative languages are mainly used in programming language cla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programming language class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first learn basic programming in Scheme, OCaml, and Prolo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they study how these languages work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implementing min-interpre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also write realistic application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Othello or Reversi program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mpeting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allel, they take classes on compilers and programming language theori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parsing, register allocation, garbage collec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ambda-calculus and type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addition, we have very interesting laboratory work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alled CPU lab and compiler la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group work; each group consists of 5 to 6 stud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design and implement an original CPU using a programmable L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ypically, their CPUs are about 2 or 3 times slowe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an real CPUs such as UltraSPAR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they develop a compiler for the original CPU;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where MinCaml is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end of the semester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compete by the speed of ray tracing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ritten in MinCaml and run on their CP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ust for fun, this is how the hardware look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the programmable LSI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 RAMs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 USB port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me LEDs here for debugg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may also add some hardware onto this extension 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an example of a scene rendered by the ray tra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“tron” car is made of intersections and differences of ellipso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surface of this ball is a mirr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his wall is a mirror,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ere is another example, made by a friend of min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en we took a previous version of this class 9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 you can see, this scene is full of reflection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akes a lot of time to re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f course, MinCaml didn’t exist at that tim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ported GCC to our CPU, which was a p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F693-6B80-4CD1-8240-BC8FBF678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51FB-0F35-4133-90C8-A192BE10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C219-E205-418A-8C55-0A5F57AE9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7A8A-EE61-459D-8409-1A585C197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EB88-CE73-4402-A266-9B2560CC1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34A4-BE9D-4517-B6B2-114F6B07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A32F-08C7-4243-8E57-4454DE45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319B-7E05-4DD6-B853-23459011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24AF-B5C5-4BD6-A4CE-463A6F24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040" y="19800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EAD9-32F6-42D6-B37B-43936BA2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5FA5F-E74D-4415-B646-1765EB29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BD2D-37E6-4DA8-9D39-A494C34F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9899-7A9F-40A9-AC0D-C0B49F83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2245-48B2-402F-886E-7ACEF62F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1549-4794-447F-9A07-CA4F7970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4AEB-CE18-45D7-8049-A6330F7E8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771B-BC8A-4950-8D04-2F7F8656B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951F-C3E0-4FED-A569-0D16B2EA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3AF7-835A-4B7E-8859-A31FC1FF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FDD1-0DCD-4628-A23E-B00AA33C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19800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43E0-0C73-4248-ACA8-56D93A59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BEE1-CBF9-4694-B695-6679F250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30EA-95A7-4432-938A-605033C6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5906-60EE-49E4-BC94-A76E5CA2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F4C7-A6BE-48DE-9800-A9008115CEC3}" type="slidenum"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240" y="1380960"/>
            <a:ext cx="8686800" cy="319320"/>
            <a:chOff x="228240" y="1380960"/>
            <a:chExt cx="8686800" cy="319320"/>
          </a:xfrm>
        </p:grpSpPr>
        <p:sp>
          <p:nvSpPr>
            <p:cNvPr id="7" name=""/>
            <p:cNvSpPr/>
            <p:nvPr/>
          </p:nvSpPr>
          <p:spPr>
            <a:xfrm>
              <a:off x="676080" y="138096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27880" y="138096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3A9C-2108-4C24-A78B-F3418F3E0760}" type="slidenum"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9716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eb"/>
              </a:buClr>
              <a:buSzPct val="80000"/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MinCaml:</a:t>
            </a:r>
            <a:br>
              <a:rPr sz="3600"/>
            </a:b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A Simple and Efficient Compiler</a:t>
            </a:r>
            <a:br>
              <a:rPr sz="3600"/>
            </a:b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for a Minimal Functional Language </a:t>
            </a:r>
            <a:endParaRPr b="1" lang="en-US" sz="36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ijiro Sumii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hoku Universit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7000" y="5373720"/>
            <a:ext cx="30510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How is MinCaml Used?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udents are given high-level descriptions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in Japanese and pseudo-cod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ffcc00"/>
                </a:solidFill>
                <a:uFillTx/>
                <a:latin typeface="Comic Sans MS"/>
              </a:rPr>
              <a:t>Each grou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s required to implement the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Every studen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s required to solve small exercis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uch as hand compila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come (1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udents liked ML!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emented polymorphism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like MLton), garbage collection,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ter-procedural register allocation, etc.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without being tol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arted a portal site (www.ocaml.jp) with Japanese translations of the OCaml manual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without being tol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come (2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Outsiders" are also using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omebody anonymous wrote a comprehensive commentary on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uby hackers organized an independent seminar to study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rof. Asai is using MinCaml in Ochanomizu Universit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Goal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s simple as possibl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bu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ble to </a:t>
            </a:r>
            <a:r>
              <a:rPr b="0" lang="en-US" sz="3200" spc="-1" strike="noStrike" u="sng">
                <a:solidFill>
                  <a:srgbClr val="ffffeb"/>
                </a:solidFill>
                <a:uFillTx/>
                <a:latin typeface="Comic Sans MS"/>
              </a:rPr>
              <a:t>efficiently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 execute</a:t>
            </a:r>
            <a:br>
              <a:rPr sz="3200"/>
            </a:br>
            <a:r>
              <a:rPr b="0" lang="en-US" sz="3200" spc="-1" strike="noStrike" u="sng">
                <a:solidFill>
                  <a:srgbClr val="ffffeb"/>
                </a:solidFill>
                <a:uFillTx/>
                <a:latin typeface="Comic Sans MS"/>
              </a:rPr>
              <a:t>non-trivial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 applications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(such as ray tracing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Languag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unctional: no destructive update of </a:t>
            </a:r>
            <a:r>
              <a:rPr b="0" lang="ja-JP" sz="3200" spc="-1" strike="noStrike" u="sng">
                <a:solidFill>
                  <a:srgbClr val="ffcc00"/>
                </a:solidFill>
                <a:uFillTx/>
                <a:latin typeface="Comic Sans MS"/>
              </a:rPr>
              <a:t>variables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(cf. SSA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Higher-order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all-by-valu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ur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Input/output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Destructive update of </a:t>
            </a:r>
            <a:r>
              <a:rPr b="0" lang="ja-JP" sz="2800" spc="-1" strike="noStrike" u="sng">
                <a:solidFill>
                  <a:srgbClr val="ffffeb"/>
                </a:solidFill>
                <a:uFillTx/>
                <a:latin typeface="Comic Sans MS"/>
              </a:rPr>
              <a:t>array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icitly type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onomorphi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(1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6462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 (expressions)  ::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M then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 in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       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no partial application)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cont.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(2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 (expressions)  ::=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= M in N       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cf.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#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i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rray.create M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.(N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.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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iterally implemented as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L data type Syntax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verything else is omitted!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rray boundary checking (easy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Garbage collec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Data types and pattern match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Polymorphis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Excep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Objects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spcBef>
                <a:spcPts val="799"/>
              </a:spcBef>
              <a:buNone/>
              <a:tabLst>
                <a:tab algn="l" pos="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Optional homework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2 compulsory from this yea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2050920" y="5516640"/>
            <a:ext cx="6121440" cy="10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37" idx="3"/>
            <a:endCxn id="136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49" name=""/>
          <p:cNvCxnSpPr>
            <a:stCxn id="136" idx="3"/>
            <a:endCxn id="139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0" name=""/>
          <p:cNvCxnSpPr>
            <a:stCxn id="139" idx="3"/>
            <a:endCxn id="138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1" name=""/>
          <p:cNvCxnSpPr>
            <a:stCxn id="143" idx="2"/>
            <a:endCxn id="142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2" name=""/>
          <p:cNvCxnSpPr>
            <a:stCxn id="147" idx="3"/>
            <a:endCxn id="137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3" name=""/>
          <p:cNvCxnSpPr>
            <a:stCxn id="138" idx="2"/>
            <a:endCxn id="154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5" name=""/>
          <p:cNvCxnSpPr>
            <a:stCxn id="141" idx="1"/>
            <a:endCxn id="140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6" name=""/>
          <p:cNvCxnSpPr>
            <a:stCxn id="140" idx="1"/>
            <a:endCxn id="143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7" name=""/>
          <p:cNvCxnSpPr>
            <a:stCxn id="142" idx="3"/>
            <a:endCxn id="145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8" name=""/>
          <p:cNvCxnSpPr>
            <a:stCxn id="145" idx="3"/>
            <a:endCxn id="144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9" name=""/>
          <p:cNvCxnSpPr>
            <a:stCxn id="144" idx="3"/>
            <a:endCxn id="160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61" name=""/>
          <p:cNvCxnSpPr>
            <a:stCxn id="143" idx="0"/>
            <a:endCxn id="154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62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54" idx="1"/>
            <a:endCxn id="174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76" name=""/>
          <p:cNvCxnSpPr>
            <a:stCxn id="174" idx="1"/>
            <a:endCxn id="141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77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60" idx="3"/>
            <a:endCxn id="146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80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Highlight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Simpl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and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efficien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compiler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for a minimal functional languag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Only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2000 line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of O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 comparable to OCamlOpt and GCC for several applica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Ray tracing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 Huffman encoding, etc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Used for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undergraduate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n Tokyo since 2001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Lexing and Parsing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Written in OCamlLex and OCamlYac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Given by the instructer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Algorithms are out of scop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Cf. packrat parsing [Ford 2002]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Type Inferenc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Based on standard unification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using ML referenc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94360" indent="-2286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Let-polymorphic version is</a:t>
            </a:r>
            <a:br>
              <a:rPr sz="2800"/>
            </a:b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lready taught in PL lab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Free variables are treated as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external functions (or arrays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94360" indent="-2286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"Principal typing" [Jim 96] is</a:t>
            </a:r>
            <a:br>
              <a:rPr sz="2800"/>
            </a:b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utomatically inferred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87" idx="3"/>
            <a:endCxn id="186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99" name=""/>
          <p:cNvCxnSpPr>
            <a:stCxn id="186" idx="3"/>
            <a:endCxn id="189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0" name=""/>
          <p:cNvCxnSpPr>
            <a:stCxn id="189" idx="3"/>
            <a:endCxn id="188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1" name=""/>
          <p:cNvCxnSpPr>
            <a:stCxn id="193" idx="2"/>
            <a:endCxn id="192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2" name=""/>
          <p:cNvCxnSpPr>
            <a:stCxn id="197" idx="3"/>
            <a:endCxn id="187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3" name=""/>
          <p:cNvCxnSpPr>
            <a:stCxn id="188" idx="2"/>
            <a:endCxn id="204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5" name=""/>
          <p:cNvCxnSpPr>
            <a:stCxn id="191" idx="1"/>
            <a:endCxn id="190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6" name=""/>
          <p:cNvCxnSpPr>
            <a:stCxn id="190" idx="1"/>
            <a:endCxn id="193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7" name=""/>
          <p:cNvCxnSpPr>
            <a:stCxn id="192" idx="3"/>
            <a:endCxn id="195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8" name=""/>
          <p:cNvCxnSpPr>
            <a:stCxn id="195" idx="3"/>
            <a:endCxn id="194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9" name=""/>
          <p:cNvCxnSpPr>
            <a:stCxn id="194" idx="3"/>
            <a:endCxn id="210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11" name=""/>
          <p:cNvCxnSpPr>
            <a:stCxn id="193" idx="0"/>
            <a:endCxn id="204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12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04" idx="1"/>
            <a:endCxn id="224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26" name=""/>
          <p:cNvCxnSpPr>
            <a:stCxn id="224" idx="1"/>
            <a:endCxn id="191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27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10" idx="3"/>
            <a:endCxn id="196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30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K-Normaliz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 + b + c * 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tmp1 = a + b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tmp2 = c * d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tmp1 + tmp2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Nesting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i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allowed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(let y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implifies the normalization and inlin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Cf. A-normalization by CP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3059280" y="1773360"/>
            <a:ext cx="3673440" cy="2735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of K-Normal Form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::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x the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 in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emented as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lgorithm of K-Normalization: Pseudo-Code Given to Student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 : Syntax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op(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... 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if op(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 then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... 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then K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else K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let x = M in N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K(M) in K(N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-Conversion (Anothe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of Pseudo-Code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: KNormal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d.t Map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, ...,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if x then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) then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let x = M in N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x' fresh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' =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M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[x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'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 algn="r"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53" name=""/>
          <p:cNvCxnSpPr>
            <a:stCxn id="242" idx="3"/>
            <a:endCxn id="241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4" name=""/>
          <p:cNvCxnSpPr>
            <a:stCxn id="241" idx="3"/>
            <a:endCxn id="244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5" name=""/>
          <p:cNvCxnSpPr>
            <a:stCxn id="244" idx="3"/>
            <a:endCxn id="243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6" name=""/>
          <p:cNvCxnSpPr>
            <a:stCxn id="248" idx="2"/>
            <a:endCxn id="247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7" name=""/>
          <p:cNvCxnSpPr>
            <a:stCxn id="252" idx="3"/>
            <a:endCxn id="242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8" name=""/>
          <p:cNvCxnSpPr>
            <a:stCxn id="243" idx="2"/>
            <a:endCxn id="259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0" name=""/>
          <p:cNvCxnSpPr>
            <a:stCxn id="246" idx="1"/>
            <a:endCxn id="245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1" name=""/>
          <p:cNvCxnSpPr>
            <a:stCxn id="245" idx="1"/>
            <a:endCxn id="248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2" name=""/>
          <p:cNvCxnSpPr>
            <a:stCxn id="247" idx="3"/>
            <a:endCxn id="250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3" name=""/>
          <p:cNvCxnSpPr>
            <a:stCxn id="250" idx="3"/>
            <a:endCxn id="249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4" name=""/>
          <p:cNvCxnSpPr>
            <a:stCxn id="249" idx="3"/>
            <a:endCxn id="265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6" name=""/>
          <p:cNvCxnSpPr>
            <a:stCxn id="248" idx="0"/>
            <a:endCxn id="259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67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59" idx="1"/>
            <a:endCxn id="279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81" name=""/>
          <p:cNvCxnSpPr>
            <a:stCxn id="279" idx="1"/>
            <a:endCxn id="246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82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84" name=""/>
          <p:cNvCxnSpPr>
            <a:stCxn id="265" idx="3"/>
            <a:endCxn id="251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85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Symbol"/>
                <a:ea typeface="Symbol"/>
              </a:rPr>
              <a:t></a:t>
            </a: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-Reduc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y in M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[y/x]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seudo-code (similar to previous examples) is left as an exercis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8" name=""/>
          <p:cNvSpPr/>
          <p:nvPr/>
        </p:nvSpPr>
        <p:spPr>
          <a:xfrm>
            <a:off x="2340000" y="2276640"/>
            <a:ext cx="5184720" cy="72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Nested "Let" Reduc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y = (let x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let y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-236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esembles A-normalization,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but does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no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expand "if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M then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  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x then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2050920" y="2276640"/>
            <a:ext cx="5761080" cy="1873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Inlining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nlines all "small" func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cludes recursive on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Small" = less than a constant siz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User-specified by "-inline" op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epeat for a constant number of tim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User-specified by "-iter" op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onstant Folding and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used Variable Elimin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 let y = 7 in x + 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 let y = 7 in 1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ective after inlin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2268360" y="2276640"/>
            <a:ext cx="5328000" cy="3024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299" idx="3"/>
            <a:endCxn id="298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1" name=""/>
          <p:cNvCxnSpPr>
            <a:stCxn id="298" idx="3"/>
            <a:endCxn id="301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2" name=""/>
          <p:cNvCxnSpPr>
            <a:stCxn id="301" idx="3"/>
            <a:endCxn id="300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3" name=""/>
          <p:cNvCxnSpPr>
            <a:stCxn id="305" idx="2"/>
            <a:endCxn id="304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4" name=""/>
          <p:cNvCxnSpPr>
            <a:stCxn id="309" idx="3"/>
            <a:endCxn id="299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5" name=""/>
          <p:cNvCxnSpPr>
            <a:stCxn id="300" idx="2"/>
            <a:endCxn id="316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7" name=""/>
          <p:cNvCxnSpPr>
            <a:stCxn id="303" idx="1"/>
            <a:endCxn id="302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8" name=""/>
          <p:cNvCxnSpPr>
            <a:stCxn id="302" idx="1"/>
            <a:endCxn id="305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9" name=""/>
          <p:cNvCxnSpPr>
            <a:stCxn id="304" idx="3"/>
            <a:endCxn id="307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0" name=""/>
          <p:cNvCxnSpPr>
            <a:stCxn id="307" idx="3"/>
            <a:endCxn id="306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1" name=""/>
          <p:cNvCxnSpPr>
            <a:stCxn id="306" idx="3"/>
            <a:endCxn id="322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3" name=""/>
          <p:cNvCxnSpPr>
            <a:stCxn id="305" idx="0"/>
            <a:endCxn id="316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24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37" name=""/>
          <p:cNvCxnSpPr>
            <a:stCxn id="316" idx="1"/>
            <a:endCxn id="336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38" name=""/>
          <p:cNvCxnSpPr>
            <a:stCxn id="336" idx="1"/>
            <a:endCxn id="303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39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41" name=""/>
          <p:cNvCxnSpPr>
            <a:stCxn id="322" idx="3"/>
            <a:endCxn id="308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42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osure Convers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ocal function defini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+   function applica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p-level function defini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losure crea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losure applica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nown function call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direc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1: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osure Creation/Applic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y = x + y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x] y = x + y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 f = (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[x]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closure 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2: Known Function Call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x = x +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f, f 7) 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] x = x + 3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 f = (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[]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f, apply_direct f 7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3: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used Closure Elimin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x = x +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] x = x + 3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direct 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2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64" name=""/>
          <p:cNvCxnSpPr>
            <a:stCxn id="353" idx="3"/>
            <a:endCxn id="352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5" name=""/>
          <p:cNvCxnSpPr>
            <a:stCxn id="352" idx="3"/>
            <a:endCxn id="355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6" name=""/>
          <p:cNvCxnSpPr>
            <a:stCxn id="355" idx="3"/>
            <a:endCxn id="354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7" name=""/>
          <p:cNvCxnSpPr>
            <a:stCxn id="359" idx="2"/>
            <a:endCxn id="358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8" name=""/>
          <p:cNvCxnSpPr>
            <a:stCxn id="363" idx="3"/>
            <a:endCxn id="353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9" name=""/>
          <p:cNvCxnSpPr>
            <a:stCxn id="354" idx="2"/>
            <a:endCxn id="370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1" name=""/>
          <p:cNvCxnSpPr>
            <a:stCxn id="357" idx="1"/>
            <a:endCxn id="356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2" name=""/>
          <p:cNvCxnSpPr>
            <a:stCxn id="356" idx="1"/>
            <a:endCxn id="359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3" name=""/>
          <p:cNvCxnSpPr>
            <a:stCxn id="358" idx="3"/>
            <a:endCxn id="361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4" name=""/>
          <p:cNvCxnSpPr>
            <a:stCxn id="361" idx="3"/>
            <a:endCxn id="360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5" name=""/>
          <p:cNvCxnSpPr>
            <a:stCxn id="360" idx="3"/>
            <a:endCxn id="376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7" name=""/>
          <p:cNvCxnSpPr>
            <a:stCxn id="359" idx="0"/>
            <a:endCxn id="370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78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91" name=""/>
          <p:cNvCxnSpPr>
            <a:stCxn id="370" idx="1"/>
            <a:endCxn id="390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92" name=""/>
          <p:cNvCxnSpPr>
            <a:stCxn id="390" idx="1"/>
            <a:endCxn id="357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93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95" name=""/>
          <p:cNvCxnSpPr>
            <a:stCxn id="376" idx="3"/>
            <a:endCxn id="362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96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Virtual Machine Code Gener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PARC assembly with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finite number of registers/variabl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p-level function definitions and call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all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,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all_direc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nditional express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Tuple creations/accesses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nd closure creations are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expanded to stores and load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Register Alloc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Greedy algorithm with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ook-ahead for target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x = 3 in let y = 7 in f y x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3 in 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7 in f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Backtracking for "early sav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2800"/>
            </a:b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...; f (); ...; x + 7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3 i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save(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, x); ...; f (); ...; restore(x,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);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+ 7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1835280" y="6021360"/>
            <a:ext cx="194472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omputer Science fo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dergraduates in Tokyo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iberal arts (1.5 y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English, German/Chinese/French/Spanish, mathematics, logic, physics, chemistry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Computer literacy, CS introduction,</a:t>
            </a:r>
            <a:br>
              <a:rPr sz="2800"/>
            </a:b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Java programming, data structure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S major (2.5 yr) [~30 students/yr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Algorithms, OS, architecture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SPARC assembly, C, C++, Scheme, OCaml, Prolo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13-Bit Immediate Optimiz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pecific to SPAR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“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lining” or "constant folding"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for integers from -4096 to 4095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set 123, %r1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dd %r1, %r2, %r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dd %r2, 123, %r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5734080"/>
            <a:ext cx="79200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ssembly Gener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Lengthy (256 lines)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but eas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Tail call optimiz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tack map comput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Register shuffl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09120" indent="-2343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Somewhat tricky but short (11 lines)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nvironmen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achine: Sun Fire V88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4 Ultra SPARC III 1.2GHz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8 GB main memory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olaris 9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mpilers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MinCaml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, -iter 1000 -inline 100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OCamlOpt 3.08.3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, -unsafe -inline 100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GCC 4.0.0 20050319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 and 64 bit, -O3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GCC 3.4.3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 "flat model", -O3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pplication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unctiona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ckerman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Fibonacci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Takeuchi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Imperativ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Ray trac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Harmonic func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Mandelbrot set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Huffman encod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179280" y="430200"/>
          <a:ext cx="8785440" cy="59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30200"/>
                    <a:ext cx="87854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179280" y="428760"/>
          <a:ext cx="8785440" cy="59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28760"/>
                    <a:ext cx="87854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"Simple and efficient compiler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for a minimal functional languag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uture work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Improve the register alloc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eb"/>
                </a:solidFill>
                <a:uFillTx/>
                <a:latin typeface="Comic Sans MS"/>
              </a:rPr>
              <a:t>By far</a:t>
            </a: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 more complex than other module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Too slow at compile tim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Retarget to IA-32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2-operand instructions (which are "destructive" by definition) and FPU stack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3046320" y="3968640"/>
            <a:ext cx="3051360" cy="11588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057760" y="2421000"/>
            <a:ext cx="50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Comic Sans MS"/>
              </a:rPr>
              <a:t>http://min-caml.sf.net/</a:t>
            </a:r>
            <a:endParaRPr b="0" lang="en-US" sz="36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Programming Languages fo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S Major in Tokyo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L labs (63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i-Scheme interpreter in Scheme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i-ML interpreter in OCaml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Othello/Reversi competition in OCaml, etc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ompiler lecture (21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Parsing, intermediate representations, register allocation, garbage collection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L theory lectures (42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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-calculus, semantics, type theory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PU/Compiler Labs (126 hr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PU lab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Design and implement original CPUs by using VHDL and FPGA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ompiler lab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Develop compilers for the original CPU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Caml is used here!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mpete by the speed of ray tracing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5-6 students per group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3645000"/>
            <a:ext cx="7200720" cy="1584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33200"/>
            <a:ext cx="8785440" cy="6569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001400" y="6400800"/>
            <a:ext cx="5101560" cy="4597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Special thanks to Hiraki laboratory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22200" y="71280"/>
            <a:ext cx="66978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24000" y="71280"/>
            <a:ext cx="66978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00:14:59Z</dcterms:created>
  <dc:creator>Eijiro Sumii</dc:creator>
  <dc:description/>
  <dc:language>en-US</dc:language>
  <cp:lastModifiedBy>小林研究室</cp:lastModifiedBy>
  <dcterms:modified xsi:type="dcterms:W3CDTF">2005-09-25T11:54:52Z</dcterms:modified>
  <cp:revision>260</cp:revision>
  <dc:subject/>
  <dc:title>MinCaml: A Simple and Efficient Compiler for a Minimal Functional Language </dc:title>
</cp:coreProperties>
</file>