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CEB9EA-B3A6-48E8-B6ED-0D44BB465A5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going to talk abou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_very_ simple _and_ efficient compil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was developed in year 2001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I took over the compiler lab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lass, MinCaml is used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are given high-level descriptions of Min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Japanese prose and mathematical pseudo-co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ll give examples of the pseudo-cod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descriptions, each _group_ is required t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 the compiler for their own C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every _student_ is required to solve small exercise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hand compilation of tiny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use of MinCaml in Tokyo has been successfu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sense that students like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of them implemented polymorphism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means of code duplication like MLt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, inter-procedural register allo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 on _even though_ I didn’t tell them to do so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thers started a portal site in Japanese for O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ranslated its manuals, again without being t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also been used by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body anonymous published a nice commentary about MinCaml on the Web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lementing my own tutorial, but I _really_ don’t know the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so, according to their blogs, some Ruby hacker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ld a seminar to read the source code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Prof. Asai, sitting there, is using MinCaml for some research and educa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chanomiz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that’s enough pedagogy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move on to technical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for the class had to be as simple as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students are undergradua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it had to be effic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for one application: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requirements, I designed the source language of our compiler clas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 of all, it is a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aning no destructive update of variab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it is _definitely_ not 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ther words, it is a kind of static single assignment form in the first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higher-order, call-by-value, impure for I/O and destructive update of _arrays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efficiency of floating-point number computations in ray trac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implicitly typed but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language is named MinCaml, because its syntax is a minimal subset of Objective 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the syntax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constants, primitives for arithmetic, conditional bran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ariable definitions, reading from variables, recursive function defini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function application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don’t support partial function appli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it is easy to implement by a type-based trans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also have tuple creations, reading from tup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ray creations, reading from arrays, writing to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ading from tuples is a pattern matching form instead of a projec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 avoid the flex record problem in type inference like Standar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yntax is literally implemented as an ML data type Syntax.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is _intended_ to be a minimal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_everything_ else is o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example, we _don’t_ have array boundary check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this one is easy to implement; we don’t hav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; we don’t have data types or pattern match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lymorphism, exceptions, or object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ation of these features is optional homework: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ast, some students did implement a few of them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lained that the lab is too easy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rom this year, it becomes compulsory to implement at least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am not going to lecture a full compiler cours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ompiler is as simple as only 2000 lines of O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yet, it is almost as efficient as OCamlOpt and even G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several applications such as ray tracing and Huffman enco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OCamlOpt compiles O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 compiles C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compiles a small functional langu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are comparing _different_ implementations of the same applica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the optimal style of each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been used in an undergraduate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S major in the University of Tokyo since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the way, I myself am no longer in Toky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I moved to Pennsylvania and then to Tohoku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MinCaml is still used in Tokyo by my success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xing and parsing are totally standar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re just given by the instructor in OCamlLex and OCamlYacc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algorithms for lexing and parsing are already covered in the previous compiler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ternatively, we could use simpler algorithms like packrat pars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we haven’t yet implement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monomorpihc type inference is also very standard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ing ML references for unification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lso easy because students have already implement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en polymorphic type inference in a previous lab on programming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nly non-standard point is tha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types of free variables are automatically inferr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external functions or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don’t have to declare their types by hand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principal typing is possible because our types are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ML-polymorphism, this is known to be im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utline of this talk i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, I talk about the pedagogical backgroud of Min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the computer science major curriculum in Tok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we look at a little details of MinCaml itself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experiments to see the efficiency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okyo, _all_ undergraduate students first study liberal arts for 1.5 year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English, a second foreign language, mathematic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ic (including topics like Goedel’s incompleteness theorem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ysics, chemistry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all of them take a computer literacy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his is almost equivalent to how to use UNIX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everybody knows how to use Windows already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study introductory computer science, Java programm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data structures such as lists and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about 30 of them choose the computer science majo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 standard CS courses such as algorithms, operating systems, and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they learn programming languages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PARC assembly, ..., and Pro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imperative languages are mainly used in operating system and architectur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le these more declarative languages are mainly used in programming languag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rogramming languag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first learn basic programming in Scheme, OCaml, and Prolo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study how these languages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implementing min-interpr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lso write realistic applica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Othello or Reversi program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eting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allel, they take classes on compilers and programming language theori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parsing, register allocation, garbage collec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ambda-calculus and type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we have very interesting laboratory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lled CPU lab and compiler 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group work; each group consists of 5 to 6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design and implement an original CPU using a programmable L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ypically, their CPUs are about 2 or 3 times slow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 real CPUs such as UltraSP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develop a compiler for the original CPU;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where MinCaml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end of the semester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ete by the speed of ray tracing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MinCaml and run on their C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ust for fun, this is how the hardware look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the programmable LSI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RAMs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USB port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LEDs here for debu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may also add some hardware onto this extension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n example of a scene rendered by the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“tron” car is made of intersections and differences of ellips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surface of this ball is a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his wall is a mirror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re is another example, made by a friend of min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we took a previous version of this class 9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you can see, this scene is full of reflec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s a lot of time to 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MinCaml didn’t exist at that tim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ported GCC to our CPU, which was a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9B16-4451-4C63-BFC3-07F0BF9B9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6261-A870-4F8A-BAF0-F01FE068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E985-8EC1-417C-938A-D19CAD9B6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37F24-8704-4AC8-8FD5-D8B190B501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76D1DF-4DE5-4EB7-A186-601DC0189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74ABE-C676-42CD-A3BF-5BCD57A3B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8D9F1C-D2D7-4270-A9A3-E862823FE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74AB32-F843-46DE-AF06-B77AE8F68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2EAF-A2F3-413D-A46F-30738065A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34F0A9-A5B8-440A-8A74-6AA65D64AE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60A82-E613-4FB4-94A5-20B56F47A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3A5C-9066-4BFD-B858-C578F848AF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635E9-748C-4B3F-AFAC-C1F8C31F1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BDDF29-5593-43C1-8249-D9CA81B12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59B4E-497A-4C86-B599-B519589F7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33409-EB81-4F0F-871A-5708CB9CE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8BF59-0BE0-469A-B354-68001E9109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838B0-64B2-4261-A056-61D7A59E3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D1A2-54FC-4FE3-8F2A-8729B4C95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92767-1A4D-4F36-9775-F2CDD90E40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DF0A-CE91-4653-BBBA-202E3498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3FEF3-4C37-4211-9685-00010E5C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3E21-4EB9-42FE-9227-08201BB42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6DCD-9EEA-4BA6-AE2B-59228A078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7DE34-73ED-4F76-A083-54402C905B96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380960"/>
            <a:ext cx="8686800" cy="319320"/>
            <a:chOff x="228240" y="138096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38096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38096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AF757-BBEA-4146-806A-691CCCA0764C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MinCaml: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A Simple and Efficient Compiler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for a Minimal Functional Language </a:t>
            </a:r>
            <a:endParaRPr b="1" lang="en-US" sz="36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ijiro Sumii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hok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000" y="5373720"/>
            <a:ext cx="305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How is MinCaml Used?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are given high-level descriptions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 Japanese and pseudo-cod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Each grou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s required to implement the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very stud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s required to solve small exercis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uch as hand compila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liked ML!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polymorphism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like MLton), garbage collec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ter-procedural register allocation, etc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arted a portal site (www.ocaml.jp) with Japanese translations of the OCaml manual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Outsiders" are also using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omebody anonymous wrote a comprehensive commentary on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uby hackers organized an independent seminar to study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rof. Asai is using MinCaml in Ochanomiz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Goal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s simple as possibl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bu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ble to </a:t>
            </a: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ly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execute</a:t>
            </a:r>
            <a:br>
              <a:rPr sz="3200"/>
            </a:b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non-trivial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applications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(such as ray tracing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Languag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unctional: no destructive update of </a:t>
            </a: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variables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(cf. SSA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Higher-ord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all-by-valu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ur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put/outpu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tructive update of </a:t>
            </a:r>
            <a:r>
              <a:rPr b="0" lang="ja-JP" sz="2800" spc="-1" strike="noStrike" u="sng">
                <a:solidFill>
                  <a:srgbClr val="ffffeb"/>
                </a:solidFill>
                <a:uFillTx/>
                <a:latin typeface="Comic Sans MS"/>
              </a:rPr>
              <a:t>array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icitly type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onomorphi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no partial application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= M in 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f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#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rray.create M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.(N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.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terally implemented as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L data type Syntax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verything else is omitted!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rray boundary checking (easy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Data types and pattern match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xcep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Objects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ptional homework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2 compulsory from this yea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5516640"/>
            <a:ext cx="612144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7" idx="3"/>
            <a:endCxn id="13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36" idx="3"/>
            <a:endCxn id="13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0" name=""/>
          <p:cNvCxnSpPr>
            <a:stCxn id="139" idx="3"/>
            <a:endCxn id="13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1" name=""/>
          <p:cNvCxnSpPr>
            <a:stCxn id="143" idx="2"/>
            <a:endCxn id="14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2" name=""/>
          <p:cNvCxnSpPr>
            <a:stCxn id="147" idx="3"/>
            <a:endCxn id="13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3" name=""/>
          <p:cNvCxnSpPr>
            <a:stCxn id="138" idx="2"/>
            <a:endCxn id="15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41" idx="1"/>
            <a:endCxn id="14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40" idx="1"/>
            <a:endCxn id="14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7" name=""/>
          <p:cNvCxnSpPr>
            <a:stCxn id="142" idx="3"/>
            <a:endCxn id="14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8" name=""/>
          <p:cNvCxnSpPr>
            <a:stCxn id="145" idx="3"/>
            <a:endCxn id="14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9" name=""/>
          <p:cNvCxnSpPr>
            <a:stCxn id="144" idx="3"/>
            <a:endCxn id="16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61" name=""/>
          <p:cNvCxnSpPr>
            <a:stCxn id="143" idx="0"/>
            <a:endCxn id="15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6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1"/>
            <a:endCxn id="17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76" name=""/>
          <p:cNvCxnSpPr>
            <a:stCxn id="174" idx="1"/>
            <a:endCxn id="14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7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0" idx="3"/>
            <a:endCxn id="14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8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Highligh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Simpl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nd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compiler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Only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2000 lin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of O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 comparable to OCamlOpt and GCC for several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Ray tracing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 Huffman encoding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Used for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undergraduat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n Tokyo since 2001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Lexing and Pars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Written in OCamlLex and OCamlYac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iven by the instruct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Algorithms are out of scop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packrat parsing [Ford 2002]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Type Inferenc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ased on standard unification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using ML referenc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Let-polymorphic version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lready taught in PL lab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ree variables are treated a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xternal functions (or arrays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"Principal typing" [Jim 96]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utomatically inferred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7" idx="3"/>
            <a:endCxn id="18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99" name=""/>
          <p:cNvCxnSpPr>
            <a:stCxn id="186" idx="3"/>
            <a:endCxn id="18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0" name=""/>
          <p:cNvCxnSpPr>
            <a:stCxn id="189" idx="3"/>
            <a:endCxn id="18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1" name=""/>
          <p:cNvCxnSpPr>
            <a:stCxn id="193" idx="2"/>
            <a:endCxn id="19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2" name=""/>
          <p:cNvCxnSpPr>
            <a:stCxn id="197" idx="3"/>
            <a:endCxn id="18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3" name=""/>
          <p:cNvCxnSpPr>
            <a:stCxn id="188" idx="2"/>
            <a:endCxn id="20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5" name=""/>
          <p:cNvCxnSpPr>
            <a:stCxn id="191" idx="1"/>
            <a:endCxn id="19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6" name=""/>
          <p:cNvCxnSpPr>
            <a:stCxn id="190" idx="1"/>
            <a:endCxn id="19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7" name=""/>
          <p:cNvCxnSpPr>
            <a:stCxn id="192" idx="3"/>
            <a:endCxn id="19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8" name=""/>
          <p:cNvCxnSpPr>
            <a:stCxn id="195" idx="3"/>
            <a:endCxn id="19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9" name=""/>
          <p:cNvCxnSpPr>
            <a:stCxn id="194" idx="3"/>
            <a:endCxn id="21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11" name=""/>
          <p:cNvCxnSpPr>
            <a:stCxn id="193" idx="0"/>
            <a:endCxn id="20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1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04" idx="1"/>
            <a:endCxn id="22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26" name=""/>
          <p:cNvCxnSpPr>
            <a:stCxn id="224" idx="1"/>
            <a:endCxn id="19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2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0" idx="3"/>
            <a:endCxn id="19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3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K-Normal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 + b + c * 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1 = a + b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2 = c * d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mp1 + tmp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Nesting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i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llowed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(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implifies the normalization and inlin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A-normalization by CP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773360"/>
            <a:ext cx="367344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of K-Normal Form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as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lgorithm of K-Normalization: Pseudo-Code Given to Studen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 : Syntax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then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else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K(M) in K(N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Conversion (Anothe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of Pseudo-Code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: KNormal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d.t Map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, ...,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x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 the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x' fresh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' =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x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'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r"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2" idx="3"/>
            <a:endCxn id="241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41" idx="3"/>
            <a:endCxn id="244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44" idx="3"/>
            <a:endCxn id="243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6" name=""/>
          <p:cNvCxnSpPr>
            <a:stCxn id="248" idx="2"/>
            <a:endCxn id="247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7" name=""/>
          <p:cNvCxnSpPr>
            <a:stCxn id="252" idx="3"/>
            <a:endCxn id="242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8" name=""/>
          <p:cNvCxnSpPr>
            <a:stCxn id="243" idx="2"/>
            <a:endCxn id="259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0" name=""/>
          <p:cNvCxnSpPr>
            <a:stCxn id="246" idx="1"/>
            <a:endCxn id="245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1" name=""/>
          <p:cNvCxnSpPr>
            <a:stCxn id="245" idx="1"/>
            <a:endCxn id="248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2" name=""/>
          <p:cNvCxnSpPr>
            <a:stCxn id="247" idx="3"/>
            <a:endCxn id="250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3" name=""/>
          <p:cNvCxnSpPr>
            <a:stCxn id="250" idx="3"/>
            <a:endCxn id="249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4" name=""/>
          <p:cNvCxnSpPr>
            <a:stCxn id="249" idx="3"/>
            <a:endCxn id="265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48" idx="0"/>
            <a:endCxn id="259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9" idx="1"/>
            <a:endCxn id="279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81" name=""/>
          <p:cNvCxnSpPr>
            <a:stCxn id="279" idx="1"/>
            <a:endCxn id="246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65" idx="3"/>
            <a:endCxn id="251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5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y in 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y/x]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seudo-code (similar to previous examples) is left as an exercis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340000" y="2276640"/>
            <a:ext cx="51847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Nested "Let" 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y = (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-236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sembles A-normaliza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ut does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no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expand "if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276640"/>
            <a:ext cx="5761080" cy="187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Inlin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nlines all "small" func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cludes recursive on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Small" = less than a constant siz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nline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peat for a constant number of tim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ter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nstant Folding and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Variabl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x + 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ective after inlin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2276640"/>
            <a:ext cx="5328000" cy="30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99" idx="3"/>
            <a:endCxn id="298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1" name=""/>
          <p:cNvCxnSpPr>
            <a:stCxn id="298" idx="3"/>
            <a:endCxn id="301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2" name=""/>
          <p:cNvCxnSpPr>
            <a:stCxn id="301" idx="3"/>
            <a:endCxn id="300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3" name=""/>
          <p:cNvCxnSpPr>
            <a:stCxn id="305" idx="2"/>
            <a:endCxn id="304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4" name=""/>
          <p:cNvCxnSpPr>
            <a:stCxn id="309" idx="3"/>
            <a:endCxn id="299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5" name=""/>
          <p:cNvCxnSpPr>
            <a:stCxn id="300" idx="2"/>
            <a:endCxn id="316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7" name=""/>
          <p:cNvCxnSpPr>
            <a:stCxn id="303" idx="1"/>
            <a:endCxn id="302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8" name=""/>
          <p:cNvCxnSpPr>
            <a:stCxn id="302" idx="1"/>
            <a:endCxn id="305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9" name=""/>
          <p:cNvCxnSpPr>
            <a:stCxn id="304" idx="3"/>
            <a:endCxn id="307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0" name=""/>
          <p:cNvCxnSpPr>
            <a:stCxn id="307" idx="3"/>
            <a:endCxn id="306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1" name=""/>
          <p:cNvCxnSpPr>
            <a:stCxn id="306" idx="3"/>
            <a:endCxn id="322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3" name=""/>
          <p:cNvCxnSpPr>
            <a:stCxn id="305" idx="0"/>
            <a:endCxn id="316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24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16" idx="1"/>
            <a:endCxn id="336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38" name=""/>
          <p:cNvCxnSpPr>
            <a:stCxn id="336" idx="1"/>
            <a:endCxn id="303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39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22" idx="3"/>
            <a:endCxn id="308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42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onvers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cal function defini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   function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cre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applic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nown function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1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reation/Appli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y = x + y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x] y = x + y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x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2: Known Function Call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f 7)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apply_direct f 7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3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Closur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3" idx="3"/>
            <a:endCxn id="352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5" name=""/>
          <p:cNvCxnSpPr>
            <a:stCxn id="352" idx="3"/>
            <a:endCxn id="355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55" idx="3"/>
            <a:endCxn id="354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7" name=""/>
          <p:cNvCxnSpPr>
            <a:stCxn id="359" idx="2"/>
            <a:endCxn id="358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8" name=""/>
          <p:cNvCxnSpPr>
            <a:stCxn id="363" idx="3"/>
            <a:endCxn id="353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9" name=""/>
          <p:cNvCxnSpPr>
            <a:stCxn id="354" idx="2"/>
            <a:endCxn id="370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1" name=""/>
          <p:cNvCxnSpPr>
            <a:stCxn id="357" idx="1"/>
            <a:endCxn id="356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2" name=""/>
          <p:cNvCxnSpPr>
            <a:stCxn id="356" idx="1"/>
            <a:endCxn id="359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3" name=""/>
          <p:cNvCxnSpPr>
            <a:stCxn id="358" idx="3"/>
            <a:endCxn id="361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4" name=""/>
          <p:cNvCxnSpPr>
            <a:stCxn id="361" idx="3"/>
            <a:endCxn id="360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5" name=""/>
          <p:cNvCxnSpPr>
            <a:stCxn id="360" idx="3"/>
            <a:endCxn id="376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7" name=""/>
          <p:cNvCxnSpPr>
            <a:stCxn id="359" idx="0"/>
            <a:endCxn id="370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78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0" idx="1"/>
            <a:endCxn id="390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92" name=""/>
          <p:cNvCxnSpPr>
            <a:stCxn id="390" idx="1"/>
            <a:endCxn id="357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3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76" idx="3"/>
            <a:endCxn id="362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Virtual Machine Code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ARC assembly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finite number of registers/variabl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 and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,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nditional express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uple creations/accesses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nd closure creations are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xpanded to stores and load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Register Allo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reedy algorithm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ok-ahead for target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 let y = 7 in f y x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 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7 in f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acktracking for "early sav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...; f (); ...; x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ave(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, x); ...; f (); ...; restore(x,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);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6021360"/>
            <a:ext cx="1944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mputer Science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dergraduates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beral arts (1.5 y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English, German/Chinese/French/Spanish, mathematics, logic, physics, chemist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Computer literacy, CS introduction,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Java programming, data structur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S major (2.5 yr) [~30 students/yr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Algorithms, OS, architecture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PARC assembly, C, C++, Scheme, OCaml, Prolo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13-Bit Immediate Optim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ecific to SPAR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“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lining” or "constant folding"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integers from -4096 to 4095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set 123, %r1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1, %r2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2, 123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5734080"/>
            <a:ext cx="79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ssembly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Lengthy (256 lines)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ut eas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ail call optimiz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tack map comput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gister shuffl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omewhat tricky but short (11 lines)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nvironmen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achine: Sun Fire V88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4 Ultra SPARC III 1.2GHz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8 GB main memory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olaris 9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ilers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MinCaml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iter 1000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CamlOpt 3.08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unsafe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4.0.0 20050319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and 64 bit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3.4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"flat model"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pplication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nctiona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ckerman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Fibonacc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akeuch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erativ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Ray trac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armonic func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Mandelbrot se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uffman encod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179280" y="43020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020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79280" y="42876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876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"Simple and efficient compile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ture work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rove the register alloc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eb"/>
                </a:solidFill>
                <a:uFillTx/>
                <a:latin typeface="Comic Sans MS"/>
              </a:rPr>
              <a:t>By far</a:t>
            </a: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 more complex than other modul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oo slow at compile tim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target to IA-3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2-operand instructions (which are "destructive" by definition) and FPU stack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6320" y="39686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057760" y="24210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Comic Sans MS"/>
              </a:rPr>
              <a:t>http://min-caml.sf.net/</a:t>
            </a:r>
            <a:endParaRPr b="0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Programming Languages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S Major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labs (63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Scheme interpreter in Scheme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ML interpreter in OCaml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thello/Reversi competition in OCaml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ecture (21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Parsing, intermediate representations, register allocation, garbage collection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theory lectures (42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-calculus, semantics, type theo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PU/Compiler Labs (126 hr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PU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ign and implement original CPUs by using VHDL and FPGA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Develop compilers for the original CPU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Caml is used here!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ete by the speed of ray tracing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5-6 students per group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645000"/>
            <a:ext cx="720072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6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1400" y="6400800"/>
            <a:ext cx="5101560" cy="459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Special thanks to Hiraki laborator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240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0:14:59Z</dcterms:created>
  <dc:creator>Eijiro Sumii</dc:creator>
  <dc:description/>
  <dc:language>en-US</dc:language>
  <cp:lastModifiedBy>小林研究室</cp:lastModifiedBy>
  <dcterms:modified xsi:type="dcterms:W3CDTF">2005-09-25T11:54:52Z</dcterms:modified>
  <cp:revision>260</cp:revision>
  <dc:subject/>
  <dc:title>MinCaml: A Simple and Efficient Compiler for a Minimal Functional Language </dc:title>
</cp:coreProperties>
</file>