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E03A4-3247-486C-8CAE-0DB237803057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’m Eijiro Sumii from Tohoku Univer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’m going to talk about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 _very_ simple _and_ efficient compiler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or a small but non-trivial functional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inCaml was developed in year 2001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hen I took over the compiler lab c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e class, MinCaml is used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tudents are given high-level descriptions of MinCaml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Japanese prose and mathematical pseudo-cod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’ll give examples of the pseudo-code l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iven these descriptions, each _group_ is required to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mplement the compiler for their own CP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addition, every _student_ is required to solve small exercises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uch as hand compilation of tiny progra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use of MinCaml in Tokyo has been successful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e sense that students liked 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me of them implemented polymorphism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y means of code duplication like MLton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arbage collection, inter-procedural register allocation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so on _even though_ I didn’t tell them to do so.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thers started a portal site in Japanese for OCaml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translated its manuals, again without being to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inCaml has also been used by outsi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mebody anonymous published a nice commentary about MinCaml on the Web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omplementing my own tutorial, but I _really_ don’t know the auth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lso, according to their blogs, some Ruby hackers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held a seminar to read the source code of MinCa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Prof. Asai, sitting there, is using MinCaml for some research and education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Ochanomizu Univer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K, that’s enough pedagogy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move on to technical detai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mpiler for the class had to be as simple as possib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the students are undergraduate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same time, it had to be effici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least for one application: ray trac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iven these requirements, I designed the source language of our compiler class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irst of all, it is a functional languag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eaning no destructive update of variable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 it is _definitely_ not C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other words, it is a kind of static single assignment form in the first pl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t is higher-order, call-by-value, impure for I/O and destructive update of _arrays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or the efficiency of floating-point number computations in ray tracing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t is implicitly typed but monomorph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language is named MinCaml, because its syntax is a minimal subset of Objective Ca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is the syntax of MinCa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e have constants, primitives for arithmetic, conditional branch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variable definitions, reading from variables, recursive function definition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function applications.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e don’t support partial function application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ough it is easy to implement by a type-based trans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e also have tuple creations, reading from tuple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rray creations, reading from arrays, writing to array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un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reading from tuples is a pattern matching form instead of a projection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o avoid the flex record problem in type inference like Standard 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syntax is literally implemented as an ML data type Syntax.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inCaml is _intended_ to be a minimal functional languag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 _everything_ else is omit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or example, we _don’t_ have array boundary checking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ough this one is easy to implement; we don’t have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arbage collection; we don’t have data types or pattern matching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olymorphism, exceptions, or objects.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mplementation of these features is optional homework: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e past, some students did implement a few of them;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y complained that the lab is too easy!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rom this year, it becomes compulsory to implement at least tw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overall structure of the MinCaml compiler looks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t is a sequence of transformations from the source language to SPARC assemb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se numbers are the code lines of each module.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e have lexing, parsing, type inference,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 am not going to lecture a full compiler cours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ut let’s have a short look at each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compiler is as simple as only 2000 lines of OCa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ut yet, it is almost as efficient as OCamlOpt and even G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or several applications such as ray tracing and Huffman enco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f course, OCamlOpt compiles OCaml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CC compiles C,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inCaml compiles a small functional languag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 we are comparing _different_ implementations of the same application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ritten in the optimal style of each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inCaml has been used in an undergraduate course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e CS major in the University of Tokyo since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y the way, I myself am no longer in Tokyo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ecause I moved to Pennsylvania and then to Tohoku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ut MinCaml is still used in Tokyo by my success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exing and parsing are totally standard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y are just given by the instructor in OCamlLex and OCamlYacc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ecause algorithms for lexing and parsing are already covered in the previous compiler le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lternatively, we could use simpler algorithms like packrat parsing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ut we haven’t yet implemented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monomorpihc type inference is also very standard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using ML references for unification.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is also easy because students have already implemented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even polymorphic type inference in a previous lab on programming langu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only non-standard point is that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types of free variables are automatically inferred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s external functions or array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 we don’t have to declare their types by hand.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principal typing is possible because our types are monomorph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ith ML-polymorphism, this is known to be im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outline of this talk is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irst, I talk about the pedagogical backgroud of MinCaml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uch as the computer science major curriculum in Toky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n, we look at a little details of MinCaml itself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experiments to see the efficiency of MinCa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okyo, _all_ undergraduate students first study liberal arts for 1.5 year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uch as English, a second foreign language, mathematic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ic (including topics like Goedel’s incompleteness theorem)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hysics, chemistry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particular, all of them take a computer literacy course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(this is almost equivalent to how to use UNIX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ecause everybody knows how to use Windows already)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some study introductory computer science, Java programming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data structures such as lists and tre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n, about 30 of them choose the computer science major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take standard CS courses such as algorithms, operating systems, and archite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particular, they learn programming languages inclu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PARC assembly, ..., and Prolo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se imperative languages are mainly used in operating system and architecture classe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hile these more declarative languages are mainly used in programming language clas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e programming language classe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tudents first learn basic programming in Scheme, OCaml, and Prolog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n, they study how these languages work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y implementing min-interpre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y also write realistic applications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uch as Othello or Reversi program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ompeting with each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parallel, they take classes on compilers and programming language theorie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uch as parsing, register allocation, garbage collection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ambda-calculus and type the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addition, we have very interesting laboratory work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alled CPU lab and compiler la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is group work; each group consists of 5 to 6 stud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y design and implement an original CPU using a programmable LS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ypically, their CPUs are about 2 or 3 times slower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an real CPUs such as UltraSPAR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n, they develop a compiler for the original CPU;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is where MinCaml is u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e end of the semester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y compete by the speed of ray tracing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ritten in MinCaml and run on their CP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Just for fun, this is how the hardware looks lik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e have the programmable LSI her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me RAMs her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 USB port her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some LEDs here for debugg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tudents may also add some hardware onto this extension bo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is an example of a scene rendered by the ray trac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“tron” car is made of intersections and differences of ellipso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surface of this ball is a mirr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this wall is a mirror, to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Here is another example, made by a friend of mine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hen we took a previous version of this class 9 years a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s you can see, this scene is full of reflections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takes a lot of time to ren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f course, MinCaml didn’t exist at that tim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 we ported GCC to our CPU, which was a p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8121-FA71-4177-BD96-5C7C81304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7BEA-08AA-40E4-9B99-29C4E679A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0144-7161-477A-A1C4-6EE1B4D8A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94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248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0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94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248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3B94-FD6F-47A3-9A52-B69FCD46D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F15D5-78AD-4749-9B5E-974252430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07D8F-7C28-4569-B558-701E7954B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1526A-246F-41C1-B8B9-78B487E88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D45C3-0583-4B8B-8ADA-C41B4A22D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2005C-CCC8-41CA-9939-262452172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040" y="19800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F373C-734A-4F62-B71D-62E7C98F7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13943-7348-48EF-A149-623008603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C07C-F996-44D7-B10C-3ED1E7846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E7208-A04C-4262-AA4C-4E1A0ABE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F04AB-ECFF-4046-BDC3-A77DADAF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48A8C-3E9B-412F-BC98-707714A2A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EBED3-CA98-4166-AE75-7BBBB9565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194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48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0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194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48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27035-2F5B-4C2D-9F98-1EC89ED6D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2722-555A-4C73-B8B0-F9CC9BFB9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6115-7453-47AD-A57B-BBE86E671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161B-9BD0-4E62-86A6-9A7052495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040" y="19800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247F-1644-4702-90C2-E0CA30A3D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706E-5AE2-4F88-960D-93D3E717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75C7-3B5A-4F30-83AD-0FD7ACF4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6F16-0EE3-4F6D-9751-DBAAD42E2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212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68520" indent="-257040">
              <a:spcBef>
                <a:spcPts val="799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2" marL="1028520" indent="-2055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3" marL="1440000" indent="-205560">
              <a:spcBef>
                <a:spcPts val="799"/>
              </a:spcBef>
              <a:buClr>
                <a:srgbClr val="ffffeb"/>
              </a:buClr>
              <a:buSzPct val="8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4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5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6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3880" y="5946840"/>
            <a:ext cx="5871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389E7-18BB-4239-9E53-EC5A77862F68}" type="slidenum">
              <a:rPr b="1" lang="en-US" sz="26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240" y="1380960"/>
            <a:ext cx="8686800" cy="319320"/>
            <a:chOff x="228240" y="1380960"/>
            <a:chExt cx="8686800" cy="319320"/>
          </a:xfrm>
        </p:grpSpPr>
        <p:sp>
          <p:nvSpPr>
            <p:cNvPr id="7" name=""/>
            <p:cNvSpPr/>
            <p:nvPr/>
          </p:nvSpPr>
          <p:spPr>
            <a:xfrm>
              <a:off x="676080" y="1380960"/>
              <a:ext cx="823896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eb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>
              <a:off x="227880" y="1380960"/>
              <a:ext cx="462600" cy="31932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eb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8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eb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eb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9360" y="5962320"/>
            <a:ext cx="5875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555AD-6D97-4D2C-A6E9-90A8300824E9}" type="slidenum">
              <a:rPr b="1" lang="en-US" sz="26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9716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eb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ffeb"/>
              </a:buClr>
              <a:buSzPct val="80000"/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eb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eb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eb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6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ffffeb"/>
                </a:solidFill>
                <a:latin typeface="Comic Sans MS"/>
              </a:rPr>
              <a:t>MinCaml:</a:t>
            </a:r>
            <a:br>
              <a:rPr sz="3600"/>
            </a:br>
            <a:r>
              <a:rPr b="1" lang="ja-JP" sz="3600" spc="-1" strike="noStrike">
                <a:solidFill>
                  <a:srgbClr val="ffffeb"/>
                </a:solidFill>
                <a:latin typeface="Comic Sans MS"/>
              </a:rPr>
              <a:t>A Simple and Efficient Compiler</a:t>
            </a:r>
            <a:br>
              <a:rPr sz="3600"/>
            </a:br>
            <a:r>
              <a:rPr b="1" lang="ja-JP" sz="3600" spc="-1" strike="noStrike">
                <a:solidFill>
                  <a:srgbClr val="ffffeb"/>
                </a:solidFill>
                <a:latin typeface="Comic Sans MS"/>
              </a:rPr>
              <a:t>for a Minimal Functional Language </a:t>
            </a:r>
            <a:endParaRPr b="1" lang="en-US" sz="36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ijiro Sumii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Tohoku Universit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97000" y="5373720"/>
            <a:ext cx="30510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How is MinCaml Used?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Students are given high-level descriptions of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68520" indent="-2570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in Japanese and pseudo-code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308520" indent="-308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 u="sng">
                <a:solidFill>
                  <a:srgbClr val="ffcc00"/>
                </a:solidFill>
                <a:uFillTx/>
                <a:latin typeface="Comic Sans MS"/>
              </a:rPr>
              <a:t>Each group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s required to implement them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08520" indent="-308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 u="sng">
                <a:solidFill>
                  <a:srgbClr val="ffffeb"/>
                </a:solidFill>
                <a:uFillTx/>
                <a:latin typeface="Comic Sans MS"/>
              </a:rPr>
              <a:t>Every student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is required to solve small exercise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68520" indent="-2570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such as hand compilation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Outcome (1/2)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Students liked ML!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mplemented polymorphism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like MLton), garbage collection,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nter-procedural register allocation, etc.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without being tol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Started a portal site (www.ocaml.jp) with Japanese translations of the OCaml manual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without being tol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Outcome (2/2)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lvl="1" marL="55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"Outsiders" are also using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Somebody anonymous wrote a comprehensive commentary on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Ruby hackers organized an independent seminar to study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Prof. Asai is using MinCaml in Ochanomizu Universit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Outline of This Talk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Pedagogical backgroun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Design and implementation of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fficienc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Goals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-2811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As simple as possible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bu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-2811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Able to </a:t>
            </a:r>
            <a:r>
              <a:rPr b="0" lang="en-US" sz="3200" spc="-1" strike="noStrike" u="sng">
                <a:solidFill>
                  <a:srgbClr val="ffffeb"/>
                </a:solidFill>
                <a:uFillTx/>
                <a:latin typeface="Comic Sans MS"/>
              </a:rPr>
              <a:t>efficiently</a:t>
            </a: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 execute</a:t>
            </a:r>
            <a:br>
              <a:rPr sz="3200"/>
            </a:br>
            <a:r>
              <a:rPr b="0" lang="en-US" sz="3200" spc="-1" strike="noStrike" u="sng">
                <a:solidFill>
                  <a:srgbClr val="ffffeb"/>
                </a:solidFill>
                <a:uFillTx/>
                <a:latin typeface="Comic Sans MS"/>
              </a:rPr>
              <a:t>non-trivial</a:t>
            </a: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 applications</a:t>
            </a:r>
            <a:br>
              <a:rPr sz="3200"/>
            </a:b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(such as ray tracing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MinCaml: The Language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Functional: no destructive update of </a:t>
            </a:r>
            <a:r>
              <a:rPr b="0" lang="ja-JP" sz="3200" spc="-1" strike="noStrike" u="sng">
                <a:solidFill>
                  <a:srgbClr val="ffcc00"/>
                </a:solidFill>
                <a:uFillTx/>
                <a:latin typeface="Comic Sans MS"/>
              </a:rPr>
              <a:t>variables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(cf. SSA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Higher-order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all-by-value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mpure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42160" indent="-2084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Input/output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42160" indent="-2084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Destructive update of </a:t>
            </a:r>
            <a:r>
              <a:rPr b="0" lang="ja-JP" sz="2800" spc="-1" strike="noStrike" u="sng">
                <a:solidFill>
                  <a:srgbClr val="ffffeb"/>
                </a:solidFill>
                <a:uFillTx/>
                <a:latin typeface="Comic Sans MS"/>
              </a:rPr>
              <a:t>arrays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mplicitly type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Monomorphic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Syntax (1/2)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spcBef>
                <a:spcPts val="799"/>
              </a:spcBef>
              <a:buNone/>
              <a:tabLst>
                <a:tab algn="l" pos="0"/>
                <a:tab algn="l" pos="64627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M, N  (expressions)  ::=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op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...,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 M then 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else 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M in 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x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x y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... y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=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 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... 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         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no partial application)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...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cont.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Syntax (2/2)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M, N  (expressions)  ::=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...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...,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(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...,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= M in N         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cf.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#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i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rray.create M 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.(N)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.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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3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Literally implemented as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ML data type Syntax.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Everything else is omitted!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Array boundary checking (easy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Garbage collection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Data types and pattern matching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Polymorphism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Exception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Objects</a:t>
            </a: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etc.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0" algn="ctr">
              <a:lnSpc>
                <a:spcPct val="50000"/>
              </a:lnSpc>
              <a:buNone/>
              <a:tabLst>
                <a:tab algn="l" pos="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0" algn="ctr">
              <a:spcBef>
                <a:spcPts val="799"/>
              </a:spcBef>
              <a:buNone/>
              <a:tabLst>
                <a:tab algn="l" pos="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Optional homework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ffcc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 2 compulsory from this year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34" name=""/>
          <p:cNvSpPr/>
          <p:nvPr/>
        </p:nvSpPr>
        <p:spPr>
          <a:xfrm>
            <a:off x="2050920" y="5516640"/>
            <a:ext cx="6121440" cy="1081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MinCaml: The Compiler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36" name=""/>
          <p:cNvSpPr/>
          <p:nvPr/>
        </p:nvSpPr>
        <p:spPr>
          <a:xfrm>
            <a:off x="3741840" y="2206800"/>
            <a:ext cx="1469880" cy="581400"/>
          </a:xfrm>
          <a:prstGeom prst="rect">
            <a:avLst/>
          </a:prstGeom>
          <a:solidFill>
            <a:srgbClr val="c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Typing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65600" y="2205000"/>
            <a:ext cx="1416600" cy="581400"/>
          </a:xfrm>
          <a:prstGeom prst="rect">
            <a:avLst/>
          </a:prstGeom>
          <a:solidFill>
            <a:srgbClr val="8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Pars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738200" y="2205000"/>
            <a:ext cx="1276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ph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535360" y="2205000"/>
            <a:ext cx="18709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KNorm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063880" y="3618000"/>
            <a:ext cx="1278000" cy="106884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on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Fold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80160" y="3860640"/>
            <a:ext cx="126288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Inlin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8880" y="5473800"/>
            <a:ext cx="1634760" cy="58140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losur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46400" y="3860640"/>
            <a:ext cx="997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li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63400" y="5229360"/>
            <a:ext cx="1093680" cy="106884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Reg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l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27320" y="5473800"/>
            <a:ext cx="1428840" cy="58140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Virtu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857720" y="5473800"/>
            <a:ext cx="103860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mi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6880" y="2205000"/>
            <a:ext cx="1236960" cy="58140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Lex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37" idx="3"/>
            <a:endCxn id="136" idx="1"/>
          </p:cNvCxnSpPr>
          <p:nvPr/>
        </p:nvCxnSpPr>
        <p:spPr>
          <a:xfrm>
            <a:off x="3400560" y="2505240"/>
            <a:ext cx="3420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49" name=""/>
          <p:cNvCxnSpPr>
            <a:stCxn id="136" idx="3"/>
            <a:endCxn id="139" idx="1"/>
          </p:cNvCxnSpPr>
          <p:nvPr/>
        </p:nvCxnSpPr>
        <p:spPr>
          <a:xfrm flipV="1">
            <a:off x="5211720" y="2504880"/>
            <a:ext cx="3402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0" name=""/>
          <p:cNvCxnSpPr>
            <a:stCxn id="139" idx="3"/>
            <a:endCxn id="138" idx="1"/>
          </p:cNvCxnSpPr>
          <p:nvPr/>
        </p:nvCxnSpPr>
        <p:spPr>
          <a:xfrm>
            <a:off x="7389720" y="2504880"/>
            <a:ext cx="3420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1" name=""/>
          <p:cNvCxnSpPr>
            <a:stCxn id="143" idx="2"/>
            <a:endCxn id="142" idx="0"/>
          </p:cNvCxnSpPr>
          <p:nvPr/>
        </p:nvCxnSpPr>
        <p:spPr>
          <a:xfrm>
            <a:off x="945720" y="4468320"/>
            <a:ext cx="1080" cy="99612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2" name=""/>
          <p:cNvCxnSpPr>
            <a:stCxn id="147" idx="3"/>
            <a:endCxn id="137" idx="1"/>
          </p:cNvCxnSpPr>
          <p:nvPr/>
        </p:nvCxnSpPr>
        <p:spPr>
          <a:xfrm>
            <a:off x="1608120" y="2504880"/>
            <a:ext cx="3402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3" name=""/>
          <p:cNvCxnSpPr>
            <a:stCxn id="138" idx="2"/>
            <a:endCxn id="154" idx="0"/>
          </p:cNvCxnSpPr>
          <p:nvPr/>
        </p:nvCxnSpPr>
        <p:spPr>
          <a:xfrm>
            <a:off x="8376840" y="2813040"/>
            <a:ext cx="1080" cy="103860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5" name=""/>
          <p:cNvCxnSpPr>
            <a:stCxn id="141" idx="1"/>
            <a:endCxn id="140" idx="3"/>
          </p:cNvCxnSpPr>
          <p:nvPr/>
        </p:nvCxnSpPr>
        <p:spPr>
          <a:xfrm flipH="1">
            <a:off x="33440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6" name=""/>
          <p:cNvCxnSpPr>
            <a:stCxn id="140" idx="1"/>
            <a:endCxn id="143" idx="3"/>
          </p:cNvCxnSpPr>
          <p:nvPr/>
        </p:nvCxnSpPr>
        <p:spPr>
          <a:xfrm flipH="1">
            <a:off x="1453320" y="4160520"/>
            <a:ext cx="60732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7" name=""/>
          <p:cNvCxnSpPr>
            <a:stCxn id="142" idx="3"/>
            <a:endCxn id="145" idx="1"/>
          </p:cNvCxnSpPr>
          <p:nvPr/>
        </p:nvCxnSpPr>
        <p:spPr>
          <a:xfrm>
            <a:off x="175572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8" name=""/>
          <p:cNvCxnSpPr>
            <a:stCxn id="145" idx="3"/>
            <a:endCxn id="144" idx="1"/>
          </p:cNvCxnSpPr>
          <p:nvPr/>
        </p:nvCxnSpPr>
        <p:spPr>
          <a:xfrm flipV="1">
            <a:off x="3700440" y="577188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9" name=""/>
          <p:cNvCxnSpPr>
            <a:stCxn id="144" idx="3"/>
            <a:endCxn id="160" idx="1"/>
          </p:cNvCxnSpPr>
          <p:nvPr/>
        </p:nvCxnSpPr>
        <p:spPr>
          <a:xfrm>
            <a:off x="5292720" y="577224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61" name=""/>
          <p:cNvCxnSpPr>
            <a:stCxn id="143" idx="0"/>
            <a:endCxn id="154" idx="0"/>
          </p:cNvCxnSpPr>
          <p:nvPr/>
        </p:nvCxnSpPr>
        <p:spPr>
          <a:xfrm flipH="1" rot="16200000">
            <a:off x="4660920" y="136080"/>
            <a:ext cx="2160" cy="7431840"/>
          </a:xfrm>
          <a:prstGeom prst="curvedConnector5">
            <a:avLst>
              <a:gd name="adj1" fmla="val -31100000"/>
              <a:gd name="adj2" fmla="val 49997"/>
              <a:gd name="adj3" fmla="val -31100000"/>
            </a:avLst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162" name=""/>
          <p:cNvSpPr/>
          <p:nvPr/>
        </p:nvSpPr>
        <p:spPr>
          <a:xfrm>
            <a:off x="110700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0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9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7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5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9069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1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480880" y="278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94856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003840" y="4608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3220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32300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6772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882680" y="62784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6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240400" y="602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5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850880" y="3860640"/>
            <a:ext cx="105084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Bet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11920" y="3860640"/>
            <a:ext cx="12733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ss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175" name=""/>
          <p:cNvCxnSpPr>
            <a:stCxn id="154" idx="1"/>
            <a:endCxn id="174" idx="3"/>
          </p:cNvCxnSpPr>
          <p:nvPr/>
        </p:nvCxnSpPr>
        <p:spPr>
          <a:xfrm flipH="1">
            <a:off x="72176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76" name=""/>
          <p:cNvCxnSpPr>
            <a:stCxn id="174" idx="1"/>
            <a:endCxn id="141" idx="3"/>
          </p:cNvCxnSpPr>
          <p:nvPr/>
        </p:nvCxnSpPr>
        <p:spPr>
          <a:xfrm flipH="1">
            <a:off x="526968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177" name=""/>
          <p:cNvSpPr/>
          <p:nvPr/>
        </p:nvSpPr>
        <p:spPr>
          <a:xfrm>
            <a:off x="848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6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691600" y="5473800"/>
            <a:ext cx="173808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Simm1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179" name=""/>
          <p:cNvCxnSpPr>
            <a:stCxn id="160" idx="3"/>
            <a:endCxn id="146" idx="1"/>
          </p:cNvCxnSpPr>
          <p:nvPr/>
        </p:nvCxnSpPr>
        <p:spPr>
          <a:xfrm>
            <a:off x="740088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180" name=""/>
          <p:cNvSpPr/>
          <p:nvPr/>
        </p:nvSpPr>
        <p:spPr>
          <a:xfrm>
            <a:off x="7036200" y="602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Highlights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"</a:t>
            </a:r>
            <a:r>
              <a:rPr b="0" lang="ja-JP" sz="3200" spc="-1" strike="noStrike" u="sng">
                <a:solidFill>
                  <a:srgbClr val="ffffeb"/>
                </a:solidFill>
                <a:uFillTx/>
                <a:latin typeface="Comic Sans MS"/>
              </a:rPr>
              <a:t>Simple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and </a:t>
            </a:r>
            <a:r>
              <a:rPr b="0" lang="ja-JP" sz="3200" spc="-1" strike="noStrike" u="sng">
                <a:solidFill>
                  <a:srgbClr val="ffffeb"/>
                </a:solidFill>
                <a:uFillTx/>
                <a:latin typeface="Comic Sans MS"/>
              </a:rPr>
              <a:t>efficient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compiler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for a minimal functional language"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Only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2000 lines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of O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fficiency comparable to OCamlOpt and GCC for several application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Ray tracing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, Huffman encoding, etc.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Used for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undergraduates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in Tokyo since 2001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Lexing and Parsing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Written in OCamlLex and OCamlYacc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Given by the instructer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Algorithms are out of scope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Cf. packrat parsing [Ford 2002]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Type Inference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-2743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Based on standard unification</a:t>
            </a:r>
            <a:br>
              <a:rPr sz="3200"/>
            </a:b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using ML reference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94360" indent="-22860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Let-polymorphic version is</a:t>
            </a:r>
            <a:br>
              <a:rPr sz="2800"/>
            </a:b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already taught in PL lab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-2743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Free variables are treated as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external functions (or arrays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94360" indent="-22860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"Principal typing" [Jim 96] is</a:t>
            </a:r>
            <a:br>
              <a:rPr sz="2800"/>
            </a:b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automatically inferred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MinCaml: The Compiler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86" name=""/>
          <p:cNvSpPr/>
          <p:nvPr/>
        </p:nvSpPr>
        <p:spPr>
          <a:xfrm>
            <a:off x="3741840" y="2206800"/>
            <a:ext cx="1469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Typing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65600" y="2205000"/>
            <a:ext cx="141660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Pars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738200" y="2205000"/>
            <a:ext cx="1276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ph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535360" y="2205000"/>
            <a:ext cx="18709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KNorm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063880" y="3618000"/>
            <a:ext cx="1278000" cy="106884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on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Fold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80160" y="3860640"/>
            <a:ext cx="126288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Inlin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28880" y="5473800"/>
            <a:ext cx="1634760" cy="58140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losur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46400" y="3860640"/>
            <a:ext cx="997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li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163400" y="5229360"/>
            <a:ext cx="1093680" cy="106884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Reg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l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27320" y="5473800"/>
            <a:ext cx="1428840" cy="58140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Virtu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57720" y="5473800"/>
            <a:ext cx="103860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mi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6880" y="2205000"/>
            <a:ext cx="12369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Lex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87" idx="3"/>
            <a:endCxn id="186" idx="1"/>
          </p:cNvCxnSpPr>
          <p:nvPr/>
        </p:nvCxnSpPr>
        <p:spPr>
          <a:xfrm>
            <a:off x="3400560" y="2505240"/>
            <a:ext cx="3420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99" name=""/>
          <p:cNvCxnSpPr>
            <a:stCxn id="186" idx="3"/>
            <a:endCxn id="189" idx="1"/>
          </p:cNvCxnSpPr>
          <p:nvPr/>
        </p:nvCxnSpPr>
        <p:spPr>
          <a:xfrm flipV="1">
            <a:off x="5211720" y="2504880"/>
            <a:ext cx="3402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0" name=""/>
          <p:cNvCxnSpPr>
            <a:stCxn id="189" idx="3"/>
            <a:endCxn id="188" idx="1"/>
          </p:cNvCxnSpPr>
          <p:nvPr/>
        </p:nvCxnSpPr>
        <p:spPr>
          <a:xfrm>
            <a:off x="7389720" y="2504880"/>
            <a:ext cx="3420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1" name=""/>
          <p:cNvCxnSpPr>
            <a:stCxn id="193" idx="2"/>
            <a:endCxn id="192" idx="0"/>
          </p:cNvCxnSpPr>
          <p:nvPr/>
        </p:nvCxnSpPr>
        <p:spPr>
          <a:xfrm>
            <a:off x="945720" y="4468320"/>
            <a:ext cx="1080" cy="99612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2" name=""/>
          <p:cNvCxnSpPr>
            <a:stCxn id="197" idx="3"/>
            <a:endCxn id="187" idx="1"/>
          </p:cNvCxnSpPr>
          <p:nvPr/>
        </p:nvCxnSpPr>
        <p:spPr>
          <a:xfrm>
            <a:off x="1608120" y="2504880"/>
            <a:ext cx="3402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3" name=""/>
          <p:cNvCxnSpPr>
            <a:stCxn id="188" idx="2"/>
            <a:endCxn id="204" idx="0"/>
          </p:cNvCxnSpPr>
          <p:nvPr/>
        </p:nvCxnSpPr>
        <p:spPr>
          <a:xfrm>
            <a:off x="8376840" y="2813040"/>
            <a:ext cx="1080" cy="103860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5" name=""/>
          <p:cNvCxnSpPr>
            <a:stCxn id="191" idx="1"/>
            <a:endCxn id="190" idx="3"/>
          </p:cNvCxnSpPr>
          <p:nvPr/>
        </p:nvCxnSpPr>
        <p:spPr>
          <a:xfrm flipH="1">
            <a:off x="33440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6" name=""/>
          <p:cNvCxnSpPr>
            <a:stCxn id="190" idx="1"/>
            <a:endCxn id="193" idx="3"/>
          </p:cNvCxnSpPr>
          <p:nvPr/>
        </p:nvCxnSpPr>
        <p:spPr>
          <a:xfrm flipH="1">
            <a:off x="1453320" y="4160520"/>
            <a:ext cx="60732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7" name=""/>
          <p:cNvCxnSpPr>
            <a:stCxn id="192" idx="3"/>
            <a:endCxn id="195" idx="1"/>
          </p:cNvCxnSpPr>
          <p:nvPr/>
        </p:nvCxnSpPr>
        <p:spPr>
          <a:xfrm>
            <a:off x="175572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8" name=""/>
          <p:cNvCxnSpPr>
            <a:stCxn id="195" idx="3"/>
            <a:endCxn id="194" idx="1"/>
          </p:cNvCxnSpPr>
          <p:nvPr/>
        </p:nvCxnSpPr>
        <p:spPr>
          <a:xfrm flipV="1">
            <a:off x="3700440" y="577188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9" name=""/>
          <p:cNvCxnSpPr>
            <a:stCxn id="194" idx="3"/>
            <a:endCxn id="210" idx="1"/>
          </p:cNvCxnSpPr>
          <p:nvPr/>
        </p:nvCxnSpPr>
        <p:spPr>
          <a:xfrm>
            <a:off x="5292720" y="577224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11" name=""/>
          <p:cNvCxnSpPr>
            <a:stCxn id="193" idx="0"/>
            <a:endCxn id="204" idx="0"/>
          </p:cNvCxnSpPr>
          <p:nvPr/>
        </p:nvCxnSpPr>
        <p:spPr>
          <a:xfrm flipH="1" rot="16200000">
            <a:off x="4660920" y="136080"/>
            <a:ext cx="2160" cy="7431840"/>
          </a:xfrm>
          <a:prstGeom prst="curvedConnector5">
            <a:avLst>
              <a:gd name="adj1" fmla="val -31100000"/>
              <a:gd name="adj2" fmla="val 49997"/>
              <a:gd name="adj3" fmla="val -31100000"/>
            </a:avLst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212" name=""/>
          <p:cNvSpPr/>
          <p:nvPr/>
        </p:nvSpPr>
        <p:spPr>
          <a:xfrm>
            <a:off x="110700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0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9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7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5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069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1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480880" y="278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94856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003840" y="4608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13220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32300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6772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882680" y="62784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6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240400" y="602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5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850880" y="3860640"/>
            <a:ext cx="105084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Bet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911920" y="3860640"/>
            <a:ext cx="12733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ss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225" name=""/>
          <p:cNvCxnSpPr>
            <a:stCxn id="204" idx="1"/>
            <a:endCxn id="224" idx="3"/>
          </p:cNvCxnSpPr>
          <p:nvPr/>
        </p:nvCxnSpPr>
        <p:spPr>
          <a:xfrm flipH="1">
            <a:off x="72176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26" name=""/>
          <p:cNvCxnSpPr>
            <a:stCxn id="224" idx="1"/>
            <a:endCxn id="191" idx="3"/>
          </p:cNvCxnSpPr>
          <p:nvPr/>
        </p:nvCxnSpPr>
        <p:spPr>
          <a:xfrm flipH="1">
            <a:off x="526968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227" name=""/>
          <p:cNvSpPr/>
          <p:nvPr/>
        </p:nvSpPr>
        <p:spPr>
          <a:xfrm>
            <a:off x="848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86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691600" y="5473800"/>
            <a:ext cx="173808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Simm1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229" name=""/>
          <p:cNvCxnSpPr>
            <a:stCxn id="210" idx="3"/>
            <a:endCxn id="196" idx="1"/>
          </p:cNvCxnSpPr>
          <p:nvPr/>
        </p:nvCxnSpPr>
        <p:spPr>
          <a:xfrm>
            <a:off x="740088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230" name=""/>
          <p:cNvSpPr/>
          <p:nvPr/>
        </p:nvSpPr>
        <p:spPr>
          <a:xfrm>
            <a:off x="7036200" y="602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K-Normaliz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 + b + c * 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tmp1 = a + b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tmp2 = c * d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tmp1 + tmp2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Nesting </a:t>
            </a:r>
            <a:r>
              <a:rPr b="0" lang="ja-JP" sz="3200" spc="-1" strike="noStrike" u="sng">
                <a:solidFill>
                  <a:srgbClr val="ffffeb"/>
                </a:solidFill>
                <a:uFillTx/>
                <a:latin typeface="Comic Sans MS"/>
              </a:rPr>
              <a:t>is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allowed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 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(let y =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-21420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Simplifies the normalization and inlining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Cf. A-normalization by CPS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33" name=""/>
          <p:cNvSpPr/>
          <p:nvPr/>
        </p:nvSpPr>
        <p:spPr>
          <a:xfrm>
            <a:off x="3059280" y="1773360"/>
            <a:ext cx="3673440" cy="2735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Syntax of K-Normal Form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M, N ::=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op(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...,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 x the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else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M in 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x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x y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... y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=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x y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... y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...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mplemented as KNormal.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Algorithm of K-Normalization: Pseudo-Code Given to Students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buNone/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 : Syntax.t 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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KNormal.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buNone/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c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  =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buNone/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op(M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, ..., M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  =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= K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in ... let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= K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op(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...,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buNone/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if op(M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, ..., M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) then N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 else N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  =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= K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in ... let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= K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 op(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...,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then K(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else K(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buNone/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let x = M in N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  =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K(M) in K(N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buNone/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x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  =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x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tc.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-Conversion (Another</a:t>
            </a:r>
            <a:br>
              <a:rPr sz="4000"/>
            </a:b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Example of Pseudo-Code)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: KNormal.t 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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Id.t Map.t 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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KNormal.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>
              <a:spcBef>
                <a:spcPts val="799"/>
              </a:spcBef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>
              <a:lnSpc>
                <a:spcPct val="100000"/>
              </a:lnSpc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c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=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>
              <a:lnSpc>
                <a:spcPct val="100000"/>
              </a:lnSpc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op(x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, ..., x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=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op(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, ...,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>
              <a:lnSpc>
                <a:spcPct val="100000"/>
              </a:lnSpc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if x then N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 else N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=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x) then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else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>
              <a:lnSpc>
                <a:spcPct val="100000"/>
              </a:lnSpc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let x = M in N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=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x' fresh)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' =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M)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N)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[x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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x']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>
              <a:lnSpc>
                <a:spcPct val="100000"/>
              </a:lnSpc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x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= 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x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 algn="r"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tc.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MinCaml: The Compiler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41" name=""/>
          <p:cNvSpPr/>
          <p:nvPr/>
        </p:nvSpPr>
        <p:spPr>
          <a:xfrm>
            <a:off x="3741840" y="2206800"/>
            <a:ext cx="1469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Typing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965600" y="2205000"/>
            <a:ext cx="141660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Pars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738200" y="2205000"/>
            <a:ext cx="12765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ph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535360" y="2205000"/>
            <a:ext cx="187092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KNorm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063880" y="3618000"/>
            <a:ext cx="1278000" cy="106884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on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Fold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980160" y="3860640"/>
            <a:ext cx="126288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Inlin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28880" y="5473800"/>
            <a:ext cx="1634760" cy="58140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losur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46400" y="3860640"/>
            <a:ext cx="997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li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163400" y="5229360"/>
            <a:ext cx="1093680" cy="106884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Reg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l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227320" y="5473800"/>
            <a:ext cx="1428840" cy="58140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Virtu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857720" y="5473800"/>
            <a:ext cx="103860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mi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26880" y="2205000"/>
            <a:ext cx="12369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Lex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253" name=""/>
          <p:cNvCxnSpPr>
            <a:stCxn id="242" idx="3"/>
            <a:endCxn id="241" idx="1"/>
          </p:cNvCxnSpPr>
          <p:nvPr/>
        </p:nvCxnSpPr>
        <p:spPr>
          <a:xfrm>
            <a:off x="3400560" y="2505240"/>
            <a:ext cx="3420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54" name=""/>
          <p:cNvCxnSpPr>
            <a:stCxn id="241" idx="3"/>
            <a:endCxn id="244" idx="1"/>
          </p:cNvCxnSpPr>
          <p:nvPr/>
        </p:nvCxnSpPr>
        <p:spPr>
          <a:xfrm flipV="1">
            <a:off x="5211720" y="2504880"/>
            <a:ext cx="3402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55" name=""/>
          <p:cNvCxnSpPr>
            <a:stCxn id="244" idx="3"/>
            <a:endCxn id="243" idx="1"/>
          </p:cNvCxnSpPr>
          <p:nvPr/>
        </p:nvCxnSpPr>
        <p:spPr>
          <a:xfrm>
            <a:off x="7389720" y="2504880"/>
            <a:ext cx="3420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56" name=""/>
          <p:cNvCxnSpPr>
            <a:stCxn id="248" idx="2"/>
            <a:endCxn id="247" idx="0"/>
          </p:cNvCxnSpPr>
          <p:nvPr/>
        </p:nvCxnSpPr>
        <p:spPr>
          <a:xfrm>
            <a:off x="945720" y="4468320"/>
            <a:ext cx="1080" cy="99612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57" name=""/>
          <p:cNvCxnSpPr>
            <a:stCxn id="252" idx="3"/>
            <a:endCxn id="242" idx="1"/>
          </p:cNvCxnSpPr>
          <p:nvPr/>
        </p:nvCxnSpPr>
        <p:spPr>
          <a:xfrm>
            <a:off x="1608120" y="2504880"/>
            <a:ext cx="3402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58" name=""/>
          <p:cNvCxnSpPr>
            <a:stCxn id="243" idx="2"/>
            <a:endCxn id="259" idx="0"/>
          </p:cNvCxnSpPr>
          <p:nvPr/>
        </p:nvCxnSpPr>
        <p:spPr>
          <a:xfrm>
            <a:off x="8376840" y="2813040"/>
            <a:ext cx="1080" cy="103860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60" name=""/>
          <p:cNvCxnSpPr>
            <a:stCxn id="246" idx="1"/>
            <a:endCxn id="245" idx="3"/>
          </p:cNvCxnSpPr>
          <p:nvPr/>
        </p:nvCxnSpPr>
        <p:spPr>
          <a:xfrm flipH="1">
            <a:off x="33440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61" name=""/>
          <p:cNvCxnSpPr>
            <a:stCxn id="245" idx="1"/>
            <a:endCxn id="248" idx="3"/>
          </p:cNvCxnSpPr>
          <p:nvPr/>
        </p:nvCxnSpPr>
        <p:spPr>
          <a:xfrm flipH="1">
            <a:off x="1453320" y="4160520"/>
            <a:ext cx="60732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62" name=""/>
          <p:cNvCxnSpPr>
            <a:stCxn id="247" idx="3"/>
            <a:endCxn id="250" idx="1"/>
          </p:cNvCxnSpPr>
          <p:nvPr/>
        </p:nvCxnSpPr>
        <p:spPr>
          <a:xfrm>
            <a:off x="175572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63" name=""/>
          <p:cNvCxnSpPr>
            <a:stCxn id="250" idx="3"/>
            <a:endCxn id="249" idx="1"/>
          </p:cNvCxnSpPr>
          <p:nvPr/>
        </p:nvCxnSpPr>
        <p:spPr>
          <a:xfrm flipV="1">
            <a:off x="3700440" y="577188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64" name=""/>
          <p:cNvCxnSpPr>
            <a:stCxn id="249" idx="3"/>
            <a:endCxn id="265" idx="1"/>
          </p:cNvCxnSpPr>
          <p:nvPr/>
        </p:nvCxnSpPr>
        <p:spPr>
          <a:xfrm>
            <a:off x="5292720" y="577224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66" name=""/>
          <p:cNvCxnSpPr>
            <a:stCxn id="248" idx="0"/>
            <a:endCxn id="259" idx="0"/>
          </p:cNvCxnSpPr>
          <p:nvPr/>
        </p:nvCxnSpPr>
        <p:spPr>
          <a:xfrm flipH="1" rot="16200000">
            <a:off x="4660920" y="136080"/>
            <a:ext cx="2160" cy="7431840"/>
          </a:xfrm>
          <a:prstGeom prst="curvedConnector5">
            <a:avLst>
              <a:gd name="adj1" fmla="val -31100000"/>
              <a:gd name="adj2" fmla="val 49997"/>
              <a:gd name="adj3" fmla="val -31100000"/>
            </a:avLst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267" name=""/>
          <p:cNvSpPr/>
          <p:nvPr/>
        </p:nvSpPr>
        <p:spPr>
          <a:xfrm>
            <a:off x="110700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0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9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7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5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9069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1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480880" y="278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94856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03840" y="4608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13220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32300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26772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882680" y="62784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6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240400" y="602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5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850880" y="3860640"/>
            <a:ext cx="105084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Bet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911920" y="3860640"/>
            <a:ext cx="12733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ss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280" name=""/>
          <p:cNvCxnSpPr>
            <a:stCxn id="259" idx="1"/>
            <a:endCxn id="279" idx="3"/>
          </p:cNvCxnSpPr>
          <p:nvPr/>
        </p:nvCxnSpPr>
        <p:spPr>
          <a:xfrm flipH="1">
            <a:off x="72176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81" name=""/>
          <p:cNvCxnSpPr>
            <a:stCxn id="279" idx="1"/>
            <a:endCxn id="246" idx="3"/>
          </p:cNvCxnSpPr>
          <p:nvPr/>
        </p:nvCxnSpPr>
        <p:spPr>
          <a:xfrm flipH="1">
            <a:off x="526968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282" name=""/>
          <p:cNvSpPr/>
          <p:nvPr/>
        </p:nvSpPr>
        <p:spPr>
          <a:xfrm>
            <a:off x="848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86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691600" y="5473800"/>
            <a:ext cx="173808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Simm1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284" name=""/>
          <p:cNvCxnSpPr>
            <a:stCxn id="265" idx="3"/>
            <a:endCxn id="251" idx="1"/>
          </p:cNvCxnSpPr>
          <p:nvPr/>
        </p:nvCxnSpPr>
        <p:spPr>
          <a:xfrm>
            <a:off x="740088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285" name=""/>
          <p:cNvSpPr/>
          <p:nvPr/>
        </p:nvSpPr>
        <p:spPr>
          <a:xfrm>
            <a:off x="7036200" y="602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Symbol"/>
                <a:ea typeface="Symbol"/>
              </a:rPr>
              <a:t></a:t>
            </a: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-Reduc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y in M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 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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[y/x]M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Pseudo-code (similar to previous examples) is left as an exercise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88" name=""/>
          <p:cNvSpPr/>
          <p:nvPr/>
        </p:nvSpPr>
        <p:spPr>
          <a:xfrm>
            <a:off x="2340000" y="2276640"/>
            <a:ext cx="5184720" cy="720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Nested "Let" Reduc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y = (let x =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let y =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-236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Resembles A-normalization,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but does </a:t>
            </a:r>
            <a:r>
              <a:rPr b="0" lang="ja-JP" sz="3200" spc="-1" strike="noStrike" u="sng">
                <a:solidFill>
                  <a:srgbClr val="ffffeb"/>
                </a:solidFill>
                <a:uFillTx/>
                <a:latin typeface="Comic Sans MS"/>
              </a:rPr>
              <a:t>not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expand "if"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[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 M then 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else 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]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    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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 x then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[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]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else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[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]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1" name=""/>
          <p:cNvSpPr/>
          <p:nvPr/>
        </p:nvSpPr>
        <p:spPr>
          <a:xfrm>
            <a:off x="2050920" y="2276640"/>
            <a:ext cx="5761080" cy="1873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Outline of This Talk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Pedagogical backgroun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Design and implementation of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fficienc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Inlining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016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nlines all "small" function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016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ncludes recursive one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"Small" = less than a constant size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User-specified by "-inline" option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Repeat for a constant number of time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User-specified by "-iter" option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onstant Folding and</a:t>
            </a:r>
            <a:br>
              <a:rPr sz="4000"/>
            </a:b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Unused Variable Elimin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3 in let y = 7 in x + 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3 in let y = 7 in 10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10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ffective after inlining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2268360" y="2276640"/>
            <a:ext cx="5328000" cy="3024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MinCaml: The Compiler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3741840" y="2206800"/>
            <a:ext cx="1469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Typing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965600" y="2205000"/>
            <a:ext cx="141660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Pars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738200" y="2205000"/>
            <a:ext cx="12765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ph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535360" y="2205000"/>
            <a:ext cx="187092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KNorm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063880" y="3618000"/>
            <a:ext cx="1278000" cy="10688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on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Fold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980160" y="3860640"/>
            <a:ext cx="1262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Inlin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28880" y="5473800"/>
            <a:ext cx="1634760" cy="58140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losur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46400" y="3860640"/>
            <a:ext cx="9975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li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163400" y="5229360"/>
            <a:ext cx="1093680" cy="106884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Reg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l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227320" y="5473800"/>
            <a:ext cx="1428840" cy="58140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Virtu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857720" y="5473800"/>
            <a:ext cx="103860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mi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26880" y="2205000"/>
            <a:ext cx="12369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Lex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310" name=""/>
          <p:cNvCxnSpPr>
            <a:stCxn id="299" idx="3"/>
            <a:endCxn id="298" idx="1"/>
          </p:cNvCxnSpPr>
          <p:nvPr/>
        </p:nvCxnSpPr>
        <p:spPr>
          <a:xfrm>
            <a:off x="3400560" y="2505240"/>
            <a:ext cx="3420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1" name=""/>
          <p:cNvCxnSpPr>
            <a:stCxn id="298" idx="3"/>
            <a:endCxn id="301" idx="1"/>
          </p:cNvCxnSpPr>
          <p:nvPr/>
        </p:nvCxnSpPr>
        <p:spPr>
          <a:xfrm flipV="1">
            <a:off x="5211720" y="2504880"/>
            <a:ext cx="3402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2" name=""/>
          <p:cNvCxnSpPr>
            <a:stCxn id="301" idx="3"/>
            <a:endCxn id="300" idx="1"/>
          </p:cNvCxnSpPr>
          <p:nvPr/>
        </p:nvCxnSpPr>
        <p:spPr>
          <a:xfrm>
            <a:off x="7389720" y="2504880"/>
            <a:ext cx="3420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3" name=""/>
          <p:cNvCxnSpPr>
            <a:stCxn id="305" idx="2"/>
            <a:endCxn id="304" idx="0"/>
          </p:cNvCxnSpPr>
          <p:nvPr/>
        </p:nvCxnSpPr>
        <p:spPr>
          <a:xfrm>
            <a:off x="945720" y="4468320"/>
            <a:ext cx="1080" cy="99612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4" name=""/>
          <p:cNvCxnSpPr>
            <a:stCxn id="309" idx="3"/>
            <a:endCxn id="299" idx="1"/>
          </p:cNvCxnSpPr>
          <p:nvPr/>
        </p:nvCxnSpPr>
        <p:spPr>
          <a:xfrm>
            <a:off x="1608120" y="2504880"/>
            <a:ext cx="3402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5" name=""/>
          <p:cNvCxnSpPr>
            <a:stCxn id="300" idx="2"/>
            <a:endCxn id="316" idx="0"/>
          </p:cNvCxnSpPr>
          <p:nvPr/>
        </p:nvCxnSpPr>
        <p:spPr>
          <a:xfrm>
            <a:off x="8376840" y="2813040"/>
            <a:ext cx="1080" cy="103860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7" name=""/>
          <p:cNvCxnSpPr>
            <a:stCxn id="303" idx="1"/>
            <a:endCxn id="302" idx="3"/>
          </p:cNvCxnSpPr>
          <p:nvPr/>
        </p:nvCxnSpPr>
        <p:spPr>
          <a:xfrm flipH="1">
            <a:off x="33440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8" name=""/>
          <p:cNvCxnSpPr>
            <a:stCxn id="302" idx="1"/>
            <a:endCxn id="305" idx="3"/>
          </p:cNvCxnSpPr>
          <p:nvPr/>
        </p:nvCxnSpPr>
        <p:spPr>
          <a:xfrm flipH="1">
            <a:off x="1453320" y="4160520"/>
            <a:ext cx="60732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9" name=""/>
          <p:cNvCxnSpPr>
            <a:stCxn id="304" idx="3"/>
            <a:endCxn id="307" idx="1"/>
          </p:cNvCxnSpPr>
          <p:nvPr/>
        </p:nvCxnSpPr>
        <p:spPr>
          <a:xfrm>
            <a:off x="175572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20" name=""/>
          <p:cNvCxnSpPr>
            <a:stCxn id="307" idx="3"/>
            <a:endCxn id="306" idx="1"/>
          </p:cNvCxnSpPr>
          <p:nvPr/>
        </p:nvCxnSpPr>
        <p:spPr>
          <a:xfrm flipV="1">
            <a:off x="3700440" y="577188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21" name=""/>
          <p:cNvCxnSpPr>
            <a:stCxn id="306" idx="3"/>
            <a:endCxn id="322" idx="1"/>
          </p:cNvCxnSpPr>
          <p:nvPr/>
        </p:nvCxnSpPr>
        <p:spPr>
          <a:xfrm>
            <a:off x="5292720" y="577224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23" name=""/>
          <p:cNvCxnSpPr>
            <a:stCxn id="305" idx="0"/>
            <a:endCxn id="316" idx="0"/>
          </p:cNvCxnSpPr>
          <p:nvPr/>
        </p:nvCxnSpPr>
        <p:spPr>
          <a:xfrm flipH="1" rot="16200000">
            <a:off x="4660920" y="136080"/>
            <a:ext cx="2160" cy="7431840"/>
          </a:xfrm>
          <a:prstGeom prst="curvedConnector5">
            <a:avLst>
              <a:gd name="adj1" fmla="val -31100000"/>
              <a:gd name="adj2" fmla="val 49997"/>
              <a:gd name="adj3" fmla="val -31100000"/>
            </a:avLst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324" name=""/>
          <p:cNvSpPr/>
          <p:nvPr/>
        </p:nvSpPr>
        <p:spPr>
          <a:xfrm>
            <a:off x="110700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0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9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7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5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9069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1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8480880" y="278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94856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003840" y="4608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13220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32300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26772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882680" y="62784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6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240400" y="602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5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850880" y="3860640"/>
            <a:ext cx="105084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Bet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911920" y="3860640"/>
            <a:ext cx="127332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ss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337" name=""/>
          <p:cNvCxnSpPr>
            <a:stCxn id="316" idx="1"/>
            <a:endCxn id="336" idx="3"/>
          </p:cNvCxnSpPr>
          <p:nvPr/>
        </p:nvCxnSpPr>
        <p:spPr>
          <a:xfrm flipH="1">
            <a:off x="72176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38" name=""/>
          <p:cNvCxnSpPr>
            <a:stCxn id="336" idx="1"/>
            <a:endCxn id="303" idx="3"/>
          </p:cNvCxnSpPr>
          <p:nvPr/>
        </p:nvCxnSpPr>
        <p:spPr>
          <a:xfrm flipH="1">
            <a:off x="526968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339" name=""/>
          <p:cNvSpPr/>
          <p:nvPr/>
        </p:nvSpPr>
        <p:spPr>
          <a:xfrm>
            <a:off x="848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86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691600" y="5473800"/>
            <a:ext cx="173808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Simm1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341" name=""/>
          <p:cNvCxnSpPr>
            <a:stCxn id="322" idx="3"/>
            <a:endCxn id="308" idx="1"/>
          </p:cNvCxnSpPr>
          <p:nvPr/>
        </p:nvCxnSpPr>
        <p:spPr>
          <a:xfrm>
            <a:off x="740088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342" name=""/>
          <p:cNvSpPr/>
          <p:nvPr/>
        </p:nvSpPr>
        <p:spPr>
          <a:xfrm>
            <a:off x="7036200" y="602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losure Convers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Local function definitions (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+   function application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lnSpc>
                <a:spcPct val="50000"/>
              </a:lnSpc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lnSpc>
                <a:spcPct val="50000"/>
              </a:lnSpc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Top-level function definition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400" spc="-1" strike="noStrike">
                <a:solidFill>
                  <a:srgbClr val="ffffeb"/>
                </a:solidFill>
                <a:latin typeface="Wingdings"/>
                <a:ea typeface="Wingdings"/>
              </a:rPr>
              <a:t>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losure creations (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ake_closure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400" spc="-1" strike="noStrike">
                <a:solidFill>
                  <a:srgbClr val="ffffeb"/>
                </a:solidFill>
                <a:latin typeface="Wingdings"/>
                <a:ea typeface="Wingdings"/>
              </a:rPr>
              <a:t>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losure applications (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pply_closure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400" spc="-1" strike="noStrike">
                <a:solidFill>
                  <a:srgbClr val="ffffeb"/>
                </a:solidFill>
                <a:latin typeface="Wingdings"/>
                <a:ea typeface="Wingdings"/>
              </a:rPr>
              <a:t>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nown function calls (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pply_direct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Example 1:</a:t>
            </a:r>
            <a:br>
              <a:rPr sz="4000"/>
            </a:b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losure Creation/Applic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3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f y = x + y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f 7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07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f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top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[x] y = x + y ;;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0720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3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ake_closure f = (f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top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[x])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pply_closure f 7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Example 2: Known Function Call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f x = x + 3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f, f 7) 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94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f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top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[] x = x + 3 ;;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94840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ake_closure f = (f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top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[])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f, apply_direct f 7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Example 3:</a:t>
            </a:r>
            <a:br>
              <a:rPr sz="4000"/>
            </a:b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Unused Closure Elimin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f x = x + 3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f 7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f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top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[] x = x + 3 ;;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39480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pply_direct f 7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MinCaml: The Compiler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52" name=""/>
          <p:cNvSpPr/>
          <p:nvPr/>
        </p:nvSpPr>
        <p:spPr>
          <a:xfrm>
            <a:off x="3741840" y="2206800"/>
            <a:ext cx="1469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Typing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965600" y="2205000"/>
            <a:ext cx="141660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Pars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738200" y="2205000"/>
            <a:ext cx="12765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ph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535360" y="2205000"/>
            <a:ext cx="187092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KNorm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063880" y="3618000"/>
            <a:ext cx="1278000" cy="10688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on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Fold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980160" y="3860640"/>
            <a:ext cx="1262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Inlin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28880" y="5473800"/>
            <a:ext cx="16347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losur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46400" y="3860640"/>
            <a:ext cx="9975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li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163400" y="5229360"/>
            <a:ext cx="1093680" cy="106884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Reg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l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227320" y="5473800"/>
            <a:ext cx="1428840" cy="58140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Virtu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857720" y="5473800"/>
            <a:ext cx="103860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mi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26880" y="2205000"/>
            <a:ext cx="12369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Lex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364" name=""/>
          <p:cNvCxnSpPr>
            <a:stCxn id="353" idx="3"/>
            <a:endCxn id="352" idx="1"/>
          </p:cNvCxnSpPr>
          <p:nvPr/>
        </p:nvCxnSpPr>
        <p:spPr>
          <a:xfrm>
            <a:off x="3400560" y="2505240"/>
            <a:ext cx="3420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65" name=""/>
          <p:cNvCxnSpPr>
            <a:stCxn id="352" idx="3"/>
            <a:endCxn id="355" idx="1"/>
          </p:cNvCxnSpPr>
          <p:nvPr/>
        </p:nvCxnSpPr>
        <p:spPr>
          <a:xfrm flipV="1">
            <a:off x="5211720" y="2504880"/>
            <a:ext cx="3402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66" name=""/>
          <p:cNvCxnSpPr>
            <a:stCxn id="355" idx="3"/>
            <a:endCxn id="354" idx="1"/>
          </p:cNvCxnSpPr>
          <p:nvPr/>
        </p:nvCxnSpPr>
        <p:spPr>
          <a:xfrm>
            <a:off x="7389720" y="2504880"/>
            <a:ext cx="3420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67" name=""/>
          <p:cNvCxnSpPr>
            <a:stCxn id="359" idx="2"/>
            <a:endCxn id="358" idx="0"/>
          </p:cNvCxnSpPr>
          <p:nvPr/>
        </p:nvCxnSpPr>
        <p:spPr>
          <a:xfrm>
            <a:off x="945720" y="4468320"/>
            <a:ext cx="1080" cy="99612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68" name=""/>
          <p:cNvCxnSpPr>
            <a:stCxn id="363" idx="3"/>
            <a:endCxn id="353" idx="1"/>
          </p:cNvCxnSpPr>
          <p:nvPr/>
        </p:nvCxnSpPr>
        <p:spPr>
          <a:xfrm>
            <a:off x="1608120" y="2504880"/>
            <a:ext cx="3402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69" name=""/>
          <p:cNvCxnSpPr>
            <a:stCxn id="354" idx="2"/>
            <a:endCxn id="370" idx="0"/>
          </p:cNvCxnSpPr>
          <p:nvPr/>
        </p:nvCxnSpPr>
        <p:spPr>
          <a:xfrm>
            <a:off x="8376840" y="2813040"/>
            <a:ext cx="1080" cy="103860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71" name=""/>
          <p:cNvCxnSpPr>
            <a:stCxn id="357" idx="1"/>
            <a:endCxn id="356" idx="3"/>
          </p:cNvCxnSpPr>
          <p:nvPr/>
        </p:nvCxnSpPr>
        <p:spPr>
          <a:xfrm flipH="1">
            <a:off x="33440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72" name=""/>
          <p:cNvCxnSpPr>
            <a:stCxn id="356" idx="1"/>
            <a:endCxn id="359" idx="3"/>
          </p:cNvCxnSpPr>
          <p:nvPr/>
        </p:nvCxnSpPr>
        <p:spPr>
          <a:xfrm flipH="1">
            <a:off x="1453320" y="4160520"/>
            <a:ext cx="60732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73" name=""/>
          <p:cNvCxnSpPr>
            <a:stCxn id="358" idx="3"/>
            <a:endCxn id="361" idx="1"/>
          </p:cNvCxnSpPr>
          <p:nvPr/>
        </p:nvCxnSpPr>
        <p:spPr>
          <a:xfrm>
            <a:off x="175572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74" name=""/>
          <p:cNvCxnSpPr>
            <a:stCxn id="361" idx="3"/>
            <a:endCxn id="360" idx="1"/>
          </p:cNvCxnSpPr>
          <p:nvPr/>
        </p:nvCxnSpPr>
        <p:spPr>
          <a:xfrm flipV="1">
            <a:off x="3700440" y="577188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75" name=""/>
          <p:cNvCxnSpPr>
            <a:stCxn id="360" idx="3"/>
            <a:endCxn id="376" idx="1"/>
          </p:cNvCxnSpPr>
          <p:nvPr/>
        </p:nvCxnSpPr>
        <p:spPr>
          <a:xfrm>
            <a:off x="5292720" y="577224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77" name=""/>
          <p:cNvCxnSpPr>
            <a:stCxn id="359" idx="0"/>
            <a:endCxn id="370" idx="0"/>
          </p:cNvCxnSpPr>
          <p:nvPr/>
        </p:nvCxnSpPr>
        <p:spPr>
          <a:xfrm flipH="1" rot="16200000">
            <a:off x="4660920" y="136080"/>
            <a:ext cx="2160" cy="7431840"/>
          </a:xfrm>
          <a:prstGeom prst="curvedConnector5">
            <a:avLst>
              <a:gd name="adj1" fmla="val -31100000"/>
              <a:gd name="adj2" fmla="val 49997"/>
              <a:gd name="adj3" fmla="val -31100000"/>
            </a:avLst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378" name=""/>
          <p:cNvSpPr/>
          <p:nvPr/>
        </p:nvSpPr>
        <p:spPr>
          <a:xfrm>
            <a:off x="110700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0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9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7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5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9069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1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8480880" y="278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94856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003840" y="4608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13220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32300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26772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882680" y="62784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6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240400" y="602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5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850880" y="3860640"/>
            <a:ext cx="105084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Bet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911920" y="3860640"/>
            <a:ext cx="127332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ss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391" name=""/>
          <p:cNvCxnSpPr>
            <a:stCxn id="370" idx="1"/>
            <a:endCxn id="390" idx="3"/>
          </p:cNvCxnSpPr>
          <p:nvPr/>
        </p:nvCxnSpPr>
        <p:spPr>
          <a:xfrm flipH="1">
            <a:off x="72176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92" name=""/>
          <p:cNvCxnSpPr>
            <a:stCxn id="390" idx="1"/>
            <a:endCxn id="357" idx="3"/>
          </p:cNvCxnSpPr>
          <p:nvPr/>
        </p:nvCxnSpPr>
        <p:spPr>
          <a:xfrm flipH="1">
            <a:off x="526968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393" name=""/>
          <p:cNvSpPr/>
          <p:nvPr/>
        </p:nvSpPr>
        <p:spPr>
          <a:xfrm>
            <a:off x="848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86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691600" y="5473800"/>
            <a:ext cx="173808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Simm1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395" name=""/>
          <p:cNvCxnSpPr>
            <a:stCxn id="376" idx="3"/>
            <a:endCxn id="362" idx="1"/>
          </p:cNvCxnSpPr>
          <p:nvPr/>
        </p:nvCxnSpPr>
        <p:spPr>
          <a:xfrm>
            <a:off x="740088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396" name=""/>
          <p:cNvSpPr/>
          <p:nvPr/>
        </p:nvSpPr>
        <p:spPr>
          <a:xfrm>
            <a:off x="7036200" y="602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Virtual Machine Code Gener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SPARC assembly with: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nfinite number of registers/variable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Top-level function definitions and calls (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all_closure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,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all_direct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onditional expressions (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3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3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Tuple creations/accesses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nd closure creations are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expanded to stores and load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Register Alloc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75000"/>
          </a:bodyPr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Greedy algorithm with: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Look-ahead for targeting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let x = 3 in let y = 7 in f y x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Symbol"/>
                <a:ea typeface="Symbol"/>
              </a:rPr>
              <a:t>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let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 = 3 in let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 = 7 in f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Backtracking for "early save"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let x = 3 in</a:t>
            </a:r>
            <a:br>
              <a:rPr sz="2800"/>
            </a:b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...; f (); ...; x + 7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Symbol"/>
                <a:ea typeface="Symbol"/>
              </a:rPr>
              <a:t>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let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 = 3 in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save(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, x); ...; f (); ...; restore(x,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);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 + 7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1" name=""/>
          <p:cNvSpPr/>
          <p:nvPr/>
        </p:nvSpPr>
        <p:spPr>
          <a:xfrm>
            <a:off x="1835280" y="6021360"/>
            <a:ext cx="1944720" cy="503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omputer Science for</a:t>
            </a:r>
            <a:br>
              <a:rPr sz="4000"/>
            </a:b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Undergraduates in Tokyo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Liberal arts (1.5 yr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English, German/Chinese/French/Spanish, mathematics, logic, physics, chemistry, ...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Computer literacy, CS introduction,</a:t>
            </a:r>
            <a:br>
              <a:rPr sz="2800"/>
            </a:b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Java programming, data structures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S major (2.5 yr) [~30 students/yr]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Algorithms, OS, architecture, ...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SPARC assembly, C, C++, Scheme, OCaml, Prolog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13-Bit Immediate Optimiz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Specific to SPARC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“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nlining” or "constant folding"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for integers from -4096 to 4095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set 123, %r1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dd %r1, %r2, %r3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dd %r2, 123, %r3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5734080"/>
            <a:ext cx="792000" cy="503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Assembly Gener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Lengthy (256 lines)</a:t>
            </a:r>
            <a:br>
              <a:rPr sz="3200"/>
            </a:b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but eas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-2811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Tail call optimization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-2811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Stack map computation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-2811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Register shuffling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09120" indent="-2343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Somewhat tricky but short (11 lines)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Outline of This Talk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Pedagogical backgroun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Design and implementation of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Efficienc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Environment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Machine: Sun Fire V880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4 Ultra SPARC III 1.2GHz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8 GB main memory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Solaris 9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ompilers: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601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MinCaml</a:t>
            </a:r>
            <a:r>
              <a:rPr b="0" lang="ja-JP" sz="2400" spc="-1" strike="noStrike">
                <a:solidFill>
                  <a:srgbClr val="ffffeb"/>
                </a:solidFill>
                <a:latin typeface="Comic Sans MS"/>
              </a:rPr>
              <a:t> (32 bit, -iter 1000 -inline 100)</a:t>
            </a:r>
            <a:endParaRPr b="0" lang="en-US" sz="24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601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OCamlOpt 3.08.3</a:t>
            </a:r>
            <a:r>
              <a:rPr b="0" lang="ja-JP" sz="2400" spc="-1" strike="noStrike">
                <a:solidFill>
                  <a:srgbClr val="ffffeb"/>
                </a:solidFill>
                <a:latin typeface="Comic Sans MS"/>
              </a:rPr>
              <a:t> (32 bit, -unsafe -inline 100)</a:t>
            </a:r>
            <a:endParaRPr b="0" lang="en-US" sz="24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601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GCC 4.0.0 20050319</a:t>
            </a:r>
            <a:r>
              <a:rPr b="0" lang="ja-JP" sz="2400" spc="-1" strike="noStrike">
                <a:solidFill>
                  <a:srgbClr val="ffffeb"/>
                </a:solidFill>
                <a:latin typeface="Comic Sans MS"/>
              </a:rPr>
              <a:t> (32 bit and 64 bit, -O3)</a:t>
            </a:r>
            <a:endParaRPr b="0" lang="en-US" sz="24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601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GCC 3.4.3</a:t>
            </a:r>
            <a:r>
              <a:rPr b="0" lang="ja-JP" sz="2400" spc="-1" strike="noStrike">
                <a:solidFill>
                  <a:srgbClr val="ffffeb"/>
                </a:solidFill>
                <a:latin typeface="Comic Sans MS"/>
              </a:rPr>
              <a:t> (32 bit "flat model", -O3)</a:t>
            </a:r>
            <a:endParaRPr b="0" lang="en-US" sz="24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Applications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Functiona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Ackermann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Fibonacci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Takeuchi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63880" indent="-2638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Imperative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Ray tracing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Harmonic function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Mandelbrot set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Huffman encoding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3" name=""/>
          <p:cNvGraphicFramePr/>
          <p:nvPr/>
        </p:nvGraphicFramePr>
        <p:xfrm>
          <a:off x="179280" y="430200"/>
          <a:ext cx="8785440" cy="599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430200"/>
                    <a:ext cx="878544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5" name=""/>
          <p:cNvGraphicFramePr/>
          <p:nvPr/>
        </p:nvGraphicFramePr>
        <p:xfrm>
          <a:off x="179280" y="428760"/>
          <a:ext cx="8785440" cy="599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428760"/>
                    <a:ext cx="878544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Summary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"Simple and efficient compiler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for a minimal functional language"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Future work: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3880" indent="-2638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Improve the register allocation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eb"/>
                </a:solidFill>
                <a:uFillTx/>
                <a:latin typeface="Comic Sans MS"/>
              </a:rPr>
              <a:t>By far</a:t>
            </a: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 more complex than other modules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Too slow at compile time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63880" indent="-2638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Retarget to IA-32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2-operand instructions (which are "destructive" by definition) and FPU stack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3046320" y="3968640"/>
            <a:ext cx="3051360" cy="11588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057760" y="2421000"/>
            <a:ext cx="502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cc00"/>
                </a:solidFill>
                <a:latin typeface="Comic Sans MS"/>
              </a:rPr>
              <a:t>http://min-caml.sf.net/</a:t>
            </a:r>
            <a:endParaRPr b="0" lang="en-US" sz="36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Programming Languages for</a:t>
            </a:r>
            <a:br>
              <a:rPr sz="4000"/>
            </a:b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S Major in Tokyo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PL labs (63 hr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Mini-Scheme interpreter in Scheme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,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Mini-ML interpreter in OCaml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,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Othello/Reversi competition in OCaml, etc.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ompiler lecture (21 hr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Parsing, intermediate representations, register allocation, garbage collection, ...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PL theory lectures (42 hr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lnSpc>
                <a:spcPct val="10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Symbol"/>
                <a:ea typeface="Symbol"/>
              </a:rPr>
              <a:t>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-calculus, semantics, type theory, ...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PU/Compiler Labs (126 hr)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lnSpc>
                <a:spcPct val="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PU lab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42160" indent="-2084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Design and implement original CPUs by using VHDL and FPGA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ompiler lab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42160" indent="-2084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Develop compilers for the original CPUs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42160" indent="-20844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MinCaml is used here!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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ompete by the speed of ray tracing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5-6 students per group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11" name=""/>
          <p:cNvSpPr/>
          <p:nvPr/>
        </p:nvSpPr>
        <p:spPr>
          <a:xfrm>
            <a:off x="1258920" y="3645000"/>
            <a:ext cx="7200720" cy="1584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79280" y="133200"/>
            <a:ext cx="8785440" cy="65692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001400" y="6400800"/>
            <a:ext cx="5101560" cy="45972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Comic Sans MS"/>
              </a:rPr>
              <a:t>Special thanks to Hiraki laboratory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222200" y="71280"/>
            <a:ext cx="6697800" cy="66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24000" y="71280"/>
            <a:ext cx="6697800" cy="66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00:14:59Z</dcterms:created>
  <dc:creator>Eijiro Sumii</dc:creator>
  <dc:description/>
  <dc:language>en-US</dc:language>
  <cp:lastModifiedBy>小林研究室</cp:lastModifiedBy>
  <dcterms:modified xsi:type="dcterms:W3CDTF">2005-09-25T11:54:52Z</dcterms:modified>
  <cp:revision>260</cp:revision>
  <dc:subject/>
  <dc:title>MinCaml: A Simple and Efficient Compiler for a Minimal Functional Language </dc:title>
</cp:coreProperties>
</file>