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move the slid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431CB-D09A-4252-911C-419E3F1998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overall structure of the MinCaml compiler looks like th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t is a sequence of transformations from the source language to SPARC assemb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se numbers are the code lines of each module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 have lexing, parsing, type inference, and so 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 am not going to lecture a full compiler course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let’s have a short look at each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3AC9-4437-49CC-A90B-4842715BB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94E3-19AA-4D0C-BD04-A751AA767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E4B9-7D72-4650-9E6B-E2FD17C41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8216-EE17-4885-9CC4-D94309815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78C2-41FD-4119-9AFE-ACE8F796A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8A21-A91E-4F23-9DB9-8DE7D3956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191C-3EBF-490C-8498-CE85A769C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745B-E62B-4A77-BFB9-579F8262B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4335-6CF7-4D49-8EB4-CB72E952E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E1B8-B3A5-4848-9EB9-3B95668D2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B9C3-5906-4B89-BFF1-EACAE6219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CA7B-102A-47AC-9624-067A6D2EC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6EF66-B702-46F9-87F5-21399986B9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9666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iler Construction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 11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Register Machines and the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Min-Caml Middle-End 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2004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nt Term,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r: Timothy G. Griff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uter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University of Cambridg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E839-7ACF-4D9F-B5F1-9A983431122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5000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Knormalization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48" name=""/>
          <p:cNvSpPr/>
          <p:nvPr/>
        </p:nvSpPr>
        <p:spPr>
          <a:xfrm>
            <a:off x="1129680" y="565200"/>
            <a:ext cx="5484240" cy="228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x  : int =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rec f  : (int) -&gt; (int) -&gt; int y : int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rec g  : (int) -&gt; int z : int = ((x + y) + z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 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first  : (int) -&gt; int = (f 2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second  : (int) -&gt; int = (f 8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result  : int = ((first 99) + (second 44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 (print_int resul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08120" y="2695680"/>
            <a:ext cx="0" cy="11826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168200" y="3263760"/>
            <a:ext cx="7404480" cy="3196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x  : int = 17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f  : (int) -&gt; (int) -&gt; int y : int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g  : (int) -&gt; int z : int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7  : int = (x + y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(Ti7 + z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 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first  : (int) -&gt; int = let Ti1  : int = 21 in (f Ti1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second  : (int) -&gt; int = let Ti2  : int = 88 in (f Ti2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result  : int = let Ti4  : int = let Ti3  : int = 99 in (first Ti3)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6  : int = let Ti5  : int = 44 in (second Ti5)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(Ti4 + Ti6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EXTERN(print_int resul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F983-9AF9-4B73-8543-D4431718676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KNormalization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2" name=""/>
          <p:cNvSpPr/>
          <p:nvPr/>
        </p:nvSpPr>
        <p:spPr>
          <a:xfrm>
            <a:off x="630360" y="1030320"/>
            <a:ext cx="3533400" cy="48146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type t =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U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Bool of bo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Int of i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loat of flo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Not of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Neg of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Add of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Sub of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Neg of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Add of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Sub of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Mul of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Div of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Eq of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LE of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If of t *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Let of (Id.t * Type.t) *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Var of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LetRec of fundef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App of t * t 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Tuple of t 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LetTuple of (Id.t * Type.t) list *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Array of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Get of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Put of t *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and fundef =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{ name : Id.t * Type.t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args : (Id.t * Type.t) list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body : t 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423880" y="1100160"/>
            <a:ext cx="146844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yntax.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884840" y="1076400"/>
            <a:ext cx="3762000" cy="46623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type t =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U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Int of i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loat of flo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Neg of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Add of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Sub of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Neg of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Add of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Sub of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Mul of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Div of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IfEq of Id.t * Id.t *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IfLE of Id.t * Id.t *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Let of (Id.t * Type.t) *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Var of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LetRec of fundef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App of Id.t * Id.t 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Tuple of Id.t 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LetTuple of (Id.t * Type.t) list * Id.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Get of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Put of Id.t *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ExtArray of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ExtFunApp of Id.t * Id.t 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and fundef =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{ name : Id.t * Type.t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args : (Id.t * Type.t) list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body : t 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344240" y="6083280"/>
            <a:ext cx="694728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Lucida Console"/>
              </a:rPr>
              <a:t>val Knormal.f : Syntax.t -&gt; Knormal.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68360" y="1235160"/>
            <a:ext cx="167112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knormal.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7346-8344-43BE-92BB-927F1902C2C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  <a:ea typeface="ＭＳ Ｐゴシック"/>
              </a:rPr>
              <a:t>Simplification: </a:t>
            </a:r>
            <a:r>
              <a:rPr b="0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333399"/>
                </a:solidFill>
                <a:latin typeface="Arial Black"/>
                <a:ea typeface="ＭＳ Ｐゴシック"/>
              </a:rPr>
              <a:t>-Reduction, Nested "Let" Reduction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35360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let x = y in 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[y/x]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04920" y="33940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let y = (let x = M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Arial"/>
                <a:ea typeface="ＭＳ Ｐゴシック"/>
              </a:rPr>
              <a:t>1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 in M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Arial"/>
                <a:ea typeface="ＭＳ Ｐゴシック"/>
              </a:rPr>
              <a:t>2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) in M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Arial"/>
                <a:ea typeface="ＭＳ Ｐゴシック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let x = M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Arial"/>
                <a:ea typeface="ＭＳ Ｐゴシック"/>
              </a:rPr>
              <a:t>1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 in let y = M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Arial"/>
                <a:ea typeface="ＭＳ Ｐゴシック"/>
              </a:rPr>
              <a:t>2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 in M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Arial"/>
                <a:ea typeface="ＭＳ Ｐゴシック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22120" y="3365640"/>
            <a:ext cx="8629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8057-8187-430D-A36A-9DEBFEF3F19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ＭＳ Ｐゴシック"/>
              </a:rPr>
              <a:t>Simplification: Inlining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Inlines all "small"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cludes recursive 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mall" = less than a constant s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r-specified by "-inline" o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peat for a constant number of ti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r-specified by "-iter" o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DDAE-D6D1-49A3-AFA0-718371E4D00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  <a:ea typeface="ＭＳ Ｐゴシック"/>
              </a:rPr>
              <a:t>Simplification: Constant Folding and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  <a:ea typeface="ＭＳ Ｐゴシック"/>
              </a:rPr>
              <a:t>Unused Variable Elimination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let x = 3 in let y = 7 in x + 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let x = 3 in let y = 7 in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ery effective after inlining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44E9-CB31-4418-B7D6-F947DFC1241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5000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Simplification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66" name=""/>
          <p:cNvSpPr/>
          <p:nvPr/>
        </p:nvSpPr>
        <p:spPr>
          <a:xfrm>
            <a:off x="708120" y="2695680"/>
            <a:ext cx="0" cy="11826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106640" y="581040"/>
            <a:ext cx="6200280" cy="268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let x  : int = 17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let f  : (int) -&gt; (int) -&gt; int y : int =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let g  : (int) -&gt; int z : int =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let Ti7  : int = (x + y)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(Ti7 + z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in 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i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let first  : (int) -&gt; int = let Ti1  : int = 21 in (f Ti1)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let second  : (int) -&gt; int = let Ti2  : int = 88 in (f Ti2)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let result  : int = let Ti4  : int = let Ti3  : int = 99 in (first Ti3) i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let Ti6  : int = let Ti5  : int = 44 in (second Ti5) i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(Ti4 + Ti6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EXTERN(print_int resul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151280" y="3406680"/>
            <a:ext cx="5301360" cy="3196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x.8  : int = 17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f.9  : (int) -&gt; (int) -&gt; in ty.10 : int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g.20  : (int) -&gt; int z.21 : int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7.22  : int = (x.8 + y.10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(Ti7.22 + z.2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 g.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1.19  : int             = 21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first.11  : (int) -&gt; int  = (f.9 Ti1.19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2.18  : int             = 88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second.12  : (int) -&gt; int = (f.9 Ti2.18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3.17  : int             = 99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4.14  : int             = (first.11 Ti3.17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5.16  : int             = 44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6.15  : int             = (second.12 Ti5.16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result.13  : int          = (Ti4.14 + Ti6.15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EXTERN(print_int result.1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C707-2E51-4CDC-8104-CB82D9B0CCE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ＭＳ Ｐゴシック"/>
              </a:rPr>
              <a:t>Closure Conversion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cal function definitions (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let re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+   function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50000"/>
              </a:lnSpc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50000"/>
              </a:lnSpc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p-level function defin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osure creations (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make_closu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osure applications (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apply_closu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Known function calls (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apply_direc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431D-0337-48AC-88D2-84AD7F547F8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ＭＳ Ｐゴシック"/>
              </a:rPr>
              <a:t>Example 1: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ＭＳ Ｐゴシック"/>
              </a:rPr>
              <a:t>Closure Creation/Application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let x = 3 in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let rec f y = x + y in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f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let rec f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Arial"/>
                <a:ea typeface="ＭＳ Ｐゴシック"/>
              </a:rPr>
              <a:t>top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 [x] y = x + y 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let x = 3 in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make_closure f = (f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Arial"/>
                <a:ea typeface="ＭＳ Ｐゴシック"/>
              </a:rPr>
              <a:t>top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, [x]) in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apply_closure f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6379-36D8-45B1-9C7B-D26DDDF16BD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ＭＳ Ｐゴシック"/>
              </a:rPr>
              <a:t>Example 2: Known Function Call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let rec f x = x + 3 in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(f, f 7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let rec f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Arial"/>
                <a:ea typeface="ＭＳ Ｐゴシック"/>
              </a:rPr>
              <a:t>top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 [] x = x + 3 ;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make_closure f = (f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Arial"/>
                <a:ea typeface="ＭＳ Ｐゴシック"/>
              </a:rPr>
              <a:t>top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, []) in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(f, apply_direct f 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D608-8E76-4D66-9301-A58DF629307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ＭＳ Ｐゴシック"/>
              </a:rPr>
              <a:t>Example 3: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ＭＳ Ｐゴシック"/>
              </a:rPr>
              <a:t>Unused Closure Elimination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let rec f x = x + 3 in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f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let rec f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Arial"/>
                <a:ea typeface="ＭＳ Ｐゴシック"/>
              </a:rPr>
              <a:t>top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 [] x = x + 3 ;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apply_direct f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1131-D861-435C-96F1-65A89529F6A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99"/>
                </a:solidFill>
                <a:uFillTx/>
                <a:latin typeface="Arial Black"/>
              </a:rPr>
              <a:t>Register Machines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Basic (Abstract) Operations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1" name=""/>
          <p:cNvSpPr/>
          <p:nvPr/>
        </p:nvSpPr>
        <p:spPr>
          <a:xfrm>
            <a:off x="932040" y="4336920"/>
            <a:ext cx="197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1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2 op R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54280" y="1324080"/>
            <a:ext cx="90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128760" y="1376280"/>
            <a:ext cx="478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ve data from memory location L to register 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98560" y="2600280"/>
            <a:ext cx="90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147840" y="2666880"/>
            <a:ext cx="478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ve data from register R to memory location 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0520" y="4213080"/>
            <a:ext cx="5415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erform operation op in values in registers R2 and R3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d then store the result in register R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50320" y="1806480"/>
            <a:ext cx="136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1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[R2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59360" y="1752480"/>
            <a:ext cx="4580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ve data from memory location stored in R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 register R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58240" y="3171960"/>
            <a:ext cx="136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2]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46040" y="3129120"/>
            <a:ext cx="4772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ve data from register R1 to memory loc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red in R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DA6D-18D7-4DB4-91D9-105D09E4AFE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87280" y="378000"/>
            <a:ext cx="2511360" cy="11095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losure Conversion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78" name=""/>
          <p:cNvSpPr/>
          <p:nvPr/>
        </p:nvSpPr>
        <p:spPr>
          <a:xfrm>
            <a:off x="2916360" y="2182680"/>
            <a:ext cx="0" cy="11829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30800" y="200160"/>
            <a:ext cx="5301360" cy="3196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x.8  : int = 17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f.9  : (int) -&gt; (int) -&gt; in ty.10 : int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g.20  : (int) -&gt; int z.21 : int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7.22  : int = (x.8 + y.10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(Ti7.22 + z.2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 g.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1.19  : int             = 21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first.11  : (int) -&gt; int  = (f.9 Ti1.19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2.18  : int             = 88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second.12  : (int) -&gt; int = (f.9 Ti2.18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3.17  : int             = 99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4.14  : int             = (first.11 Ti3.17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5.16  : int             = 44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6.15  : int             = (second.12 Ti5.16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result.13  : int          = (Ti4.14 + Ti6.15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EXTERN(print_int result.1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4320" y="3456000"/>
            <a:ext cx="7221600" cy="356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LABEL(g.20) [x.8 : int, y.10 : int] z.21 : int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7.22  : int = (x.8 + y.10) in (Ti7.22 + z.2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LABEL(f.9) [x.8 : int] y.10 : int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closure g.20  : (int) -&gt; int = ( LABEL(g.20); [x.8, y.10] ) in g.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x.8  : int                           = 17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closure f.9  : (int) -&gt; (int) -&gt; int = ( LABEL(f.9); [x.8] )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1.19  : int                        = 21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first.11  : (int) -&gt; int             = APPLY_CLOSURE(f.9 Ti1.19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2.18  : int                        = 88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second.12  : (int) -&gt; int            = APPLY_CLOSURE(f.9 Ti2.18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3.17  : int                        = 99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4.14  : int                        = APPLY_CLOSURE(first.11 Ti3.17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5.16  : int                        = 44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6.15  : int                        = APPLY_CLOSURE(second.12 Ti5.16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result.13  : int                     = (Ti4.14 + Ti6.15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APPLY_DIRECT(LABEL(min_caml_print_int) result.1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EDBC-228B-41CD-9516-F83A3E98E29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osure Conversion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82" name=""/>
          <p:cNvSpPr/>
          <p:nvPr/>
        </p:nvSpPr>
        <p:spPr>
          <a:xfrm>
            <a:off x="336600" y="1006560"/>
            <a:ext cx="3762000" cy="48146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type t =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U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Int of i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loat of flo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Neg of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Add of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Sub of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Neg of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Add of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Sub of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Mul of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Div of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IfEq of Id.t * Id.t *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IfLE of Id.t * Id.t *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Let of (Id.t * Type.t) *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Var of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LetRec of fundef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App of Id.t * Id.t 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Tuple of Id.t 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LetTuple of (Id.t * Type.t) list * Id.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Get of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Put of Id.t *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ExtArray of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ExtFunApp of Id.t * Id.t 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and fundef =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{ name : Id.t * Type.t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args : (Id.t * Type.t) list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body : t 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21200" y="6059520"/>
            <a:ext cx="767880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Lucida Console"/>
              </a:rPr>
              <a:t>val Closure.f : Knormal.t -&gt; Closure.pr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348640" y="1093680"/>
            <a:ext cx="167112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knormal.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584600" y="122076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16400" y="187812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334040" y="1017720"/>
            <a:ext cx="4295520" cy="48146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type closure = { entry : Id.l; actual_fv : Id.t list 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type t =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U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Int of i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loat of flo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Neg of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Add of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Sub of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Neg of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Add of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Sub of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Mul of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Div of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IfEq of Id.t * Id.t *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IfLE of Id.t * Id.t *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Let of (Id.t * Type.t) *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Var of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MakeCls of (Id.t * Type.t) * closure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AppCls of Id.t * Id.t 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AppDir of Id.l * Id.t 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Tuple of Id.t 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LetTuple of (Id.t * Type.t) list * Id.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Get of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Put of Id.t *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ExtArray of Id.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type fundef = { name : Id.l * Type.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	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args : Id.t * Type.t) lis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	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formal_fv : (Id.t * Type.t) lis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            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body : t 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type prog = Prog of fundef lis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868800" y="1744560"/>
            <a:ext cx="156924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losure.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3CC5-2CED-4D58-B7C6-EDE0E84DBFA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26600" y="0"/>
            <a:ext cx="8528040" cy="549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Compilation as a sequence of small steps…</a:t>
            </a:r>
            <a:endParaRPr b="0" lang="en-US" sz="2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0" name=""/>
          <p:cNvSpPr/>
          <p:nvPr/>
        </p:nvSpPr>
        <p:spPr>
          <a:xfrm>
            <a:off x="634320" y="3456000"/>
            <a:ext cx="7221600" cy="356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LABEL(g.20) [x.8 : int, y.10 : int] z.21 : int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7.22  : int = (x.8 + y.10) in (Ti7.22 + z.2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LABEL(f.9) [x.8 : int] y.10 : int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closure g.20  : (int) -&gt; int = ( LABEL(g.20); [x.8, y.10] ) in g.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x.8  : int                           = 17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closure f.9  : (int) -&gt; (int) -&gt; int = ( LABEL(f.9); [x.8] )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1.19  : int                        = 21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first.11  : (int) -&gt; int             = APPLY_CLOSURE(f.9 Ti1.19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2.18  : int                        = 88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second.12  : (int) -&gt; int            = APPLY_CLOSURE(f.9 Ti2.18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3.17  : int                        = 99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4.14  : int                        = APPLY_CLOSURE(first.11 Ti3.17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5.16  : int                        = 44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6.15  : int                        = APPLY_CLOSURE(second.12 Ti5.16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result.13  : int                     = (Ti4.14 + Ti6.15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APPLY_DIRECT(LABEL(min_caml_print_int) result.1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871000" y="884160"/>
            <a:ext cx="4935600" cy="246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x  =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rec f  y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rec g  z = ((x + y) + z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 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first  = (f 2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second  = (f 8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result  = ((first 99) + (second 44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 (print_int resul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549520" y="1684440"/>
            <a:ext cx="12600" cy="177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1585800"/>
            <a:ext cx="2612880" cy="23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x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rs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y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-normal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pl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osure conver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DDA8-C4D3-4360-BF59-BB83386B903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30F9-3384-485F-BC39-27569651A1D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Another Example: ack.ml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8" name=""/>
          <p:cNvSpPr/>
          <p:nvPr/>
        </p:nvSpPr>
        <p:spPr>
          <a:xfrm>
            <a:off x="1854000" y="1179360"/>
            <a:ext cx="5057640" cy="20408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let rec ack x y =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if (x &lt;= 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then (y + 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els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if (y &lt;= 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then (ack (x - 1) 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else (ack (x - 1) (ack x (y - 1)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in (print_int (ack 3 10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212840" y="4095720"/>
            <a:ext cx="6398640" cy="22842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let rec ack  : (int, int) -&gt; int x : int y : int =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if (x &lt;= 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then (y + 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els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if (y &lt;= 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then (ack (x - 1) 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else (ack (x - 1) (ack x (y - 1)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in (print_int (ack 3 10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27200" y="3013200"/>
            <a:ext cx="691920" cy="831600"/>
          </a:xfrm>
          <a:prstGeom prst="downArrow">
            <a:avLst>
              <a:gd name="adj1" fmla="val 50000"/>
              <a:gd name="adj2" fmla="val 30047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796400" y="344808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7D20-01C6-4154-8D7C-E0F2D51853C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KNormalization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03" name=""/>
          <p:cNvSpPr/>
          <p:nvPr/>
        </p:nvSpPr>
        <p:spPr>
          <a:xfrm>
            <a:off x="1806480" y="1327320"/>
            <a:ext cx="184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044720" y="161928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17480" y="1098720"/>
            <a:ext cx="184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17480" y="222084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55320" y="1569960"/>
            <a:ext cx="8318880" cy="44744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ack  : (int, int) -&gt; int x : int y : int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4  : int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f x &lt;= Ti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5  : int =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n (y + Ti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el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6  : int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f y &lt;= Ti6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8  : int = let Ti7  : int = 1 in (x - Ti7)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9  : int = 1 in (ack Ti8 Ti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el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11  : int = let Ti10  : int = 1 in (x - Ti10)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14  : int =  let Ti13  : int =  (let Ti12  : int = 1 in (y - Ti12)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          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n (ack x Ti1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n (ack Ti11 Ti1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3  : int = let Ti1  : int = 3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2  : int = 10 in (ack Ti1 Ti2)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EXTERN(print_int Ti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4AC4-1FB0-4F5E-BF5A-E1077C109EA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After Simplification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09" name=""/>
          <p:cNvSpPr/>
          <p:nvPr/>
        </p:nvSpPr>
        <p:spPr>
          <a:xfrm>
            <a:off x="284760" y="1057320"/>
            <a:ext cx="5392800" cy="53870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ack.15  : (int, int) -&gt; int x.16 : int y.17 : int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4.21  : int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f x.16 &lt;= Ti4.2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5.31  : int =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n (y.17 + Ti5.3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el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6.22  : int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f y.17 &lt;= Ti6.2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7.30  : int = 1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8.28  : int = (x.16 - Ti7.30)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9.29  : int = 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n (ack.15 Ti8.28 Ti9.2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el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10.27  : int = 1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11.23  : int = (x.16 - Ti10.27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12.26  : int = 1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13.25  : int = (y.17 - Ti12.26)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14.24  : int = (ack.15 x.16 Ti13.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n (ack.15 Ti11.23 Ti14.2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1.19  : int = 3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2.20  : int = 10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3.18  : int = (ack.15 Ti1.19 Ti2.2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n EXTERN(print_int Ti3.1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1626-5576-4104-A72B-D766351E170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osure Conversion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11" name=""/>
          <p:cNvSpPr/>
          <p:nvPr/>
        </p:nvSpPr>
        <p:spPr>
          <a:xfrm>
            <a:off x="403560" y="1017720"/>
            <a:ext cx="6215760" cy="53870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ack.15  : (int, int) -&gt; int x.16 : int, y.17 : int 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4.21  : int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f x.16 &lt;= Ti4.2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5.31  : int =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n (y.17 + Ti5.3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el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6.22  : int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f y.17 &lt;= Ti6.2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7.30  : int = 1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8.28  : int = (x.16 - Ti7.30)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9.29  : int =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n APPLY_DIRECT(ack.15 Ti8.28 Ti9.2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el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10.27  : int = 1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11.23  : int = (x.16 - Ti10.27)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12.26  : int = 1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13.25  : int = (y.17 - Ti12.26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14.24  : int = APPLY_DIRECT(ack.15 x.16 Ti13.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n APPLY_DIRECT(ack.15 Ti11.23 Ti14.2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1.19  : int = 3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2.20  : int = 10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3.18  : int = APPLY_DIRECT(ack.15 Ti1.19 Ti2.2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n APPLY_DIRECT(min_caml_print_int Ti3.1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9545-70AA-4C3B-90A4-6A61D2A0520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Yet another example : funcomp.ml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13" name=""/>
          <p:cNvSpPr/>
          <p:nvPr/>
        </p:nvSpPr>
        <p:spPr>
          <a:xfrm>
            <a:off x="741240" y="2031840"/>
            <a:ext cx="74959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let rec compose f g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let rec composed x = g (f x)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composed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let rec dbl x = x + x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let rec inc x = x + 1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let rec dec x = x - 1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let h = compose inc (compose dbl dec)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print_int (h 12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9D65-539F-4092-A90C-62CEA589DC6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Stack Machine to Register Machin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2" name=""/>
          <p:cNvSpPr/>
          <p:nvPr/>
        </p:nvSpPr>
        <p:spPr>
          <a:xfrm>
            <a:off x="323640" y="1206360"/>
            <a:ext cx="49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simple translation that produces terrible code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616400" y="2433600"/>
            <a:ext cx="1119600" cy="3988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arith 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341520" y="2278080"/>
            <a:ext cx="1414800" cy="708120"/>
          </a:xfrm>
          <a:prstGeom prst="rightArrow">
            <a:avLst>
              <a:gd name="adj1" fmla="val 50000"/>
              <a:gd name="adj2" fmla="val 4994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760000" y="3664080"/>
            <a:ext cx="1922760" cy="3988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R1 </a:t>
            </a:r>
            <a:r>
              <a:rPr b="0" lang="en-US" sz="2000" spc="-1" strike="noStrike">
                <a:solidFill>
                  <a:srgbClr val="333399"/>
                </a:solidFill>
                <a:latin typeface="Wingdings"/>
                <a:ea typeface="Wingdings"/>
              </a:rPr>
              <a:t>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 R2 op R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727960" y="4098960"/>
            <a:ext cx="1267560" cy="3988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[SP] </a:t>
            </a:r>
            <a:r>
              <a:rPr b="0" lang="en-US" sz="2000" spc="-1" strike="noStrike">
                <a:solidFill>
                  <a:srgbClr val="333399"/>
                </a:solidFill>
                <a:latin typeface="Wingdings"/>
                <a:ea typeface="Wingdings"/>
              </a:rPr>
              <a:t>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770440" y="4595760"/>
            <a:ext cx="1512720" cy="3988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SP </a:t>
            </a:r>
            <a:r>
              <a:rPr b="0" lang="en-US" sz="2000" spc="-1" strike="noStrike">
                <a:solidFill>
                  <a:srgbClr val="333399"/>
                </a:solidFill>
                <a:latin typeface="Wingdings"/>
                <a:ea typeface="Wingdings"/>
              </a:rPr>
              <a:t>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SP +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731920" y="2727360"/>
            <a:ext cx="1448640" cy="3988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SP </a:t>
            </a:r>
            <a:r>
              <a:rPr b="0" lang="en-US" sz="2000" spc="-1" strike="noStrike">
                <a:solidFill>
                  <a:srgbClr val="333399"/>
                </a:solidFill>
                <a:latin typeface="Wingdings"/>
                <a:ea typeface="Wingdings"/>
              </a:rPr>
              <a:t>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SP -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713200" y="3200400"/>
            <a:ext cx="1398600" cy="3988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R3 </a:t>
            </a:r>
            <a:r>
              <a:rPr b="0" lang="en-US" sz="2000" spc="-1" strike="noStrike">
                <a:solidFill>
                  <a:srgbClr val="333399"/>
                </a:solidFill>
                <a:latin typeface="Wingdings"/>
                <a:ea typeface="Wingdings"/>
              </a:rPr>
              <a:t>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 [SP]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721120" y="2257560"/>
            <a:ext cx="1398600" cy="3988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R2 </a:t>
            </a:r>
            <a:r>
              <a:rPr b="0" lang="en-US" sz="2000" spc="-1" strike="noStrike">
                <a:solidFill>
                  <a:srgbClr val="333399"/>
                </a:solidFill>
                <a:latin typeface="Wingdings"/>
                <a:ea typeface="Wingdings"/>
              </a:rPr>
              <a:t>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 [SP]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703480" y="1798560"/>
            <a:ext cx="1448640" cy="3988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SP </a:t>
            </a:r>
            <a:r>
              <a:rPr b="0" lang="en-US" sz="2000" spc="-1" strike="noStrike">
                <a:solidFill>
                  <a:srgbClr val="333399"/>
                </a:solidFill>
                <a:latin typeface="Wingdings"/>
                <a:ea typeface="Wingdings"/>
              </a:rPr>
              <a:t>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SP -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724000" y="5656320"/>
            <a:ext cx="3196800" cy="8240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This assumes that stack gro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upwards, and SP always poi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to the next free slo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87000" y="4352760"/>
            <a:ext cx="4655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this defeats the whole point of registers 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are FAST local memory that shou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used to reduce CPU to memory traffic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7198-213B-47A5-AE84-4B32C88A359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A Better way…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75" name=""/>
          <p:cNvSpPr/>
          <p:nvPr/>
        </p:nvSpPr>
        <p:spPr>
          <a:xfrm>
            <a:off x="402120" y="2322360"/>
            <a:ext cx="142740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Program A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013120" y="2511360"/>
            <a:ext cx="8157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32400" y="2570040"/>
            <a:ext cx="8157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58840" y="2039760"/>
            <a:ext cx="1427400" cy="10674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Give explici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names to al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Intermedi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551560" y="2135160"/>
            <a:ext cx="2465280" cy="10674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Generate 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for an abstrac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Machine with an infin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number of register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662880" y="3236760"/>
            <a:ext cx="10800" cy="901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648040" y="4143240"/>
            <a:ext cx="3252960" cy="15541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Perform “Register Allocation” 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map abstract registers 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actual machine registers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“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spilling” registers into mem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only when you run out of actu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register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91080" y="4908600"/>
            <a:ext cx="8161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838960" y="4745160"/>
            <a:ext cx="164844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Emit assemb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82F6-4938-4374-9728-7125EAAF844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-498600" y="644400"/>
            <a:ext cx="7580520" cy="56851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511560" y="6334200"/>
            <a:ext cx="408204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http://min-caml.sourceforge.net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t’s look at the MinCaml Middle-End!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7" name=""/>
          <p:cNvSpPr/>
          <p:nvPr/>
        </p:nvSpPr>
        <p:spPr>
          <a:xfrm>
            <a:off x="5604120" y="1176480"/>
            <a:ext cx="3533400" cy="48146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type t =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U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Bool of bo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Int of i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loat of flo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Not of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Neg of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Add of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Sub of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Neg of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Add of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Sub of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Mul of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Div of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Eq of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LE of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If of t *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Let of (Id.t * Type.t) *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Var of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LetRec of fundef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App of t * t 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Tuple of t 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LetTuple of (Id.t * Type.t) list *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Array of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Get of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Put of t *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and fundef =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{ name : Id.t * Type.t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args : (Id.t * Type.t) list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body : t 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397640" y="1246320"/>
            <a:ext cx="146844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yntax.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F499-5925-4925-B2EB-F76073E02D0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ＭＳ Ｐゴシック"/>
              </a:rPr>
              <a:t>MinCaml Compiler Roadmap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90" name=""/>
          <p:cNvSpPr/>
          <p:nvPr/>
        </p:nvSpPr>
        <p:spPr>
          <a:xfrm>
            <a:off x="3741840" y="2206800"/>
            <a:ext cx="1469880" cy="581400"/>
          </a:xfrm>
          <a:prstGeom prst="rect">
            <a:avLst/>
          </a:prstGeom>
          <a:solidFill>
            <a:srgbClr val="c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Ty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965600" y="2205000"/>
            <a:ext cx="1416600" cy="581400"/>
          </a:xfrm>
          <a:prstGeom prst="rect">
            <a:avLst/>
          </a:prstGeom>
          <a:solidFill>
            <a:srgbClr val="8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Par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738200" y="2205000"/>
            <a:ext cx="127656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lph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535360" y="2205000"/>
            <a:ext cx="187092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KNor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063880" y="3618000"/>
            <a:ext cx="1278000" cy="106884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Cons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F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80160" y="3860640"/>
            <a:ext cx="126288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In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28880" y="5473800"/>
            <a:ext cx="1634760" cy="581400"/>
          </a:xfrm>
          <a:prstGeom prst="rect">
            <a:avLst/>
          </a:prstGeom>
          <a:solidFill>
            <a:srgbClr val="ffc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Clo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46400" y="3860640"/>
            <a:ext cx="99756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Eli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163400" y="5229360"/>
            <a:ext cx="1093680" cy="1068840"/>
          </a:xfrm>
          <a:prstGeom prst="rect">
            <a:avLst/>
          </a:prstGeom>
          <a:solidFill>
            <a:srgbClr val="ff4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Reg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ll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227320" y="5473800"/>
            <a:ext cx="1428840" cy="581400"/>
          </a:xfrm>
          <a:prstGeom prst="rect">
            <a:avLst/>
          </a:prstGeom>
          <a:solidFill>
            <a:srgbClr val="ff8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Virt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857720" y="5473800"/>
            <a:ext cx="1038600" cy="58140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E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6880" y="2205000"/>
            <a:ext cx="1236960" cy="581400"/>
          </a:xfrm>
          <a:prstGeom prst="rect">
            <a:avLst/>
          </a:prstGeom>
          <a:solidFill>
            <a:srgbClr val="0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Lex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91" idx="3"/>
            <a:endCxn id="90" idx="1"/>
          </p:cNvCxnSpPr>
          <p:nvPr/>
        </p:nvCxnSpPr>
        <p:spPr>
          <a:xfrm>
            <a:off x="3400560" y="2505240"/>
            <a:ext cx="34200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03" name=""/>
          <p:cNvCxnSpPr>
            <a:stCxn id="90" idx="3"/>
            <a:endCxn id="93" idx="1"/>
          </p:cNvCxnSpPr>
          <p:nvPr/>
        </p:nvCxnSpPr>
        <p:spPr>
          <a:xfrm flipV="1">
            <a:off x="5211720" y="2504880"/>
            <a:ext cx="34020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04" name=""/>
          <p:cNvCxnSpPr>
            <a:stCxn id="93" idx="3"/>
            <a:endCxn id="92" idx="1"/>
          </p:cNvCxnSpPr>
          <p:nvPr/>
        </p:nvCxnSpPr>
        <p:spPr>
          <a:xfrm>
            <a:off x="7389720" y="2504880"/>
            <a:ext cx="3420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05" name=""/>
          <p:cNvCxnSpPr>
            <a:stCxn id="97" idx="2"/>
            <a:endCxn id="96" idx="0"/>
          </p:cNvCxnSpPr>
          <p:nvPr/>
        </p:nvCxnSpPr>
        <p:spPr>
          <a:xfrm>
            <a:off x="945720" y="4468320"/>
            <a:ext cx="1080" cy="9961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06" name=""/>
          <p:cNvCxnSpPr>
            <a:stCxn id="101" idx="3"/>
            <a:endCxn id="91" idx="1"/>
          </p:cNvCxnSpPr>
          <p:nvPr/>
        </p:nvCxnSpPr>
        <p:spPr>
          <a:xfrm>
            <a:off x="1608120" y="2504880"/>
            <a:ext cx="3402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07" name=""/>
          <p:cNvCxnSpPr/>
          <p:nvPr/>
        </p:nvCxnSpPr>
        <p:spPr>
          <a:xfrm>
            <a:off x="8494200" y="2813040"/>
            <a:ext cx="1080" cy="1038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08" name=""/>
          <p:cNvCxnSpPr>
            <a:stCxn id="95" idx="1"/>
            <a:endCxn id="94" idx="3"/>
          </p:cNvCxnSpPr>
          <p:nvPr/>
        </p:nvCxnSpPr>
        <p:spPr>
          <a:xfrm flipH="1">
            <a:off x="3344040" y="4160520"/>
            <a:ext cx="60876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09" name=""/>
          <p:cNvCxnSpPr>
            <a:stCxn id="94" idx="1"/>
            <a:endCxn id="97" idx="3"/>
          </p:cNvCxnSpPr>
          <p:nvPr/>
        </p:nvCxnSpPr>
        <p:spPr>
          <a:xfrm flipH="1">
            <a:off x="1453320" y="4160520"/>
            <a:ext cx="6073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10" name=""/>
          <p:cNvCxnSpPr>
            <a:stCxn id="96" idx="3"/>
            <a:endCxn id="99" idx="1"/>
          </p:cNvCxnSpPr>
          <p:nvPr/>
        </p:nvCxnSpPr>
        <p:spPr>
          <a:xfrm>
            <a:off x="1755720" y="5773320"/>
            <a:ext cx="42768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11" name=""/>
          <p:cNvCxnSpPr>
            <a:stCxn id="99" idx="3"/>
            <a:endCxn id="98" idx="1"/>
          </p:cNvCxnSpPr>
          <p:nvPr/>
        </p:nvCxnSpPr>
        <p:spPr>
          <a:xfrm flipV="1">
            <a:off x="3700440" y="5771880"/>
            <a:ext cx="4276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12" name=""/>
          <p:cNvCxnSpPr>
            <a:stCxn id="98" idx="3"/>
            <a:endCxn id="113" idx="1"/>
          </p:cNvCxnSpPr>
          <p:nvPr/>
        </p:nvCxnSpPr>
        <p:spPr>
          <a:xfrm>
            <a:off x="5292720" y="5772240"/>
            <a:ext cx="4276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14" name=""/>
          <p:cNvCxnSpPr>
            <a:stCxn id="97" idx="0"/>
            <a:endCxn id="115" idx="0"/>
          </p:cNvCxnSpPr>
          <p:nvPr/>
        </p:nvCxnSpPr>
        <p:spPr>
          <a:xfrm flipH="1" rot="16200000">
            <a:off x="4660920" y="136080"/>
            <a:ext cx="2160" cy="7431840"/>
          </a:xfrm>
          <a:prstGeom prst="curvedConnector5">
            <a:avLst>
              <a:gd name="adj1" fmla="val -27700000"/>
              <a:gd name="adj2" fmla="val 49997"/>
              <a:gd name="adj3" fmla="val -27700000"/>
            </a:avLst>
          </a:prstGeom>
          <a:ln w="381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116" name=""/>
          <p:cNvSpPr/>
          <p:nvPr/>
        </p:nvSpPr>
        <p:spPr>
          <a:xfrm>
            <a:off x="110700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9073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16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7073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16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9069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18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480880" y="2781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4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94856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3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003840" y="4608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4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13220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3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23000" y="602604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1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267720" y="602604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16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882680" y="627840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26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240400" y="602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25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850880" y="3860640"/>
            <a:ext cx="105084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Be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911920" y="3860640"/>
            <a:ext cx="127332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ss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>
            <a:stCxn id="115" idx="1"/>
            <a:endCxn id="128" idx="3"/>
          </p:cNvCxnSpPr>
          <p:nvPr/>
        </p:nvCxnSpPr>
        <p:spPr>
          <a:xfrm flipH="1">
            <a:off x="7217640" y="4160520"/>
            <a:ext cx="60876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30" name=""/>
          <p:cNvCxnSpPr>
            <a:stCxn id="128" idx="1"/>
            <a:endCxn id="95" idx="3"/>
          </p:cNvCxnSpPr>
          <p:nvPr/>
        </p:nvCxnSpPr>
        <p:spPr>
          <a:xfrm flipH="1">
            <a:off x="5269680" y="4160520"/>
            <a:ext cx="60876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131" name=""/>
          <p:cNvSpPr/>
          <p:nvPr/>
        </p:nvSpPr>
        <p:spPr>
          <a:xfrm>
            <a:off x="848088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3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6088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691600" y="5473800"/>
            <a:ext cx="1738080" cy="58140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Simm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3" name=""/>
          <p:cNvCxnSpPr>
            <a:stCxn id="113" idx="3"/>
            <a:endCxn id="100" idx="1"/>
          </p:cNvCxnSpPr>
          <p:nvPr/>
        </p:nvCxnSpPr>
        <p:spPr>
          <a:xfrm>
            <a:off x="7400880" y="5773320"/>
            <a:ext cx="42768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134" name=""/>
          <p:cNvSpPr/>
          <p:nvPr/>
        </p:nvSpPr>
        <p:spPr>
          <a:xfrm>
            <a:off x="7036200" y="6021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4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4800" y="1230480"/>
            <a:ext cx="337356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Stages, with lines of ocaml code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8F5E-8EB1-4EBA-ADE9-9A62F90AC5B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Putting it all together…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37" name=""/>
          <p:cNvSpPr/>
          <p:nvPr/>
        </p:nvSpPr>
        <p:spPr>
          <a:xfrm>
            <a:off x="284040" y="1047600"/>
            <a:ext cx="8379000" cy="47178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let rec iter n e =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if n = 0 then e el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let e' = Elim.f (ConstFold.f (Inline.f (Assoc.f (Beta.f e))))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if e = e' then e else iter (n - 1) e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let lexbuf outchan l =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Id.counter := 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Typing.extenv := M.empty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Emit.f outch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(RegAlloc.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(Simm13.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(Virtual.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(Closure.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(iter !lim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(Alpha.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(KNormal.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(Typing.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(Parser.exp Lexer.token l)))))))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40600" y="3211560"/>
            <a:ext cx="246816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From min-caml/main.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94440" y="6105600"/>
            <a:ext cx="199728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Clean code!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0A9C-C90F-47CC-B03C-D7C1828402D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ＭＳ Ｐゴシック"/>
              </a:rPr>
              <a:t>K-Normalization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a + b + c *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let tmp1 = a + b in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let tmp2 = c * d in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tmp1 + tmp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sting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allowe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let x = (let y = M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Arial"/>
                <a:ea typeface="ＭＳ Ｐゴシック"/>
              </a:rPr>
              <a:t>1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 in M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Arial"/>
                <a:ea typeface="ＭＳ Ｐゴシック"/>
              </a:rPr>
              <a:t>2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) in M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Arial"/>
                <a:ea typeface="ＭＳ Ｐゴシック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7EA9-7CA5-42BB-B4BA-84E937A787F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5000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Example.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43" name=""/>
          <p:cNvSpPr/>
          <p:nvPr/>
        </p:nvSpPr>
        <p:spPr>
          <a:xfrm>
            <a:off x="1863720" y="617400"/>
            <a:ext cx="5727960" cy="286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let x  = 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let rec f  y =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let rec g  z = ((x + y) + z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n 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let first  = (f 2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let second  = (f 88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let result  = ((first 99) + (second 44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n (print_int resul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878480" y="3652920"/>
            <a:ext cx="6368040" cy="26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let x  : int = 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let rec f  : (int) -&gt; (int) -&gt; int y : int =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let rec g  : (int) -&gt; int z : int = ((x + y) + z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n 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let first  : (int) -&gt; int = (f 2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let second  : (int) -&gt; int = (f 88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let result  : int = ((first 99) + (second 44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n (print_int resul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536840" y="2975040"/>
            <a:ext cx="0" cy="11826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35880" y="343692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26DA-6EA4-49C6-93F6-991E2E48FFA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0T10:45:36Z</dcterms:created>
  <dc:creator>Tim Griffin</dc:creator>
  <dc:description/>
  <dc:language>en-US</dc:language>
  <cp:lastModifiedBy>Tim Griffin</cp:lastModifiedBy>
  <dcterms:modified xsi:type="dcterms:W3CDTF">2007-02-15T20:28:48Z</dcterms:modified>
  <cp:revision>295</cp:revision>
  <dc:subject/>
  <dc:title>Slide 1</dc:title>
</cp:coreProperties>
</file>