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AA7D-3BA5-43E1-8D0B-1FC7E897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ED34-8BF6-406A-AA7A-8A8A201C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276F-1A46-4918-859E-35133504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A29E-C637-4BDB-A9F3-EF536F1B1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BEDF-AA2C-4EF6-9F5E-2BC88F3A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2C88-C1C6-492D-8C97-C1BA4DB7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6024-F232-40A2-8B7A-065CDCDC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2A3C-4773-4A2E-B69D-DC2CE89A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2EF0-583E-43E1-9B21-8BCDA2F4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E41C-6643-4949-8158-CBF2057C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99D4-F72C-4B65-8589-99887E58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648E-2697-4E49-980B-28F2D506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ACAF-066B-4F08-9CAA-827319A7B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0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unctions I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E393-5561-44A2-8D64-4212D5BC92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alla : gets address from stack top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3529080" y="31813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39600" y="2789280"/>
            <a:ext cx="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74960" y="13176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89040" y="1893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86760" y="16430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97880" y="28065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74960" y="417816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0664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09880" y="5065560"/>
            <a:ext cx="108720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32120" y="395748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95520" y="40402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57320" y="38131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78200" y="1782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42120" y="12780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991120" y="2370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77680" y="216540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65040" y="27669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42120" y="413856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65880" y="632304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73800" y="605304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77040" y="502596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10440" y="41385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15160" y="36702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1880" y="34084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34240" y="42861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63280" y="40640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45360" y="17431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15120" y="2205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99280" y="351648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94600" y="3825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10280" y="4200480"/>
            <a:ext cx="1463760" cy="2224080"/>
          </a:xfrm>
          <a:custGeom>
            <a:avLst/>
            <a:gdLst/>
            <a:ahLst/>
            <a:rect l="l" t="t" r="r" b="b"/>
            <a:pathLst>
              <a:path w="922" h="1401">
                <a:moveTo>
                  <a:pt x="0" y="57"/>
                </a:moveTo>
                <a:cubicBezTo>
                  <a:pt x="202" y="28"/>
                  <a:pt x="404" y="0"/>
                  <a:pt x="532" y="57"/>
                </a:cubicBezTo>
                <a:cubicBezTo>
                  <a:pt x="660" y="114"/>
                  <a:pt x="714" y="279"/>
                  <a:pt x="768" y="396"/>
                </a:cubicBezTo>
                <a:cubicBezTo>
                  <a:pt x="822" y="513"/>
                  <a:pt x="847" y="635"/>
                  <a:pt x="857" y="758"/>
                </a:cubicBezTo>
                <a:cubicBezTo>
                  <a:pt x="867" y="881"/>
                  <a:pt x="922" y="1028"/>
                  <a:pt x="827" y="1135"/>
                </a:cubicBezTo>
                <a:cubicBezTo>
                  <a:pt x="732" y="1242"/>
                  <a:pt x="510" y="1321"/>
                  <a:pt x="288" y="1401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16680" y="4219560"/>
            <a:ext cx="163440" cy="165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43440" y="4491000"/>
            <a:ext cx="505080" cy="2050920"/>
          </a:xfrm>
          <a:custGeom>
            <a:avLst/>
            <a:gdLst>
              <a:gd name="textAreaLeft" fmla="*/ 322920 w 505080"/>
              <a:gd name="textAreaRight" fmla="*/ 505440 w 50508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04640" y="5248440"/>
            <a:ext cx="82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ller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44720" y="42559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2485-28B5-44F3-A1C0-E78EEEBB0A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How to translate Application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631800" y="1306440"/>
            <a:ext cx="22291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e (e1, e2 … 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5360" y="2457360"/>
            <a:ext cx="288576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for e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0160" y="2911320"/>
            <a:ext cx="2901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for e1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920" y="4133880"/>
            <a:ext cx="291636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for en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6640" y="4606920"/>
            <a:ext cx="3036600" cy="1557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to ex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ddress of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rom heap, lea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t on top of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9560" y="6167520"/>
            <a:ext cx="28080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lla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8000" y="3610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       :      :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94520" y="1781280"/>
            <a:ext cx="113832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94520" y="2684520"/>
            <a:ext cx="1149480" cy="84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: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1960" y="464040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81840" y="1811160"/>
            <a:ext cx="113796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81840" y="2714760"/>
            <a:ext cx="1149120" cy="84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los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07200" y="475452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481640" y="1817640"/>
            <a:ext cx="113796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94760" y="479592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868200" y="984240"/>
            <a:ext cx="11160" cy="587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95760" y="2658960"/>
            <a:ext cx="900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425920" y="2796840"/>
            <a:ext cx="641520" cy="126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95400" y="2232000"/>
            <a:ext cx="915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1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0920" y="1415880"/>
            <a:ext cx="92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90360" y="1819440"/>
            <a:ext cx="907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:   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81000" y="1000080"/>
            <a:ext cx="906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01680" y="5145120"/>
            <a:ext cx="38156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Situation just before c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50160" y="5850000"/>
            <a:ext cx="404244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B: code for function must treat v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mplicit parameter in order to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-local variables on he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AB4D-D89A-45F4-8FED-2EBCD97035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his works for functions-as-argument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4" name=""/>
          <p:cNvSpPr/>
          <p:nvPr/>
        </p:nvSpPr>
        <p:spPr>
          <a:xfrm>
            <a:off x="665280" y="1986120"/>
            <a:ext cx="7191000" cy="2838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 :int) : int {return a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x :int) : int {return a *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g else return 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j(x: int, k: int-&gt; int) { return k(k(x))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j(3, f(21)) + j(-1, f(17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449F-D0A4-4A20-8797-A086EBC140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milar problem with reference cell lifetimes…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6" name=""/>
          <p:cNvSpPr/>
          <p:nvPr/>
        </p:nvSpPr>
        <p:spPr>
          <a:xfrm>
            <a:off x="1992240" y="1757520"/>
            <a:ext cx="4752720" cy="3751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fun f(a : int) : int re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let b : int ref := 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return b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let z : int ref = f(17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!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5C67-66A9-4F67-BD20-D390F1CF41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ferenc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8" name=""/>
          <p:cNvSpPr/>
          <p:nvPr/>
        </p:nvSpPr>
        <p:spPr>
          <a:xfrm>
            <a:off x="698400" y="1217520"/>
            <a:ext cx="21636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let x : int = 2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81200" y="3846600"/>
            <a:ext cx="27288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let x : int ref := 2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7000" y="1909800"/>
            <a:ext cx="23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ush 22 on sta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eep track of offset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ater uses of x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8640" y="4529160"/>
            <a:ext cx="2966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llocate space for x on heap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ush address of x on sta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eep track of offset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ater uses of x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24480" y="1863720"/>
            <a:ext cx="4070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fun sum(x : int) : in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t k : int ref := x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t s : int ref := 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while  0 &lt; !k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 := !s + !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k := !k - 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return !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um(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90840" y="1243080"/>
            <a:ext cx="25560" cy="537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AF05-3865-4F75-BF47-49FDBF7E72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references.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5" name=""/>
          <p:cNvSpPr/>
          <p:nvPr/>
        </p:nvSpPr>
        <p:spPr>
          <a:xfrm>
            <a:off x="1729080" y="1244520"/>
            <a:ext cx="25534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let x : int ref := 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28720" y="2249640"/>
            <a:ext cx="4981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…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de to push value of e on stack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ush 0             ; space for x’s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all __allocate    ; get fre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py               ; duplicate top of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opto offset       ; store address of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t                ; store value of x in he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42880" y="4357800"/>
            <a:ext cx="1011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x := 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7000" y="5103720"/>
            <a:ext cx="4021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…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de to push value of e on stack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shfrom offset    ; x’s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t   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48800" y="4257720"/>
            <a:ext cx="4244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!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634720" y="5157720"/>
            <a:ext cx="348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ushfrom offset ; x’s address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get             ; x’s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601320" y="361332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BC02-D4E5-47FF-97A7-9B1760A90F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about functions-as-values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217440" y="1459080"/>
            <a:ext cx="6124320" cy="3143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 :int) : int {return a +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dd21 : int -&gt; int  = f(21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dd17 : int -&gt; int  = f(17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add17(3) + add21(-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78600" y="5060880"/>
            <a:ext cx="51642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Oh NO!  Our previous approach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lambda lifting” no longer work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35B2-CF07-4E49-89C3-DD9753131F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dea --- function values as “closures”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295200" y="1201680"/>
            <a:ext cx="4935600" cy="2527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g(x :int) : int {return a + x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g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add21 : int -&gt; int  = f(2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add17 : int -&gt; int  = f(17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add17(3) + add21(-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90440" y="4232160"/>
            <a:ext cx="7765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dd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20960" y="4419720"/>
            <a:ext cx="10666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81600" y="4599000"/>
            <a:ext cx="11026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21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35360" y="625788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n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06280" y="6269040"/>
            <a:ext cx="213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here should the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e stored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29320" y="3411360"/>
            <a:ext cx="113832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29320" y="4314960"/>
            <a:ext cx="1149480" cy="84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60360" y="6211800"/>
            <a:ext cx="12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ar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191120" y="4389120"/>
            <a:ext cx="2179440" cy="34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5400" y="5292720"/>
            <a:ext cx="7765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dd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16280" y="5479920"/>
            <a:ext cx="10666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76920" y="5659560"/>
            <a:ext cx="11026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17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230720" y="4417560"/>
            <a:ext cx="2238480" cy="1041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76560" y="5302080"/>
            <a:ext cx="11163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81240" y="4241880"/>
            <a:ext cx="11163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84120" y="1735200"/>
            <a:ext cx="2847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 closure is a record contai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address of a function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values of its free vari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62C0-D45C-42B0-A0F5-773932C4BA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Virtual Machine (v0.2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2655720" y="4014720"/>
            <a:ext cx="115740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96040" y="5238720"/>
            <a:ext cx="137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eally arra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54280" y="2716200"/>
            <a:ext cx="115740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7840" y="2276640"/>
            <a:ext cx="1683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33960" y="3740040"/>
            <a:ext cx="1157400" cy="154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51040" y="1440000"/>
            <a:ext cx="1157400" cy="12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3680" y="1168560"/>
            <a:ext cx="161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al-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40280" y="2176560"/>
            <a:ext cx="0" cy="8445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048200" y="1234800"/>
            <a:ext cx="0" cy="8557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98960" y="152712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53680" y="223200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r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35280" y="1446120"/>
            <a:ext cx="815760" cy="1019160"/>
          </a:xfrm>
          <a:custGeom>
            <a:avLst/>
            <a:gdLst/>
            <a:ahLst/>
            <a:rect l="l" t="t" r="r" b="b"/>
            <a:pathLst>
              <a:path w="780" h="627">
                <a:moveTo>
                  <a:pt x="0" y="627"/>
                </a:moveTo>
                <a:cubicBezTo>
                  <a:pt x="183" y="601"/>
                  <a:pt x="367" y="576"/>
                  <a:pt x="430" y="496"/>
                </a:cubicBezTo>
                <a:cubicBezTo>
                  <a:pt x="493" y="416"/>
                  <a:pt x="321" y="229"/>
                  <a:pt x="379" y="146"/>
                </a:cubicBezTo>
                <a:cubicBezTo>
                  <a:pt x="437" y="63"/>
                  <a:pt x="608" y="31"/>
                  <a:pt x="780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2320" y="2627280"/>
            <a:ext cx="839880" cy="566640"/>
          </a:xfrm>
          <a:custGeom>
            <a:avLst/>
            <a:gdLst/>
            <a:ahLst/>
            <a:rect l="l" t="t" r="r" b="b"/>
            <a:pathLst>
              <a:path w="817" h="597">
                <a:moveTo>
                  <a:pt x="0" y="597"/>
                </a:moveTo>
                <a:cubicBezTo>
                  <a:pt x="131" y="596"/>
                  <a:pt x="263" y="595"/>
                  <a:pt x="372" y="510"/>
                </a:cubicBezTo>
                <a:cubicBezTo>
                  <a:pt x="481" y="425"/>
                  <a:pt x="583" y="172"/>
                  <a:pt x="657" y="87"/>
                </a:cubicBezTo>
                <a:cubicBezTo>
                  <a:pt x="731" y="2"/>
                  <a:pt x="774" y="1"/>
                  <a:pt x="817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54360" y="4035600"/>
            <a:ext cx="3387600" cy="2092320"/>
          </a:xfrm>
          <a:custGeom>
            <a:avLst/>
            <a:gdLst/>
            <a:ahLst/>
            <a:rect l="l" t="t" r="r" b="b"/>
            <a:pathLst>
              <a:path w="2654" h="1130">
                <a:moveTo>
                  <a:pt x="0" y="301"/>
                </a:moveTo>
                <a:cubicBezTo>
                  <a:pt x="125" y="301"/>
                  <a:pt x="251" y="301"/>
                  <a:pt x="343" y="381"/>
                </a:cubicBezTo>
                <a:cubicBezTo>
                  <a:pt x="435" y="461"/>
                  <a:pt x="480" y="670"/>
                  <a:pt x="554" y="782"/>
                </a:cubicBezTo>
                <a:cubicBezTo>
                  <a:pt x="628" y="894"/>
                  <a:pt x="677" y="1003"/>
                  <a:pt x="788" y="1052"/>
                </a:cubicBezTo>
                <a:cubicBezTo>
                  <a:pt x="899" y="1101"/>
                  <a:pt x="1026" y="1130"/>
                  <a:pt x="1218" y="1074"/>
                </a:cubicBezTo>
                <a:cubicBezTo>
                  <a:pt x="1410" y="1018"/>
                  <a:pt x="1768" y="875"/>
                  <a:pt x="1940" y="716"/>
                </a:cubicBezTo>
                <a:cubicBezTo>
                  <a:pt x="2112" y="557"/>
                  <a:pt x="2134" y="236"/>
                  <a:pt x="2253" y="118"/>
                </a:cubicBezTo>
                <a:cubicBezTo>
                  <a:pt x="2372" y="0"/>
                  <a:pt x="2513" y="4"/>
                  <a:pt x="2654" y="9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55320" y="5403960"/>
            <a:ext cx="20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rray of instruc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839960" y="637812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62200" y="6251400"/>
            <a:ext cx="113364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21240" y="1154160"/>
            <a:ext cx="1157400" cy="15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47000" y="2759040"/>
            <a:ext cx="164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rray of val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688080" y="257292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745400" y="242424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[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60400" y="1081080"/>
            <a:ext cx="17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[heal_limi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59640" y="1241280"/>
            <a:ext cx="388800" cy="1116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3AB8-1A42-4F5B-89C1-133E4743F0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et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4079880" y="28861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25880" y="25416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74960" y="13176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91400" y="280656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4960" y="417816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38862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96960" y="399240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58760" y="37656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2880" y="17762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42120" y="12780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3160" y="4452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41781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69720" y="281304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53280" y="4395960"/>
            <a:ext cx="1157040" cy="22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77040" y="636912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46800" y="439596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0360" y="45259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02160" y="42991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4880" y="6465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46080" y="61722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50040" y="18050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C4B7-5ABE-4FC3-906C-3C4D098DD8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et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4079880" y="28861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14360" y="2541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93040" y="403848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16800" y="6222960"/>
            <a:ext cx="112212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97720" y="37465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15040" y="38527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76840" y="36259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54640" y="631980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85840" y="60260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08200" y="111456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78640" y="40561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35800" y="264960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16120" y="1641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03240" y="397368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27360" y="6157800"/>
            <a:ext cx="112212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08280" y="36813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25600" y="378792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7400" y="35607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65200" y="62546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96040" y="59612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11160" y="39974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34A3-F5EC-415C-8F1C-631AB79845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LANG Implementation Conven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1163880" y="4883040"/>
            <a:ext cx="6520680" cy="1797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__allocate : load 2       ; entry point for allo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copy   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push 1 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arith +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store 2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return       ; exit allo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81280" y="1395360"/>
            <a:ext cx="107928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1760" y="324648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817640" y="3258720"/>
            <a:ext cx="10666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3880" y="3587760"/>
            <a:ext cx="1054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48320" y="1295280"/>
            <a:ext cx="107964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25280" y="9856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11840" y="922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390760" y="2649600"/>
            <a:ext cx="3130560" cy="8445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14920" y="2732040"/>
            <a:ext cx="93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94760" y="2908440"/>
            <a:ext cx="99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00160" y="1917720"/>
            <a:ext cx="72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51880" y="3271680"/>
            <a:ext cx="1276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free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09640" y="4503600"/>
            <a:ext cx="348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ck this onto every jargon progra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46880" y="2822400"/>
            <a:ext cx="166824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We will tal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bout “garb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llection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nother day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044B-3F53-4189-8358-EA97FC6FA7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ddress of code may not be known at compile-time…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827280" y="1727280"/>
            <a:ext cx="6581520" cy="3448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 :int) : int {return a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x :int) : int {return a *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g else return 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f21 : int -&gt; int  = f(21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f17 : int -&gt; int  = f(17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17(3) + f21(-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6CC4-BA68-4374-8C33-037E9A4395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losure conversion (similar to “lambda lifting”)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276480" y="1200240"/>
            <a:ext cx="6581520" cy="1923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) {return a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x) {return a *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g else return 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4440" y="3913200"/>
            <a:ext cx="8410320" cy="1923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c, x) {return c.1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c, x) {return c.1 *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c,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(g, [a]) else return (h, [a]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34040" y="2790720"/>
            <a:ext cx="995400" cy="901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98560" y="5967360"/>
            <a:ext cx="21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.0 = code pointer 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48320" y="6221520"/>
            <a:ext cx="380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.1 = array of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or some other data structure…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FB60-62F1-4035-A9BF-A86C9C6A3E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2T14:43:11Z</dcterms:modified>
  <cp:revision>280</cp:revision>
  <dc:subject/>
  <dc:title>Slide 1</dc:title>
</cp:coreProperties>
</file>