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7F42-6442-499C-AE8C-1B587C125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7645-78EE-4775-9963-4E0BF1A28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6F18-9FD7-4E99-8DF5-5CF3CB2C6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BA7A-0064-4269-A6A0-F6C02CD59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153A-D54A-45B9-B5E9-1BA94B971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938B-2C61-4F2A-A5AC-283351924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E99A-4E35-4DF9-BDB8-FD4C7C0A6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4116-009A-484F-A0F0-D826FACDB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4C0F-2110-49B6-B558-EC9166B16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4B25-A849-463D-8D36-0085E176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ED2F-5DC2-4386-9A77-86D61AD8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F204-EB4D-4C7B-91BB-FEFA4418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811E-A214-40B9-B70E-4BA472CB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024C-C9C1-4C0C-88BB-13E2E330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3764-31C7-4C17-8815-4AB6A749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A952-4F15-4DD3-8555-2177FCFF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CDEB-FFC0-4D32-85F8-A3296957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48E3-547F-4558-A3D7-8275DDAF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FFFB-B368-4EAD-9C96-C6E28388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55E6-6479-4907-A55D-F1F731DF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3260-8F62-40DC-AA58-407E26C0B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5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R Parsing --- PART I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735D-5129-431F-950B-FDC7D4E8C8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ALR Stat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1120" y="11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for example the LR(1)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{[X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a], [Y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c]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{[X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b], [Y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d]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the sam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an be merged to the st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{[X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a/b], [Y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c/d]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called LALR(1) st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s for LookAhead L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10 times fewer LALR(1) states than LR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B0E7-80C3-4FB9-876B-10B758E617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For LALR(1), Collapse States ..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7831080" cy="4032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565440" y="5197320"/>
            <a:ext cx="4803840" cy="63684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06760" y="3576600"/>
            <a:ext cx="2211480" cy="10652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27240" y="3830760"/>
            <a:ext cx="7662600" cy="2512800"/>
          </a:xfrm>
          <a:custGeom>
            <a:avLst/>
            <a:gdLst/>
            <a:ahLst/>
            <a:rect l="l" t="t" r="r" b="b"/>
            <a:pathLst>
              <a:path w="4827" h="1583">
                <a:moveTo>
                  <a:pt x="0" y="336"/>
                </a:moveTo>
                <a:lnTo>
                  <a:pt x="51" y="1583"/>
                </a:lnTo>
                <a:lnTo>
                  <a:pt x="4827" y="1546"/>
                </a:lnTo>
                <a:lnTo>
                  <a:pt x="4754" y="0"/>
                </a:lnTo>
                <a:lnTo>
                  <a:pt x="3084" y="15"/>
                </a:lnTo>
                <a:lnTo>
                  <a:pt x="3069" y="751"/>
                </a:lnTo>
                <a:lnTo>
                  <a:pt x="4681" y="759"/>
                </a:lnTo>
                <a:lnTo>
                  <a:pt x="4717" y="1451"/>
                </a:lnTo>
                <a:lnTo>
                  <a:pt x="1123" y="1444"/>
                </a:lnTo>
                <a:lnTo>
                  <a:pt x="1247" y="292"/>
                </a:lnTo>
                <a:lnTo>
                  <a:pt x="0" y="336"/>
                </a:lnTo>
                <a:close/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49520" y="3067200"/>
            <a:ext cx="2511720" cy="2025360"/>
          </a:xfrm>
          <a:custGeom>
            <a:avLst/>
            <a:gdLst/>
            <a:ahLst/>
            <a:rect l="l" t="t" r="r" b="b"/>
            <a:pathLst>
              <a:path w="1582" h="1276">
                <a:moveTo>
                  <a:pt x="58" y="29"/>
                </a:moveTo>
                <a:lnTo>
                  <a:pt x="51" y="241"/>
                </a:lnTo>
                <a:lnTo>
                  <a:pt x="1538" y="241"/>
                </a:lnTo>
                <a:lnTo>
                  <a:pt x="1538" y="1050"/>
                </a:lnTo>
                <a:lnTo>
                  <a:pt x="7" y="1043"/>
                </a:lnTo>
                <a:lnTo>
                  <a:pt x="0" y="1276"/>
                </a:lnTo>
                <a:lnTo>
                  <a:pt x="1582" y="1262"/>
                </a:lnTo>
                <a:lnTo>
                  <a:pt x="1582" y="0"/>
                </a:lnTo>
                <a:lnTo>
                  <a:pt x="58" y="29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79640" y="1119240"/>
            <a:ext cx="54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mbine states 6 and 13, 7 and 12, 8 and 11, 10 and 1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E134-1524-4397-B776-FDAE4E95E7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ALR(1)-parse-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E15B-2C6E-4657-B42C-D67CEF88B7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ALR vs. LR Pars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LR languages are not “natura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an efficiency hack on LR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see claims that any reasonable programming language has a LALR(1) grammar, {Arguably this is done by defining languages without an LALR(1) grammar as unreasonabl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ny case, LALR(1) has become a standard for programming languages and for parser generators, in spite of its apparent complex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5E51-E117-4AE0-A4A9-B1C2EE27F8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xer and Parser Generator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471600" y="1238400"/>
            <a:ext cx="71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http://catalog.compilertools.net/lexpars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55960" y="1746360"/>
            <a:ext cx="1829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C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FLEX A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N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ISON/EIFF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T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OGENC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O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DEPO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FLE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60040" y="1798560"/>
            <a:ext cx="2093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HAP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HOL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 Black"/>
              </a:rPr>
              <a:t>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LL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C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RE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ROGRAM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VISUALPARSE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 Black"/>
              </a:rPr>
              <a:t>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YAC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99040" y="5722920"/>
            <a:ext cx="422388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’ll use ocamllex and ocamlyacc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6EEC-2B49-4EF8-921E-7E447EAD46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st.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368640" y="1589040"/>
            <a:ext cx="8105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ype binary_op = PlusOp | TimesOp | MinusOp | Div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ype unary_op = UnaryMinus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ype ast = Ident of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Number of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Unary of unary_op * a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Binary of binary_op * ast * a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F823-3073-4A37-8F50-78BECBC5D2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arser.mly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-322920" y="966960"/>
            <a:ext cx="700812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&lt;int&gt; 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&lt;string&gt; I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PLUS MINUS TIMES D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LPAREN RPA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E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left PLUS MINUS        /* lowest preceden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left TIMES DIV         /* medium preceden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nonassoc UMINUS        /* highest preceden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start parse_it         /* the entry point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ype &lt;ast&gt; parse_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arse_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pr EOF                { $1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p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T                     { Number($1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IDENT                   { Ident($1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LPAREN expr RPAREN      { $2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PLUS expr          { Binary(Plus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MINUS expr         { Binary(Minus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TIMES expr         { Binary(Times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DIV expr           { Binary(Div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MINUS expr %prec UMINUS { Unary(UnaryMinusOp, $2)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55440" y="6089760"/>
            <a:ext cx="4280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camlyacc parser.mly  </a:t>
            </a:r>
            <a:r>
              <a:rPr b="0" lang="en-U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parser.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in this case producing a 21-state D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809E-81F6-48B5-817C-AD699741D1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xer.ml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588960" y="1873080"/>
            <a:ext cx="81817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ule tokenize = pa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[' ' '\t' '\n' ]     { tokenize lexbuf } (* skip white-space 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['a'-'z' 'A'-'Z']['a'-'z' 'A'-'Z' '0'-'9']* as lxm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{ IDENT(lxm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['0'-'9']+ as lxm    { INT(int_of_string lxm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+'                  { PLU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-'                  { MINU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*'                  { TIME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/'                  { DIV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('                  { LPAREN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)'                  { RPAREN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of                  { EOF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93960" y="5354640"/>
            <a:ext cx="4818240" cy="131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ocamllex lexer.mll 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lexer.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(in this case producing an 11-state D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with 342 transi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21600" y="5803920"/>
            <a:ext cx="18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9905-B0F9-4AC0-B6CD-DBA9CEBA41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ow, Parse it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495000" y="1262160"/>
            <a:ext cx="83494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ast_of_string s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lexbuf = Lexing.from_string 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arse_it tokenize lexbu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st_of_string "(9 - 10) + ((-xyz100) * 44)"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PlusOp, Binary (MinusOp, Number 9, Number 1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TimesOp, Unary (UnaryMinusOp, Ident "xyz100"), Number 44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st_of_string "9 - 10 + -xyz100 * 44"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PlusOp, Binary (MinusOp, Number 9, Number 1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TimesOp, Unary (UnaryMinusOp, Ident "xyz100"), Number 44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60B9-9D4C-4083-8A47-6BE16C874B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crete vs. Abstract Syntax Tre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864080" y="1202400"/>
            <a:ext cx="1911240" cy="3812400"/>
            <a:chOff x="1864080" y="1202400"/>
            <a:chExt cx="1911240" cy="3812400"/>
          </a:xfrm>
        </p:grpSpPr>
        <p:sp>
          <p:nvSpPr>
            <p:cNvPr id="99" name=""/>
            <p:cNvSpPr/>
            <p:nvPr/>
          </p:nvSpPr>
          <p:spPr>
            <a:xfrm>
              <a:off x="3083400" y="120240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51480" y="1610280"/>
              <a:ext cx="10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 + 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6800" y="2067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96600" y="251676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(  S 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990880" y="1579680"/>
              <a:ext cx="14760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17760" y="1550880"/>
              <a:ext cx="14940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57280" y="157968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00160" y="1996920"/>
              <a:ext cx="0" cy="149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00160" y="2428920"/>
              <a:ext cx="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647800" y="2398680"/>
              <a:ext cx="163440" cy="16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90880" y="2398680"/>
              <a:ext cx="14760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20720" y="2067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55720" y="1996920"/>
              <a:ext cx="0" cy="16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35760" y="2958120"/>
              <a:ext cx="10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 + 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00160" y="2874960"/>
              <a:ext cx="0" cy="17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94320" y="340560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+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633400" y="2905200"/>
              <a:ext cx="192240" cy="16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75040" y="2874960"/>
              <a:ext cx="163440" cy="17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73280" y="333540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25000" y="338976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( S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73480" y="3321000"/>
              <a:ext cx="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75680" y="38199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+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109320" y="3753000"/>
              <a:ext cx="119160" cy="133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17760" y="3767040"/>
              <a:ext cx="103320" cy="11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273480" y="3782880"/>
              <a:ext cx="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127240" y="3276720"/>
              <a:ext cx="32688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334600" y="3321000"/>
              <a:ext cx="149400" cy="223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64080" y="379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066760" y="3766680"/>
              <a:ext cx="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73880" y="426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3035160" y="419904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74520" y="4253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066760" y="4199040"/>
              <a:ext cx="0" cy="11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93640" y="3910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543040" y="3797280"/>
              <a:ext cx="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56960" y="4555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63480" y="41342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206760" y="2385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63880" y="2780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05360" y="2780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22600" y="3196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18000" y="3196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4000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3068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7160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6372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222520" y="3500280"/>
            <a:ext cx="23796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80000" y="3530520"/>
            <a:ext cx="30240" cy="22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654520" y="3083040"/>
            <a:ext cx="252720" cy="23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2000" y="3112920"/>
            <a:ext cx="296640" cy="23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189840" y="3514680"/>
            <a:ext cx="149040" cy="22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43640" y="3500280"/>
            <a:ext cx="119160" cy="25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056280" y="2697120"/>
            <a:ext cx="223920" cy="23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43640" y="2666880"/>
            <a:ext cx="20808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4720" y="1218240"/>
            <a:ext cx="221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arse tree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derivation tree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oncrete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73480" y="2056320"/>
            <a:ext cx="32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bstract Syntax Tree (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91040" y="2776680"/>
            <a:ext cx="815760" cy="352440"/>
          </a:xfrm>
          <a:prstGeom prst="rightArrow">
            <a:avLst>
              <a:gd name="adj1" fmla="val 50000"/>
              <a:gd name="adj2" fmla="val 5786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84800" y="4267080"/>
            <a:ext cx="4140000" cy="811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An AST contains only the information needed to generate an intermediate re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1320" y="5562720"/>
            <a:ext cx="8110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ly a compiler constructs the concrete syntax tree only implici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 the parsing process) and explicitly constructs the AST vi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antic 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8BEC-6A4D-4C97-B632-8FE6EBB59B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Problem With LR(0) Pars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1193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新細明體"/>
              </a:rPr>
              <a:t>No look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新細明體"/>
              </a:rPr>
              <a:t>Vulnerable to unnecessary confl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新細明體"/>
              </a:rPr>
              <a:t>Shift/Reduce Conflicts (may reduce too soon in some ca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新細明體"/>
              </a:rPr>
              <a:t>Reduce/Reduce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新細明體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新細明體"/>
              </a:rPr>
              <a:t>LR(1) parsing - systematic look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B17A-F34A-4269-BBCB-DEAF5D3B41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R(1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17160" y="161100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R(1) i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ai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X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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 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terminal (the lookahead term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(1) means 1 lookahead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X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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a]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a context of the pars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trying to find an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ed by a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 (at least)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ready on top of th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we need to see next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fix derived 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B935-6668-4299-9B72-A2D1DFA4DD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Closure Oper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5880" y="128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modify closure operation: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ure(Items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[X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 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] in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roduction Y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rs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[Y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 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] to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il Items is un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2A8E-01A9-47A1-A1F5-0979B5F3F1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structing the Parsing DFA (2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473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FA state is a closed set of LR(1)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rt state contai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’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$, dumm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e that contain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[X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b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labeled with “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duce with X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n lookahead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ow the transitio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A99B-9046-4E01-8B53-D25D958FC9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DFA Transit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5040" y="1346040"/>
            <a:ext cx="822960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e s that contain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[X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b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a transition labeled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state obtained from Transition(s,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can be a terminal or a non-term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(s, 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s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= {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[X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]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[X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] to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Closure(It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C9E8-25A2-44FA-BB6C-7C25ACE71D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R(1)-the parse 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Shift and goto as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Re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tate I with item (A</a:t>
            </a:r>
            <a:r>
              <a:rPr b="0" lang="da-DK" sz="2800" spc="-1" strike="noStrike">
                <a:solidFill>
                  <a:srgbClr val="000000"/>
                </a:solidFill>
                <a:latin typeface="Symbol"/>
                <a:ea typeface="Symbol"/>
              </a:rPr>
              <a:t>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., z) gives a reduce A</a:t>
            </a:r>
            <a:r>
              <a:rPr b="0" lang="da-DK" sz="2800" spc="-1" strike="noStrike">
                <a:solidFill>
                  <a:srgbClr val="000000"/>
                </a:solidFill>
                <a:latin typeface="Symbol"/>
                <a:ea typeface="Symbol"/>
              </a:rPr>
              <a:t>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if z is the next character in the inpu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LR(1)-parse tables are very b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24D6-7208-4DCB-B7A5-593EFCCADD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R(1)-DFA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65320" y="1693800"/>
            <a:ext cx="7078680" cy="364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59480" y="5965920"/>
            <a:ext cx="70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From Andrew Appel, “Modern Compiler Implementation in Java” page 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0520" y="1897200"/>
            <a:ext cx="1250640" cy="31114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1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’ ::= 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= V 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V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*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5B30-86E3-49AA-8E97-1EA288ED0C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R(1)-parse 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24000" y="1484280"/>
          <a:ext cx="8569080" cy="4064040"/>
        </p:xfrm>
        <a:graphic>
          <a:graphicData uri="http://schemas.openxmlformats.org/drawingml/2006/table">
            <a:tbl>
              <a:tblPr/>
              <a:tblGrid>
                <a:gridCol w="536400"/>
                <a:gridCol w="534960"/>
                <a:gridCol w="534960"/>
                <a:gridCol w="534960"/>
                <a:gridCol w="536760"/>
                <a:gridCol w="534960"/>
                <a:gridCol w="536400"/>
                <a:gridCol w="536760"/>
                <a:gridCol w="533520"/>
                <a:gridCol w="536400"/>
                <a:gridCol w="534960"/>
                <a:gridCol w="536760"/>
                <a:gridCol w="534960"/>
                <a:gridCol w="534960"/>
                <a:gridCol w="534960"/>
                <a:gridCol w="5364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88AD-F8BD-439E-883D-43D7AD4A8C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9T13:21:22Z</dcterms:modified>
  <cp:revision>268</cp:revision>
  <dc:subject/>
  <dc:title>Slide 1</dc:title>
</cp:coreProperties>
</file>