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818E-D215-4C8A-A42F-BCBA1B1BC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B726-6CEF-44F6-9DBB-C694E1E0C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FB4-E5DD-4816-BA86-A9A5C0CD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367-8F8C-4765-8E71-7AF14CA8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29B-642C-45D9-9BC1-CA29C35E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82BD-ECCB-4F9B-8DD0-182B2DBB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B99-81D5-441E-B1B2-9EF12887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ECE-9490-401F-9164-E02AD380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4D9-AD51-4033-A605-23B3990E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E1C8-7347-463B-BF15-21886660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CC5E-1C4A-4E11-84C7-0E5C0417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AF2-45ED-4182-BD5C-29BC64B3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9D9-EAAF-4C41-BBA0-E6805522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630-320C-4F92-93B0-2C68C65B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C66A-7508-4A8B-A5F6-2A3F5DEF9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ava Virtual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0BF-7BE9-4E4C-BE0A-EF932B7F3B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0" y="838080"/>
            <a:ext cx="274320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3920" y="0"/>
            <a:ext cx="7772400" cy="55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ganization of JV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44792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05740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ta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2666880"/>
            <a:ext cx="259056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ho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838080"/>
            <a:ext cx="106704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838080"/>
            <a:ext cx="106668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838080"/>
            <a:ext cx="121896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733920"/>
            <a:ext cx="2286000" cy="228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4038480"/>
            <a:ext cx="1676520" cy="11430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4343400"/>
            <a:ext cx="167616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486400"/>
            <a:ext cx="1904760" cy="9907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loud"/>
          <p:cNvSpPr/>
          <p:nvPr/>
        </p:nvSpPr>
        <p:spPr>
          <a:xfrm>
            <a:off x="0" y="3581280"/>
            <a:ext cx="2286000" cy="1295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3962520"/>
            <a:ext cx="19051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C, FP, 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31400">
            <a:off x="1988640" y="461304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781400">
            <a:off x="1990800" y="51433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35053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5638680"/>
            <a:ext cx="16765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2526-B420-4749-ABF3-77B2884D2C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Load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4880" y="990360"/>
            <a:ext cx="87627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ing and importing the binary data for a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nsuring the correctness of the imported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repa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cating memory for class variables and initializing the memory to default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forming symbolic references from the type into direct refere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iti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voking Java code that initializes class variables to their proper starting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CE4-CDD9-433D-BEBC-45888F65E9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File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337760"/>
            <a:ext cx="3581280" cy="490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 of cons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superclass,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,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fields 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type/sign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 (private, public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code for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13320" y="1353960"/>
            <a:ext cx="6198840" cy="486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Fi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4 mag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in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aj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constant_pool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p_info constant_pool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constant_pool_count-1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ccess_flag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this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super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[interface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fiel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eld_info fields[fiel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etho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_info methods[metho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ttribut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ttribute_info attributes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attributes_count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B54-B80F-4469-A530-7D64FA5144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04840"/>
            <a:ext cx="419112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f(int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 i&lt;x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56272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tur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733920"/>
            <a:ext cx="16765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124080"/>
            <a:ext cx="16765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1066680"/>
            <a:ext cx="1676520" cy="2057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5400" y="90972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89520" y="3114720"/>
            <a:ext cx="11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50040" y="556416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F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31240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106668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71880" y="159084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D39F-64C8-4168-A611-8084EF4B28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– Each Thread Has its own Stack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838080"/>
            <a:ext cx="8077320" cy="129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438280"/>
            <a:ext cx="807732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447920"/>
            <a:ext cx="1600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1447920"/>
            <a:ext cx="1600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447920"/>
            <a:ext cx="1600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3733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876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590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3733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590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3733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C4C-C442-4C73-9F2F-2E73BDA0DA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Java objects are allocated in the 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applications cannot explicitly fre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rbage Coll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voked from time to time automatically to reclaim the objects that are no longer needed by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p is shared by all Java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723B-D913-4896-B7C9-0AACB8723D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Objects in the 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286000"/>
            <a:ext cx="2971800" cy="266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20040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666880"/>
            <a:ext cx="2210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838080"/>
            <a:ext cx="441936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1066680"/>
            <a:ext cx="167616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14479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9051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3623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28195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43434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4724280"/>
            <a:ext cx="167652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36576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4038480"/>
            <a:ext cx="167652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373392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2971800"/>
            <a:ext cx="304560" cy="457200"/>
          </a:xfrm>
          <a:custGeom>
            <a:avLst/>
            <a:gdLst/>
            <a:ahLst/>
            <a:rect l="l" t="t" r="r" b="b"/>
            <a:pathLst>
              <a:path w="248" h="336">
                <a:moveTo>
                  <a:pt x="248" y="336"/>
                </a:moveTo>
                <a:cubicBezTo>
                  <a:pt x="132" y="268"/>
                  <a:pt x="16" y="200"/>
                  <a:pt x="8" y="144"/>
                </a:cubicBezTo>
                <a:cubicBezTo>
                  <a:pt x="0" y="88"/>
                  <a:pt x="176" y="24"/>
                  <a:pt x="20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0240" y="2819520"/>
            <a:ext cx="863640" cy="1143000"/>
          </a:xfrm>
          <a:custGeom>
            <a:avLst/>
            <a:gdLst/>
            <a:ahLst/>
            <a:rect l="l" t="t" r="r" b="b"/>
            <a:pathLst>
              <a:path w="544" h="720">
                <a:moveTo>
                  <a:pt x="544" y="720"/>
                </a:moveTo>
                <a:cubicBezTo>
                  <a:pt x="336" y="620"/>
                  <a:pt x="128" y="520"/>
                  <a:pt x="64" y="432"/>
                </a:cubicBezTo>
                <a:cubicBezTo>
                  <a:pt x="0" y="344"/>
                  <a:pt x="80" y="264"/>
                  <a:pt x="160" y="192"/>
                </a:cubicBezTo>
                <a:cubicBezTo>
                  <a:pt x="240" y="120"/>
                  <a:pt x="392" y="60"/>
                  <a:pt x="5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1219320"/>
            <a:ext cx="1371600" cy="2209680"/>
          </a:xfrm>
          <a:custGeom>
            <a:avLst/>
            <a:gdLst/>
            <a:ahLst/>
            <a:rect l="l" t="t" r="r" b="b"/>
            <a:pathLst>
              <a:path w="864" h="1392">
                <a:moveTo>
                  <a:pt x="864" y="0"/>
                </a:moveTo>
                <a:cubicBezTo>
                  <a:pt x="792" y="112"/>
                  <a:pt x="720" y="224"/>
                  <a:pt x="672" y="384"/>
                </a:cubicBezTo>
                <a:cubicBezTo>
                  <a:pt x="624" y="544"/>
                  <a:pt x="688" y="792"/>
                  <a:pt x="576" y="960"/>
                </a:cubicBezTo>
                <a:cubicBezTo>
                  <a:pt x="464" y="1128"/>
                  <a:pt x="96" y="1320"/>
                  <a:pt x="0" y="13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962520"/>
            <a:ext cx="1066680" cy="6858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672"/>
                </a:moveTo>
                <a:cubicBezTo>
                  <a:pt x="560" y="512"/>
                  <a:pt x="448" y="352"/>
                  <a:pt x="336" y="240"/>
                </a:cubicBezTo>
                <a:cubicBezTo>
                  <a:pt x="224" y="128"/>
                  <a:pt x="56" y="4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3048120"/>
            <a:ext cx="584280" cy="1447560"/>
          </a:xfrm>
          <a:custGeom>
            <a:avLst/>
            <a:gdLst/>
            <a:ahLst/>
            <a:rect l="l" t="t" r="r" b="b"/>
            <a:pathLst>
              <a:path w="368" h="864">
                <a:moveTo>
                  <a:pt x="368" y="0"/>
                </a:moveTo>
                <a:cubicBezTo>
                  <a:pt x="216" y="216"/>
                  <a:pt x="64" y="432"/>
                  <a:pt x="32" y="576"/>
                </a:cubicBezTo>
                <a:cubicBezTo>
                  <a:pt x="0" y="720"/>
                  <a:pt x="88" y="792"/>
                  <a:pt x="176" y="8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6800" y="2133720"/>
            <a:ext cx="1079280" cy="1676160"/>
          </a:xfrm>
          <a:custGeom>
            <a:avLst/>
            <a:gdLst/>
            <a:ahLst/>
            <a:rect l="l" t="t" r="r" b="b"/>
            <a:pathLst>
              <a:path w="680" h="1056">
                <a:moveTo>
                  <a:pt x="104" y="0"/>
                </a:moveTo>
                <a:cubicBezTo>
                  <a:pt x="392" y="96"/>
                  <a:pt x="680" y="192"/>
                  <a:pt x="680" y="336"/>
                </a:cubicBezTo>
                <a:cubicBezTo>
                  <a:pt x="680" y="480"/>
                  <a:pt x="208" y="752"/>
                  <a:pt x="104" y="864"/>
                </a:cubicBezTo>
                <a:cubicBezTo>
                  <a:pt x="0" y="976"/>
                  <a:pt x="48" y="976"/>
                  <a:pt x="56" y="1008"/>
                </a:cubicBezTo>
                <a:cubicBezTo>
                  <a:pt x="64" y="1040"/>
                  <a:pt x="136" y="1048"/>
                  <a:pt x="152" y="10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2806560"/>
            <a:ext cx="3124080" cy="1168560"/>
          </a:xfrm>
          <a:custGeom>
            <a:avLst/>
            <a:gdLst/>
            <a:ahLst/>
            <a:rect l="l" t="t" r="r" b="b"/>
            <a:pathLst>
              <a:path w="1968" h="736">
                <a:moveTo>
                  <a:pt x="1968" y="680"/>
                </a:moveTo>
                <a:cubicBezTo>
                  <a:pt x="1536" y="708"/>
                  <a:pt x="1104" y="736"/>
                  <a:pt x="864" y="680"/>
                </a:cubicBezTo>
                <a:cubicBezTo>
                  <a:pt x="624" y="624"/>
                  <a:pt x="616" y="448"/>
                  <a:pt x="528" y="344"/>
                </a:cubicBezTo>
                <a:cubicBezTo>
                  <a:pt x="440" y="240"/>
                  <a:pt x="424" y="112"/>
                  <a:pt x="336" y="56"/>
                </a:cubicBezTo>
                <a:cubicBezTo>
                  <a:pt x="248" y="0"/>
                  <a:pt x="124" y="4"/>
                  <a:pt x="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5097-BC22-4297-9033-5AE1DDEABA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ytecode Interpret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3956040" y="1417680"/>
            <a:ext cx="5187960" cy="415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program not en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etch next bytecode =&gt;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witch(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ad an integer from th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array and push on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f current operand stack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STO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p an integer from the top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operand stack and 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t into the local variable ar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A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w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8040" y="2071800"/>
            <a:ext cx="3403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need extra memory to store compil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slower than execution of nativ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FDF-221E-4EF5-8EC1-EC2023CA80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ust-In-Tim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3000" y="649080"/>
            <a:ext cx="8381880" cy="2122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compiles bytecode into native code at runtime, usually in method gran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native code is much faster than interpretation of 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ation is time consuming and may slow down th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offs between execution time and compil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3640" y="5757840"/>
            <a:ext cx="22860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3640" y="4691160"/>
            <a:ext cx="22860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3640" y="34718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0000" y="298764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8640" y="4336920"/>
            <a:ext cx="1676160" cy="1143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0520" y="5708520"/>
            <a:ext cx="4876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0520" y="3956040"/>
            <a:ext cx="2286000" cy="1752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51560" y="27860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81800" y="372744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62840" y="471816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0840" y="30243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JIT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672-40BF-48F6-AB19-42FDACE969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daptiv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5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less than 20% of the methods account for more than 80% of execu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contains loop with large number of iteratio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that are frequently inv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only compile the methods where the application spends a lo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2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perform advanced compiler optimization for the hottest methods, simple or no compiler optimization for less ho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40B-2C72-401B-80B2-4CC2851A20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system overview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9280" y="1428840"/>
            <a:ext cx="5260680" cy="436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65160" y="3608280"/>
            <a:ext cx="4096080" cy="144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1200" y="3632040"/>
            <a:ext cx="225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JVM do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depend on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 independ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3E8-D616-407B-B6CE-148D83516B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Adaptive Compiler Work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60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ree thresholds T1, T2 (T1&lt;T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ethod has a counter that is initialized to 0. Whenever the method is invoked, increase its counter b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s with counter lower than T1 are executed using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1, compile this method with simple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2, recompile this method with advanced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BC5-79E9-4966-91BC-DE15A8C1CA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in the JVM Spec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343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codes – the instruction set for Java Virtual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File Format – The platform independent representation of Java binar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Rules – the algorithm for identifying programs that cannot compromise the integrity of the J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5080" y="5397480"/>
            <a:ext cx="6974640" cy="1068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VM Specification does not specif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a JVM is im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EF5-2F59-4588-856C-3B70D441E3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: typed instructions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12760" y="974880"/>
            <a:ext cx="893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are explicitly typed: different opCodes for instructions for integers, floats, arrays and referenc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s is reflected by a naming convention in the first letter of the opCode mnem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67040" y="2936880"/>
            <a:ext cx="109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l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d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7800" y="2968560"/>
            <a:ext cx="298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ger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ng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loat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ference-typ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0D58-4EFA-45DE-A051-CEA7664B8D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 set: kinds of operan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195560"/>
            <a:ext cx="893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have three kinds of opera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top of the operan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bytes following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part of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 instructions may have different “forms” supporting different kinds of oper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07800" y="3798720"/>
            <a:ext cx="14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4960" y="34988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30000" y="34876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inary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44800" y="383076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38800" y="3832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38800" y="4213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8800" y="4594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38800" y="4975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38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4800" y="5418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1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64120" y="5418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07800" y="5322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 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54920" y="613080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load 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ush the n-th local var on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EEB-F8CF-4685-97DC-8F696DB55B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exampl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82200" y="1390680"/>
            <a:ext cx="55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add, ladd, fadd, d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ub, lsub, fsub, d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ul, lmul, fmul, d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760" y="9144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ithmet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" y="2608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3880" y="316872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2l, i2f, i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f, l2d, f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i, d2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080" y="451476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 stack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p, pop2, dup, dup2, dup_x1, swa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onditional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to, goto_w, jsr, re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al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eq, iflt, ifg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A38-6299-4D44-BF76-EAC6082C6A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…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58920"/>
            <a:ext cx="8686800" cy="311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 invo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: usual instruction for calling a method on an obj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used when the called method is declared in an interface. (requires different kind of method look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alling things such as constructors. These are not dynamically dispatched (this instruction is also known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non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alling methods that have the “static” modifier (these methods “belong” to a class, rather an 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ing from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, ireturn, lreturn, areturn, f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710240"/>
            <a:ext cx="868680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class instance (objec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arr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reating arrays of primitiv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ewarray, multia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arrays of referenc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004-801B-43C6-A6DE-44DC387F41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oto instruction – 3 and 5 byte vers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83960" y="3351240"/>
            <a:ext cx="45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8) |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78120" y="1231920"/>
            <a:ext cx="1279440" cy="13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8120" y="168264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7480" y="208296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840" y="1278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7000" y="1461960"/>
            <a:ext cx="8287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42000" y="1308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55080" y="1714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51840" y="21366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41600" y="3309840"/>
            <a:ext cx="33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24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16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 8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30840" y="1203480"/>
            <a:ext cx="12798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30840" y="165420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0560" y="205416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09560" y="12492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0080" y="1433520"/>
            <a:ext cx="8287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5440" y="1279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60280" y="28065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68200" y="2097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6160" y="244152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279252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06360" y="2452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7560" y="17161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36160" y="4254480"/>
            <a:ext cx="40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signed 2’s compliment representation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779200" y="2498400"/>
            <a:ext cx="341280" cy="3024360"/>
          </a:xfrm>
          <a:custGeom>
            <a:avLst/>
            <a:gdLst>
              <a:gd name="textAreaLeft" fmla="*/ 0 w 341280"/>
              <a:gd name="textAreaRight" fmla="*/ 123120 w 341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95120" y="484812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7263000" y="3629520"/>
            <a:ext cx="341280" cy="1901880"/>
          </a:xfrm>
          <a:custGeom>
            <a:avLst/>
            <a:gdLst>
              <a:gd name="textAreaLeft" fmla="*/ 0 w 341280"/>
              <a:gd name="textAreaRight" fmla="*/ 123120 w 341280"/>
              <a:gd name="textAreaTop" fmla="*/ 49320 h 1901880"/>
              <a:gd name="textAreaBottom" fmla="*/ 1852560 h 19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9640" y="5530680"/>
            <a:ext cx="38412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target address must be that of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pcode of an instruction with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ethod that contai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is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(or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) instru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C417-AD2A-4930-913F-118970A93C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4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Fibonacci Forever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838440" y="358920"/>
            <a:ext cx="761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www.artima.com/insidejvm/applets/FibonacciForev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560" y="1636560"/>
            <a:ext cx="310680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Fibonacci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atic void calcSequence(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fiboNum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or (;;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96760" y="793800"/>
            <a:ext cx="30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 1, 2, 3, 5, 8, 13, 21, 34, 55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2760" y="1428840"/>
            <a:ext cx="59414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0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 lstore_0  % Pop long into local vars 0 &amp; 1: 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2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3 lstore_2  % Pop long into local vars 2 &amp; 3: 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4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5 lstore 4  % Pop long into local vars 4 &amp; 5: long fiboNum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7 lload_0   % Push long from local vars 0 &amp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8 lload_2 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9 ladd      % Pop two longs, add them, push res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0 lstore 4 % Pop long into local vars 4 &amp; 5: 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2 lload_2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3 lstore_0 % Pop long into local vars 0 &amp; 1: 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4 lload 4  % Push long from local vars 4 &amp;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6 lstore_2 % Pop long into local vars 2 &amp; 3: 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7 goto 7   % Jump back to offset 7: for (;;) {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2280" y="4941720"/>
            <a:ext cx="54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a 3f 0a 41 0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e 20 6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3f 16 04 4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7 ff f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840" y="4948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 CO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6680" y="52578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49200" y="52563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6360" y="5254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oto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5516640"/>
            <a:ext cx="22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“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sembles” to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goto -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08A-DAC3-4DE8-9FE5-362ABC7FA5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8Z</dcterms:modified>
  <cp:revision>288</cp:revision>
  <dc:subject/>
  <dc:title>Slide 1</dc:title>
</cp:coreProperties>
</file>