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07E-E441-4385-A82B-72FB30CC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5F6-AEAD-47A7-BB8B-EB8058B7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8D43-66E1-4974-82DD-1060D295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314-A543-453F-AD87-AB51E9BD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65C-5BC5-44AA-BB3E-5E0988B6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424-3036-4815-AFA6-C7D2F953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BEF-F405-4C36-B26A-E09CC326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365-2CC7-4655-A310-36FEE8F7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9C7E-CA67-4FF6-BFCB-0EB77A80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F680-BE33-4594-8B18-5D6C65F8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138-7434-46C1-8A3E-AADBCB0B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FA16-ACCD-41DD-80F7-A02F9890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8822-D923-4B10-A194-3A75C11F8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4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9641-970B-4CBC-A44F-BCBF43CFD6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新細明體"/>
              </a:rPr>
              <a:t>Q: How do we know when to shift and when to reduce? A: Build a FSA from LR(0) Ite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" y="1471680"/>
            <a:ext cx="3200400" cy="2308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 $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|  (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1523880"/>
            <a:ext cx="4191120" cy="4008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47640" y="5518080"/>
            <a:ext cx="350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R(0) items indicate what is on the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to the lef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 and what is still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the input stream (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the righ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600" y="3962520"/>
            <a:ext cx="2399760" cy="256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 produc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n LR(0)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EE59-9108-4807-8D10-8841E1B350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Key idea behind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3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current state” contains the ite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and the current symbol in the input buffer is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shift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next state will contain A ::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c •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reduc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S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$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d the input buffer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ut How about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here X is a nonterm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C066-F0A0-47D2-8FA7-9B42274F9B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NFA for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The transition of LR(0) items can be represented by an NFA, in 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1. each LR(0) item is a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2. there is a 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c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to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c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with label c, where c is a terminal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3. there is an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-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X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to X ::=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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where X is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4. S ::= • A $ is the star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5.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• is a final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CD2-276A-4137-8919-F3D73AEECD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 NFA for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" y="1728720"/>
            <a:ext cx="8458200" cy="14922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$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• $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(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6440" y="3429000"/>
            <a:ext cx="8259480" cy="3008160"/>
            <a:chOff x="406440" y="3429000"/>
            <a:chExt cx="8259480" cy="3008160"/>
          </a:xfrm>
        </p:grpSpPr>
        <p:sp>
          <p:nvSpPr>
            <p:cNvPr id="120" name=""/>
            <p:cNvSpPr/>
            <p:nvPr/>
          </p:nvSpPr>
          <p:spPr>
            <a:xfrm>
              <a:off x="61880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734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35760" y="3832200"/>
              <a:ext cx="1904400" cy="414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73440" y="3832200"/>
              <a:ext cx="1904760" cy="414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58840" y="3832200"/>
              <a:ext cx="1904760" cy="41436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588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 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11720" y="6021360"/>
              <a:ext cx="1904760" cy="4158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 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9712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588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124" idx="1"/>
              <a:endCxn id="125" idx="1"/>
            </p:cNvCxnSpPr>
            <p:nvPr/>
          </p:nvCxnSpPr>
          <p:spPr>
            <a:xfrm flipH="1" flipV="1" rot="10800000">
              <a:off x="1144080" y="4037400"/>
              <a:ext cx="2160" cy="2191320"/>
            </a:xfrm>
            <a:prstGeom prst="curvedConnector5">
              <a:avLst>
                <a:gd name="adj1" fmla="val -41000000"/>
                <a:gd name="adj2" fmla="val 50000"/>
                <a:gd name="adj3" fmla="val -410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1"/>
              <a:endCxn id="128" idx="1"/>
            </p:cNvCxnSpPr>
            <p:nvPr/>
          </p:nvCxnSpPr>
          <p:spPr>
            <a:xfrm flipH="1" flipV="1" rot="10800000">
              <a:off x="1144080" y="4037040"/>
              <a:ext cx="2160" cy="989280"/>
            </a:xfrm>
            <a:prstGeom prst="curvedConnector5">
              <a:avLst>
                <a:gd name="adj1" fmla="val -13500000"/>
                <a:gd name="adj2" fmla="val 49981"/>
                <a:gd name="adj3" fmla="val -135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4" idx="3"/>
              <a:endCxn id="123" idx="1"/>
            </p:cNvCxnSpPr>
            <p:nvPr/>
          </p:nvCxnSpPr>
          <p:spPr>
            <a:xfrm>
              <a:off x="3078000" y="4038120"/>
              <a:ext cx="576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2" name=""/>
            <p:cNvCxnSpPr>
              <a:stCxn id="128" idx="3"/>
              <a:endCxn id="127" idx="1"/>
            </p:cNvCxnSpPr>
            <p:nvPr/>
          </p:nvCxnSpPr>
          <p:spPr>
            <a:xfrm>
              <a:off x="3078000" y="5027040"/>
              <a:ext cx="505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3" name=""/>
            <p:cNvCxnSpPr>
              <a:stCxn id="127" idx="3"/>
              <a:endCxn id="120" idx="1"/>
            </p:cNvCxnSpPr>
            <p:nvPr/>
          </p:nvCxnSpPr>
          <p:spPr>
            <a:xfrm>
              <a:off x="5516640" y="5027040"/>
              <a:ext cx="657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4" name=""/>
            <p:cNvCxnSpPr>
              <a:stCxn id="125" idx="3"/>
              <a:endCxn id="121" idx="1"/>
            </p:cNvCxnSpPr>
            <p:nvPr/>
          </p:nvCxnSpPr>
          <p:spPr>
            <a:xfrm>
              <a:off x="3077640" y="6228720"/>
              <a:ext cx="5814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5" name=""/>
            <p:cNvCxnSpPr>
              <a:stCxn id="120" idx="3"/>
              <a:endCxn id="122" idx="3"/>
            </p:cNvCxnSpPr>
            <p:nvPr/>
          </p:nvCxnSpPr>
          <p:spPr>
            <a:xfrm flipH="1" flipV="1">
              <a:off x="7958880" y="4038120"/>
              <a:ext cx="147960" cy="989280"/>
            </a:xfrm>
            <a:prstGeom prst="curvedConnector5">
              <a:avLst>
                <a:gd name="adj1" fmla="val -145121"/>
                <a:gd name="adj2" fmla="val 49981"/>
                <a:gd name="adj3" fmla="val -145121"/>
              </a:avLst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6" name=""/>
            <p:cNvCxnSpPr>
              <a:stCxn id="121" idx="3"/>
              <a:endCxn id="126" idx="1"/>
            </p:cNvCxnSpPr>
            <p:nvPr/>
          </p:nvCxnSpPr>
          <p:spPr>
            <a:xfrm>
              <a:off x="5592600" y="6228720"/>
              <a:ext cx="500400" cy="10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7" name=""/>
            <p:cNvCxnSpPr>
              <a:stCxn id="127" idx="2"/>
              <a:endCxn id="125" idx="0"/>
            </p:cNvCxnSpPr>
            <p:nvPr/>
          </p:nvCxnSpPr>
          <p:spPr>
            <a:xfrm rot="5400000">
              <a:off x="2953440" y="4410000"/>
              <a:ext cx="753480" cy="2438640"/>
            </a:xfrm>
            <a:prstGeom prst="bentConnector3">
              <a:avLst>
                <a:gd name="adj1" fmla="val 47466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27" idx="0"/>
              <a:endCxn id="128" idx="0"/>
            </p:cNvCxnSpPr>
            <p:nvPr/>
          </p:nvCxnSpPr>
          <p:spPr>
            <a:xfrm rot="5400000">
              <a:off x="3328920" y="3584520"/>
              <a:ext cx="2520" cy="2438640"/>
            </a:xfrm>
            <a:prstGeom prst="curvedConnector5">
              <a:avLst>
                <a:gd name="adj1" fmla="val -23800000"/>
                <a:gd name="adj2" fmla="val 49992"/>
                <a:gd name="adj3" fmla="val -238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3125880" y="3429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4160" y="4417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5160" y="450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5160" y="5675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6080" y="5584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2960" y="423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2520" y="423216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560" y="513072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70320" y="427500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C36-4D52-4A32-91E2-A278BABECA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DFA from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6040" y="1114200"/>
            <a:ext cx="8229600" cy="270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fter the NFA for LR(0) is constructed, the resulting DFA for LR(0) parsing can be obtained by the usual NFA2DFA co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e thus requ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-closure (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ove(S, 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868560"/>
            <a:ext cx="8229600" cy="25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ixed Point Algorithm for 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very ite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lso an item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s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an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n item,  then ad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new items can be added 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A2E-2687-4574-817C-A4F6094FD2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9440" y="1447920"/>
            <a:ext cx="5181480" cy="20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::=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81000" y="4583160"/>
            <a:ext cx="3810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$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2400" y="458316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334040" y="458316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7840" y="3821040"/>
            <a:ext cx="4435200" cy="2595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73920" y="1708200"/>
            <a:ext cx="290484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9141-5CE4-4436-8936-0301EDA43A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Goto() of a set of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 finds the new state after consuming a grammar symbol while in the curren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lgorithm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h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set of ite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non-ter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720" y="4191120"/>
            <a:ext cx="889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oto(I, X) = Closure(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X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525780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is the new set obtained by “moving the dot” over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65E9-20B8-4A6C-9E4E-B9EA1A4308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G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9440" y="1447920"/>
            <a:ext cx="5486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•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7360" y="2209680"/>
            <a:ext cx="28954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3692520"/>
            <a:ext cx="468792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 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1480" y="4454640"/>
            <a:ext cx="3809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12880" y="4378320"/>
            <a:ext cx="3885840" cy="685800"/>
            <a:chOff x="812880" y="4378320"/>
            <a:chExt cx="3885840" cy="685800"/>
          </a:xfrm>
        </p:grpSpPr>
        <p:sp>
          <p:nvSpPr>
            <p:cNvPr id="175" name=""/>
            <p:cNvSpPr/>
            <p:nvPr/>
          </p:nvSpPr>
          <p:spPr>
            <a:xfrm>
              <a:off x="81288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39344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738760" y="1812960"/>
            <a:ext cx="290520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D3F6-9C53-436A-8BA4-8BB5FD3748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74320" y="1306440"/>
            <a:ext cx="853452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ssentially the usual NFA2DFA constructio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Let A be the start symbol and S a new start symb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a new rule S ::= A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the first state to be Closure({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ick a st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or each item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ind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not already a state, mak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dd an edge X from st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addition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the DFA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592-3528-4B4C-86C0-75D8B44DAF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22860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DFA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9120" y="253044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4360" y="22334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43200" y="21067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000" y="1809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/>
          <p:nvPr/>
        </p:nvCxnSpPr>
        <p:spPr>
          <a:xfrm flipH="1" flipV="1" rot="5400000">
            <a:off x="2433240" y="132012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203560" y="1941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7240" y="2741760"/>
            <a:ext cx="1981080" cy="11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5680" y="244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2438280" y="2952360"/>
            <a:ext cx="1115280" cy="35316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2653920" y="3024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19920" y="3446640"/>
            <a:ext cx="1905120" cy="352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endCxn id="191" idx="1"/>
          </p:cNvCxnSpPr>
          <p:nvPr/>
        </p:nvCxnSpPr>
        <p:spPr>
          <a:xfrm flipV="1">
            <a:off x="5548320" y="3622320"/>
            <a:ext cx="1357920" cy="248400"/>
          </a:xfrm>
          <a:prstGeom prst="curvedConnector5">
            <a:avLst>
              <a:gd name="adj1" fmla="val 50517"/>
              <a:gd name="adj2" fmla="val 49927"/>
              <a:gd name="adj3" fmla="val 50517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234120" y="36669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4680" y="30942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/>
          <p:nvPr/>
        </p:nvCxnSpPr>
        <p:spPr>
          <a:xfrm flipH="1" rot="16200000">
            <a:off x="5273640" y="301716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6006960" y="26701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7240" y="450540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endCxn id="197" idx="0"/>
          </p:cNvCxnSpPr>
          <p:nvPr/>
        </p:nvCxnSpPr>
        <p:spPr>
          <a:xfrm rot="5400000">
            <a:off x="4233960" y="416772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4870080" y="3940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00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19920" y="450540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endCxn id="201" idx="0"/>
          </p:cNvCxnSpPr>
          <p:nvPr/>
        </p:nvCxnSpPr>
        <p:spPr>
          <a:xfrm flipV="1" rot="10800000">
            <a:off x="7871760" y="381276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835760" y="3870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468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525-FF9A-4DEB-9887-E38B2CC5F6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ut wait! What if there are conflicts in the predictive parsing table?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132560" y="1201680"/>
            <a:ext cx="1689480" cy="22885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d | X Y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 ::= c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Y |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35920" y="172260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60880" y="1611360"/>
            <a:ext cx="4038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2760" y="125568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FIRST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8160" y="1676520"/>
            <a:ext cx="718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7960" y="1676520"/>
            <a:ext cx="104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 ,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5520" y="1676520"/>
            <a:ext cx="118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 a,d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9360" y="495288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800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46640" y="4379760"/>
            <a:ext cx="46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      c                             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9960" y="4876920"/>
            <a:ext cx="228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a, 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5600" y="4876920"/>
            <a:ext cx="2027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, Y ::= c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6360" y="4876920"/>
            <a:ext cx="261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, S ::= d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533412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4800600"/>
            <a:ext cx="28954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1120" y="3854520"/>
            <a:ext cx="58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resulting “predictive” table is not so predictiv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B8BD-4306-47A7-A409-EAADEF90FB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5120" y="433548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0360" y="40384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19560" y="391176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68000" y="361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/>
          <p:nvPr/>
        </p:nvCxnSpPr>
        <p:spPr>
          <a:xfrm flipH="1" flipV="1" rot="5400000">
            <a:off x="2109240" y="312516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879920" y="3746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3240" y="4546440"/>
            <a:ext cx="1981080" cy="1128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92040" y="42498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/>
          <p:nvPr/>
        </p:nvCxnSpPr>
        <p:spPr>
          <a:xfrm>
            <a:off x="2114280" y="4757400"/>
            <a:ext cx="1114920" cy="353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2330280" y="4829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95920" y="52513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endCxn id="216" idx="1"/>
          </p:cNvCxnSpPr>
          <p:nvPr/>
        </p:nvCxnSpPr>
        <p:spPr>
          <a:xfrm flipV="1">
            <a:off x="5223960" y="5427360"/>
            <a:ext cx="1358280" cy="248400"/>
          </a:xfrm>
          <a:prstGeom prst="curvedConnector5">
            <a:avLst>
              <a:gd name="adj1" fmla="val 50503"/>
              <a:gd name="adj2" fmla="val 49927"/>
              <a:gd name="adj3" fmla="val 5050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910480" y="54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21040" y="4898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"/>
          <p:cNvCxnSpPr/>
          <p:nvPr/>
        </p:nvCxnSpPr>
        <p:spPr>
          <a:xfrm flipH="1" rot="16200000">
            <a:off x="4949640" y="482220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5682960" y="4475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324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endCxn id="222" idx="0"/>
          </p:cNvCxnSpPr>
          <p:nvPr/>
        </p:nvCxnSpPr>
        <p:spPr>
          <a:xfrm rot="5400000">
            <a:off x="3910320" y="597276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46440" y="57452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6800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9592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endCxn id="226" idx="0"/>
          </p:cNvCxnSpPr>
          <p:nvPr/>
        </p:nvCxnSpPr>
        <p:spPr>
          <a:xfrm flipV="1" rot="10800000">
            <a:off x="7547760" y="561780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7511760" y="5675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2104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Creating the Parse Table(s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225520" y="1084320"/>
          <a:ext cx="7112160" cy="250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5520" y="1084320"/>
                    <a:ext cx="7112160" cy="2508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-17640" y="1484280"/>
            <a:ext cx="2087640" cy="205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AE0-309A-4E3A-B70F-AA79E70658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ing with an LR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316080" y="1333440"/>
            <a:ext cx="862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table and top-of-stack and input symbol to get 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action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hift sn  : advance input one tok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sn on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duce X ::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: pop stack 2*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| times (grammar symb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e paired with states).  In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w on top of stac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goto table to get n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ate s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it on top of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ccept : stop and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rror : weep (actually, produce a good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ssag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00A-1C21-4A43-BB91-F09AC2A423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arsing, agai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286000" y="990720"/>
          <a:ext cx="7112160" cy="273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0720"/>
                    <a:ext cx="7112160" cy="2732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526040" y="4010040"/>
            <a:ext cx="6136560" cy="283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                                  (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                            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                       ))$                          shift 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) s5                  )$                           reduce A ::=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                           )$                            goto 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                      )$                            shift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) s4                 $                            reduce A::=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                                   $                            goto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s1                               $                            ACCEP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287360"/>
            <a:ext cx="2087640" cy="2051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746-4979-40F8-9FD9-0367670ADB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 Parsing Algorith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28480" y="2200320"/>
          <a:ext cx="1265400" cy="4657680"/>
        </p:xfrm>
        <a:graphic>
          <a:graphicData uri="http://schemas.openxmlformats.org/drawingml/2006/table">
            <a:tbl>
              <a:tblPr/>
              <a:tblGrid>
                <a:gridCol w="1265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271680" y="1125360"/>
          <a:ext cx="3774960" cy="51768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560"/>
                <a:gridCol w="630360"/>
                <a:gridCol w="628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954160" y="4343400"/>
          <a:ext cx="4596120" cy="2138040"/>
        </p:xfrm>
        <a:graphic>
          <a:graphicData uri="http://schemas.openxmlformats.org/drawingml/2006/table">
            <a:tbl>
              <a:tblPr/>
              <a:tblGrid>
                <a:gridCol w="2298960"/>
                <a:gridCol w="2297160"/>
              </a:tblGrid>
              <a:tr h="21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ction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rminals and 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four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Goto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n-term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 each item 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  a st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3305160" y="5105520"/>
            <a:ext cx="14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05160" y="5105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27520" y="5105520"/>
            <a:ext cx="14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27520" y="5105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587760" y="2438280"/>
          <a:ext cx="2695680" cy="1211400"/>
        </p:xfrm>
        <a:graphic>
          <a:graphicData uri="http://schemas.openxmlformats.org/drawingml/2006/table">
            <a:tbl>
              <a:tblPr/>
              <a:tblGrid>
                <a:gridCol w="2695680"/>
              </a:tblGrid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 Parsing 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599760" y="1189080"/>
            <a:ext cx="19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c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t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rammar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91080" y="11444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43360" y="275112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1898640" y="2549160"/>
            <a:ext cx="1689120" cy="42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010040" y="3657600"/>
            <a:ext cx="8431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3160" y="3657600"/>
            <a:ext cx="9144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924440" y="1752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30960" y="3048120"/>
            <a:ext cx="1125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B875-C1F0-46EE-9BC2-24363FBE54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1), LL(k), LR(0), LR(1),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(k) : (L)eft-to-right parse, (L)eft-most derivation, k-symbol lookahead.  Based on looking at the next k tokens, an LL(k) parser m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ext production. We have been looking at LL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(k) : (L)eft-to-right parse, (R)ight-most derivation, k-symbol lookahead. Postpone production selection unti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ent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ght-hand-side has been seen (and as many as k symbols beyond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LR(1) : A special subclass of LR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C56-0D64-4C21-80F7-C8B03D6937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World 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5962680" cy="4962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26160" y="6151680"/>
            <a:ext cx="70754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3840" y="2819520"/>
            <a:ext cx="22824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ost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nguage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L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71C-78D6-40CF-B95E-B2B9EC9DE2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2825280" y="1308240"/>
            <a:ext cx="32806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; S | ID = E 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+ E 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66440" y="4308480"/>
            <a:ext cx="62218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SEMI S | ID EQUAL E | PRINT LPAREN L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PLUS E | LPAREN S COMMA E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 COMMA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6320" y="3927600"/>
            <a:ext cx="60559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consistent, I should write the following, but I won’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F31-9B41-4B5D-BAA9-B4F00E7649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Right-most derivatio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425520" y="1295280"/>
            <a:ext cx="1558440" cy="36601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1066680"/>
            <a:ext cx="510552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c + ( d = 5 + 6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2FE-D777-4E37-A7B1-7F8DF8A9DC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turn it upside dow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1976400" y="988920"/>
            <a:ext cx="4800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NUM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E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ID + ( d = 5 + 6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NUM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NUM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E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I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A4A6-7099-4C6C-95EE-F552238C2B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slice it down the middle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149400" y="1000080"/>
            <a:ext cx="3124080" cy="47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84640" y="1023840"/>
            <a:ext cx="527688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 = 7 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7 ; b = c + ( d = 5 + 6, d )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c + ( d = 5 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)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3440" y="5813280"/>
            <a:ext cx="2681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stack of 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n-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24480" y="5533920"/>
            <a:ext cx="2911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rest of the input st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63440" y="12636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481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69848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382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63440" y="21668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63440" y="234792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63440" y="25542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63440" y="2759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-581040" y="29538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-352440" y="31824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-123840" y="3411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04760" y="36396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-139680" y="382284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-384120" y="4005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-606600" y="42350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-514440" y="446220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-378000" y="44636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-149400" y="46922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-347760" y="490968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0" y="508176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0" y="528444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43EA-7C7F-496E-BE0C-952D080C48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w, add some actions. s = SHIFT, r = REDUC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14400"/>
            <a:ext cx="3124080" cy="617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914400"/>
            <a:ext cx="3657600" cy="61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914400"/>
            <a:ext cx="2362320" cy="72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+E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r E ::= (S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240" y="6481800"/>
            <a:ext cx="1153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7320" y="5950080"/>
            <a:ext cx="5164200" cy="717480"/>
          </a:xfrm>
          <a:prstGeom prst="leftArrow">
            <a:avLst>
              <a:gd name="adj1" fmla="val 50000"/>
              <a:gd name="adj2" fmla="val 17994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HIFT = LEX + move token to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5B9D-FBD1-4575-9BF2-135211BD6F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6Z</dcterms:modified>
  <cp:revision>269</cp:revision>
  <dc:subject/>
  <dc:title>Slide 1</dc:title>
</cp:coreProperties>
</file>