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87C70-8030-4AB4-A0FE-2F787027D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93D0E-D51D-44F5-AE85-F25448D87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ED9A-08F7-42E5-AB61-3D82ACE10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412B-4DC3-4847-AA78-1EA5DF84A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4169-F455-43CC-B005-99F414961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01DB-8162-42D3-A2AB-CCCDA1C32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8281-6752-410C-9156-64321F22A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9CF6-F693-47BD-99A5-F76A51A21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E663-68E9-4314-A46B-084190780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DEAD-E3A3-4917-8051-91B996ED1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713C-41D8-460A-8D78-0DB008053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75E8-D6DA-4317-905D-82C2C6CE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5A4B-4F32-46BC-8E83-0514CE9C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02D8-D544-447C-8467-D5815D21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DDEB7-C870-4F0E-AA3E-7EB3E4AE9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9640"/>
            <a:ext cx="7772400" cy="2291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03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ntext Free Grammars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and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Predictive Parsing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1007-65F4-4800-BBC2-83B15E1D380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write?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1" name=""/>
          <p:cNvSpPr/>
          <p:nvPr/>
        </p:nvSpPr>
        <p:spPr>
          <a:xfrm>
            <a:off x="1488960" y="1371600"/>
            <a:ext cx="5050080" cy="15800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= WE | NE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WE ::= 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if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E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then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WE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else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WE |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blah-blah 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NE  ::= 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if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E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then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if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E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then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WE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else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140720" y="4800600"/>
            <a:ext cx="3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753520" y="480060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55120" y="4800600"/>
            <a:ext cx="3070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131440" y="6172200"/>
            <a:ext cx="3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515640" y="617220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893200" y="6172200"/>
            <a:ext cx="3070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341840" y="617220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826760" y="6172200"/>
            <a:ext cx="65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560800" y="617220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4343040" y="4343400"/>
            <a:ext cx="7621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5486040" y="4343400"/>
            <a:ext cx="12193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 flipV="1">
            <a:off x="5486400" y="4343400"/>
            <a:ext cx="45720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257800" y="441972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7010280" y="5638680"/>
            <a:ext cx="457200" cy="5335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7010280" y="5638680"/>
            <a:ext cx="1067040" cy="5335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7009920" y="5638680"/>
            <a:ext cx="1676520" cy="5335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6781680" y="571500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334120" y="5638680"/>
            <a:ext cx="129528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6095880" y="5715000"/>
            <a:ext cx="5335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31800" y="327672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5257800" y="365760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139360" y="4038480"/>
            <a:ext cx="4809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6781680" y="502920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656040" y="4724280"/>
            <a:ext cx="305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662880" y="5334120"/>
            <a:ext cx="5205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5440" y="3200400"/>
            <a:ext cx="3533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w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f e1 then if e2 then s1 else s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has a unique deriv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29280" y="6019920"/>
            <a:ext cx="2347920" cy="64260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ote: L(G3) = L(G4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an you prove i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50B8-D0D9-455D-A3D4-9225A9F36C2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Fun Fact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147600" y="3274920"/>
                <a:ext cx="85345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m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m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1" name=""/>
          <p:cNvSpPr/>
          <p:nvPr/>
        </p:nvSpPr>
        <p:spPr>
          <a:xfrm>
            <a:off x="313920" y="1447920"/>
            <a:ext cx="548424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e Hopcroft and Ullman, “Introduction to Autom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eory, Languages, and Computatio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7360" y="2209680"/>
            <a:ext cx="70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Some context free languages 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herently ambiguo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-- eve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xt-free grammar will be ambiguous.  For exampl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55720" y="4483080"/>
            <a:ext cx="596880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(2) Checking for ambiguity in an arbitrary context-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grammar is not decidable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932760" y="5614920"/>
            <a:ext cx="666684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(3) Given two grammars G1 and G2, checking L(G1) = L(G2)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not decidabl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843A-1AF9-4674-BEA4-A93C86FCD40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Generation vs. Pars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ntext-Free Grammars (CFGs) and language </a:t>
            </a:r>
            <a:r>
              <a:rPr b="0" i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generation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rivation t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mbig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is the inverse of generatio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iven an input string, is it in the language generated by a CF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f so, construct a derivation tree (normally called a </a:t>
            </a:r>
            <a:r>
              <a:rPr b="0" i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parse tre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op-down par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ottom-up par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AB27-F51D-4002-B63B-6D5CF3DCE6B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Predictive (Recursive Descent) Parsing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68" name=""/>
          <p:cNvSpPr/>
          <p:nvPr/>
        </p:nvSpPr>
        <p:spPr>
          <a:xfrm>
            <a:off x="430920" y="1905120"/>
            <a:ext cx="2472840" cy="283716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5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if E then S else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begin S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print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NUM =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 ::=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; S 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453480" y="1905120"/>
            <a:ext cx="5392800" cy="392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t tok = getToke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void advance() {tok = getToken();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void eat (int t) {if (tok == t) advance(); else error();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void S() {switch(tok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ase IF:    eat(IF); E(); eat(THEN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(); eat(ELSE); S(); break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ase BEGIN: eat(BEGIN); S(); L(); break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ase PRINT: eat(PRINT); E(); break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default: error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void L() {switch(tok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ase END:  eat(END); brea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ase SEMI: eat(SEMI); S(); L(); break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default: error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void E() {eat(NUM) ; eat(EQ); eat(NUM);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80560" y="6568920"/>
            <a:ext cx="537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Black"/>
              </a:rPr>
              <a:t>From Andrew Appel, “Modern Compiler Implementation in Java” page 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95200" y="5791320"/>
            <a:ext cx="45316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 corresponds to a left-most der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ed in a “top-down” ma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A4B0-CD1B-4AB9-BC59-B1C906DBFD5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an we automate this?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3" name=""/>
          <p:cNvSpPr/>
          <p:nvPr/>
        </p:nvSpPr>
        <p:spPr>
          <a:xfrm>
            <a:off x="1683360" y="1447920"/>
            <a:ext cx="5494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[X] = the set of terminal symbols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gin strings derived from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[X] = the set of terminal symbols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immediately follow X in s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able[X] = true of X can derive the empty str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se otherw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893960" y="874800"/>
            <a:ext cx="474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non-terminal X we need to comp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48600" y="4495680"/>
            <a:ext cx="7261200" cy="8240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nullable[Z] = false, for Z in 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nullable[Y1 Y2 … Yk] = nullable[Y1] and … nullable[Yk], for Y(i) in N union 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9960" y="4989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392840" y="5334120"/>
            <a:ext cx="6041880" cy="13107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IRST[Z] = {Z}, for Z in 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IRST[ X Y1 Y2 … Yk] = FIRST[X] if not nullable[X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IRST[ X Y1 Y2 … Yk] =FIRST[X] union FIRST[Y1 … Yk] otherw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8FF3-6B4C-4995-AB8B-0A2678D7209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31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omputing First, Follow, and nullable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9" name=""/>
          <p:cNvSpPr/>
          <p:nvPr/>
        </p:nvSpPr>
        <p:spPr>
          <a:xfrm>
            <a:off x="838800" y="1143000"/>
            <a:ext cx="6612120" cy="558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terminal symbol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[Z] := {Z}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able[Z] := fals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non-terminal symbo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[X] := FOLLOW[X] := {}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able[X] := fals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production X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1 Y2 … Y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1, … Yk are all nullable, or k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nullable[X] := tr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i from 1 to k, each j from i + I to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1 … Y(i-1) are all nullable or i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 FIRST[X] := FIRST[X] union FIRST[Y(i)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(i+1) … Yk are all nullable or if i =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FOLLOW[Y(i)] := FOLLOW[Y(i)] union FOLLOW[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(i+1) … Y(j-1) are all nullable or i+1 = 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FOLLOW[Y(i)] := FOLLOW[Y(i)] union FIRST[Y(j)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til there is no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0B46-D0FA-41BF-B8A4-E11831E5D90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Eliminating Left Recurs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81" name=""/>
          <p:cNvSpPr/>
          <p:nvPr/>
        </p:nvSpPr>
        <p:spPr>
          <a:xfrm>
            <a:off x="594000" y="2362320"/>
            <a:ext cx="1269000" cy="39344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E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E +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E –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 ::= T *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T /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47280" y="1143000"/>
            <a:ext cx="3693600" cy="420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T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E +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cause proble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FIRST(T) will be inclu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FIRST(E + T) ---- so how c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decide which podu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use based on next tok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: eliminate “left recursion”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’ ::= + T E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09680" y="5943600"/>
            <a:ext cx="4419720" cy="533520"/>
          </a:xfrm>
          <a:prstGeom prst="rightArrow">
            <a:avLst>
              <a:gd name="adj1" fmla="val 50000"/>
              <a:gd name="adj2" fmla="val 207102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Eliminate left recu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917400" y="1295280"/>
            <a:ext cx="1427400" cy="50317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6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E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’ ::= +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–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 ::=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’ ::= *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/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 rot="2332800">
            <a:off x="10186560" y="2139480"/>
            <a:ext cx="3033720" cy="399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22D7-E361-4A1B-BB49-4D96D5DB460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7.40741E-007 L -1.57361 -0.32176 E">
                                      <p:cBhvr>
                                        <p:cTn id="416" dur="2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First, Follow, nullable table for G6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87" name=""/>
          <p:cNvSpPr/>
          <p:nvPr/>
        </p:nvSpPr>
        <p:spPr>
          <a:xfrm>
            <a:off x="762120" y="2286000"/>
            <a:ext cx="6095880" cy="3429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7480" y="2406600"/>
            <a:ext cx="406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66960" y="1865160"/>
            <a:ext cx="53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able                    FIRST                      FO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145160" y="2438280"/>
            <a:ext cx="73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667600" y="2438280"/>
            <a:ext cx="1541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(, ID, NUM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(, ID, NUM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+, -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(, ID, NUM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*, /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(, ID, NUM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875480" y="2438280"/>
            <a:ext cx="1666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), $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), $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), +, -, $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), +, -, $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), *, /, +, -, $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221960" y="1295280"/>
            <a:ext cx="1427400" cy="50317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6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E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’ ::= +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–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 ::=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’ ::= *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/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3416-D0AB-4239-BF3C-2DF8F7DB9EB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Predictive Parsing Table for G6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95" name=""/>
          <p:cNvSpPr/>
          <p:nvPr/>
        </p:nvSpPr>
        <p:spPr>
          <a:xfrm>
            <a:off x="533520" y="3124080"/>
            <a:ext cx="8610480" cy="2438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84680" y="3124080"/>
            <a:ext cx="356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’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535400" y="2666880"/>
            <a:ext cx="64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+                *                 (                 )            ID           NUM       $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26840" y="3124080"/>
            <a:ext cx="10206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’ ::= + T E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’ ::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020320" y="3124080"/>
            <a:ext cx="10555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’ ::= * F T’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599280" y="3124080"/>
            <a:ext cx="842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S ::= E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 ::= T E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 ::= F T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F ::= (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087160" y="3124080"/>
            <a:ext cx="5983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’ ::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’ ::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885280" y="3124080"/>
            <a:ext cx="842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S ::= E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 ::= T E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 ::= F T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F ::=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074720" y="3124080"/>
            <a:ext cx="990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S ::= E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 ::= T E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 ::= F T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F ::= 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287560" y="3200400"/>
            <a:ext cx="5983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’ ::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’ ::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33880" y="1143000"/>
            <a:ext cx="35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[ X, T ] = Set of produc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61760" y="1523880"/>
            <a:ext cx="53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Y1…Yk   in Table[ X, T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 in FIRST[Y1 … Yk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if (T in FOLLOW[X] and nullable[Y1 … Yk]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502680" y="1219320"/>
            <a:ext cx="2059920" cy="1006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Black"/>
              </a:rPr>
              <a:t>NOTE: this coul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Black"/>
              </a:rPr>
              <a:t>lead to more th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Black"/>
              </a:rPr>
              <a:t>one entry! If so,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Black"/>
              </a:rPr>
              <a:t>of luck --- can’t d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Black"/>
              </a:rPr>
              <a:t>recursive descent pars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433880" y="6056280"/>
            <a:ext cx="308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ntries for /, - are similar…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91CB-8D97-4D5B-8F2A-E81EE935CF6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ft-most derivation is constructed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by recursive descent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0" name=""/>
          <p:cNvSpPr/>
          <p:nvPr/>
        </p:nvSpPr>
        <p:spPr>
          <a:xfrm>
            <a:off x="2738520" y="1447920"/>
            <a:ext cx="2969640" cy="49611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E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T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E )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T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F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E’ )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T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F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F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40280" y="1295280"/>
            <a:ext cx="1427400" cy="50317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6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E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’ ::= +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–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 ::=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’ ::= *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/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898360" y="990720"/>
            <a:ext cx="21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-most der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705720" y="1371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60560" y="1332000"/>
            <a:ext cx="226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S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‘(‘ call 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‘(‘ call T(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l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C488-22AA-4827-94B6-9602CB6481F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228600"/>
            <a:ext cx="8229600" cy="952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FG Exampl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744480" y="1371600"/>
            <a:ext cx="12841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E *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E / 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E +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E – 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09480" y="5791320"/>
            <a:ext cx="5807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ID |  NUM |  E * E |  E / E  |  E + E  |  E – E | 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57120" y="5410080"/>
            <a:ext cx="2741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ually will write this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46560" y="2057400"/>
            <a:ext cx="403776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 is a 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non-terminal symbol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 and NUM are 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lexical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*, (, ), +, and – are 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terminal symbols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 ::= E + E is called a 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production rule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1F69-2400-4C31-A6EF-F67E07FF0A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As a stack machine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6" name=""/>
          <p:cNvSpPr/>
          <p:nvPr/>
        </p:nvSpPr>
        <p:spPr>
          <a:xfrm>
            <a:off x="605160" y="1155600"/>
            <a:ext cx="2969640" cy="49611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E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T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E )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T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F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E’ )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T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F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F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705720" y="1371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809240" y="1197000"/>
            <a:ext cx="2725920" cy="49611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                            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                        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T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                     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                           E )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                       T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                   F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                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                     E’ )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               T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           F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          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              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                  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             F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  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      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748F-5E4A-4539-9052-9BDDED7F65D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-228600"/>
            <a:ext cx="8229600" cy="952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FG Derivation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6" name=""/>
          <p:cNvSpPr/>
          <p:nvPr/>
        </p:nvSpPr>
        <p:spPr>
          <a:xfrm>
            <a:off x="1264320" y="762120"/>
            <a:ext cx="69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1)   E ::= ID |  NUM |  ID | E * E |  E / E  |  E + E  |  E – E | 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0320" y="4038480"/>
            <a:ext cx="2451600" cy="2527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* 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</a:t>
            </a:r>
            <a:r>
              <a:rPr b="1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 * 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1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+ E ) *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 *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– E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902560" y="17524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0" y="24382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277400" y="24382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0" y="320040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869800" y="24382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01680" y="3124080"/>
            <a:ext cx="2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25560" y="3124080"/>
            <a:ext cx="2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688560" y="43434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78920" y="43434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40680" y="43434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975080" y="43434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029200" y="2133720"/>
            <a:ext cx="83808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6248520" y="2133720"/>
            <a:ext cx="99360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019920" y="21333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800600" y="281952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114800" y="281952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5029200" y="281916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277400" y="320040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95480" y="3124080"/>
            <a:ext cx="2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019720" y="3124080"/>
            <a:ext cx="2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7394400" y="281952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708600" y="281952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7623000" y="281916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769200" y="37339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598000" y="37339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114800" y="358128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5029200" y="358092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800600" y="358092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359760" y="37339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191800" y="37339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708600" y="358128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7623000" y="358092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94400" y="358092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91080" y="38098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242480" y="3733920"/>
            <a:ext cx="31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962520" y="41144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791320" y="41144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553080" y="41144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8381880" y="41144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0320" y="1219320"/>
            <a:ext cx="2451600" cy="2527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E *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 * (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 * ( E –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 * (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– 10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* ( 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 * ( 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E +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 * (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+ 4 ) * ( 2 – E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51960" y="5378400"/>
            <a:ext cx="272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he Derivation Tree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 17 + 4 ) * (2 – 10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395800" y="1295280"/>
            <a:ext cx="14090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Rightm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der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30200" y="4191120"/>
            <a:ext cx="12704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Leftm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der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51A9-2D0E-4F73-9825-4D77DE7DB5E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More formally, 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A CFG is a quadruple G = (N, T, R, S) w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N is the set of </a:t>
            </a:r>
            <a:r>
              <a:rPr b="0" i="1" lang="en-US" sz="2000" spc="-1" strike="noStrike">
                <a:solidFill>
                  <a:srgbClr val="333399"/>
                </a:solidFill>
                <a:latin typeface="Arial Black"/>
              </a:rPr>
              <a:t>non-terminal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  is the set of </a:t>
            </a:r>
            <a:r>
              <a:rPr b="0" i="1" lang="en-US" sz="2000" spc="-1" strike="noStrike">
                <a:solidFill>
                  <a:srgbClr val="333399"/>
                </a:solidFill>
                <a:latin typeface="Arial Black"/>
              </a:rPr>
              <a:t>terminal symbols 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(N and T disj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N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  is the </a:t>
            </a:r>
            <a:r>
              <a:rPr b="0" i="1" lang="en-US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start symb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R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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N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(N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T)*  is a set of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Example: The grammar of nested parentheses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G = (N, T, R, S) w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N = {S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 ={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(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,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)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R 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={ (S,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(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))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, (S, SS), (S, ) }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24040" y="5715000"/>
            <a:ext cx="218340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S ::= (S) | SS |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83040" y="5751360"/>
            <a:ext cx="290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ill normally write R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90B5-3AC6-499B-B837-F5B9AA9D2B8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erivations, more formally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tart from start symbol (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roductions are used to derive a sequence of tokens from the start symb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or arbitrary strings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comprised of both terminal and non-terminal symbols,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nd a production A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,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 single step of derivation is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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i.e.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, substitute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for an occurrence of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*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means that b can be derived from a in 0 or more single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means that b can be derived from a in 1 or more single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8507-5628-4FF0-A05C-5E586D12A13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L(G) = The Language Generated by Grammar G</a:t>
            </a:r>
            <a:endParaRPr b="0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295280" y="2971800"/>
                <a:ext cx="57913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w</m:t>
                        </m:r>
                        <m:r>
                          <m:t xml:space="preserve">∈</m:t>
                        </m:r>
                        <m:r>
                          <m:t xml:space="preserve">T</m:t>
                        </m:r>
                        <m:r>
                          <m:t xml:space="preserve">∗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⇒</m:t>
                        </m:r>
                        <m:r>
                          <m:t xml:space="preserve">+</m:t>
                        </m:r>
                        <m:r>
                          <m:t xml:space="preserve">w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1101600" y="1905120"/>
            <a:ext cx="679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he language generated by G is the set of all terminal strin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derivable from the start symbol 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36760" y="4419720"/>
            <a:ext cx="570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or any subset W of T*, if there exists a CFG G su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hat L(G) = W, then W is called a Context-Fr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anguage (CFL) over 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F8B0-0519-44FC-93EC-7B297A33994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0528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mbiguity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2" name=""/>
          <p:cNvSpPr/>
          <p:nvPr/>
        </p:nvSpPr>
        <p:spPr>
          <a:xfrm>
            <a:off x="2778480" y="17524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53320" y="24382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59160" y="23623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45720" y="24382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5680" y="3505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454480" y="3505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905120" y="2133720"/>
            <a:ext cx="83808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3123720" y="2133720"/>
            <a:ext cx="99396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895480" y="21333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44760" y="28954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73560" y="28954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990360" y="2743200"/>
            <a:ext cx="53316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1904760" y="2742840"/>
            <a:ext cx="53316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676520" y="27428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67000" y="29718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838080" y="32763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666880" y="32763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54680" y="30481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267080" y="28191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283800" y="17524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64480" y="23623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267600" y="24382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969080" y="2971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409720" y="2133720"/>
            <a:ext cx="83844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6629400" y="2133720"/>
            <a:ext cx="99360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6400800" y="21333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5181480" y="27428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55400" y="23623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21920" y="3505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550720" y="3505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41000" y="28954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569800" y="28954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086600" y="274320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8001000" y="274284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7772400" y="27428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546320" y="297180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934320" y="32763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8763120" y="32763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10520" y="4038480"/>
            <a:ext cx="5735880" cy="1130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Both derivation trees correspond to the st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                         </a:t>
            </a: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1 + 2 *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546200" y="5562720"/>
            <a:ext cx="646128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This type of ambiguity will cause problems when we try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go from strings to derivation tre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12040" y="1066680"/>
            <a:ext cx="69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1)   E ::= ID |  NUM |  ID | E * E |  E / E  |  E + E  |  E – E | 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3E5A-80E3-4830-A09D-FA64D3FC415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olution: Modify the Grammar!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4" name=""/>
          <p:cNvSpPr/>
          <p:nvPr/>
        </p:nvSpPr>
        <p:spPr>
          <a:xfrm>
            <a:off x="289440" y="1752480"/>
            <a:ext cx="1269000" cy="39344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E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E +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E –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 ::= T *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T /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16760" y="16765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97800" y="228600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124600" y="22860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02400" y="2895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343400" y="2057400"/>
            <a:ext cx="83808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5562720" y="2057400"/>
            <a:ext cx="99360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5334120" y="20570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114800" y="266652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588360" y="228600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31200" y="4038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483680" y="3429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673960" y="28195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500240" y="2819520"/>
            <a:ext cx="29952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6019560" y="2666880"/>
            <a:ext cx="53316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6933960" y="2666520"/>
            <a:ext cx="53316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705720" y="266652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479280" y="28954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5867280" y="32000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7696080" y="32000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671440" y="3429000"/>
            <a:ext cx="29952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867280" y="380952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141800" y="4876920"/>
            <a:ext cx="3568680" cy="1435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his is the </a:t>
            </a:r>
            <a:r>
              <a:rPr b="0" i="1" lang="en-US" sz="2000" spc="-1" strike="noStrike" u="sng">
                <a:solidFill>
                  <a:srgbClr val="333399"/>
                </a:solidFill>
                <a:uFillTx/>
                <a:latin typeface="Arial Black"/>
              </a:rPr>
              <a:t>unique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deriv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ree for the st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            </a:t>
            </a: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1 + 2 * 3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81920" y="6178680"/>
            <a:ext cx="2347920" cy="64260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ote: L(G1) = L(G2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an you prove i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55720" y="259092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xpress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54280" y="373392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er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78320" y="480060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acto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12960" y="194148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tart, $ = EO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17480" y="1066680"/>
            <a:ext cx="30564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5334120" y="14475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3D6C-51CA-4564-B60A-1CF8384ACCB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Famously Ambiguou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5" name=""/>
          <p:cNvSpPr/>
          <p:nvPr/>
        </p:nvSpPr>
        <p:spPr>
          <a:xfrm>
            <a:off x="1168200" y="1447920"/>
            <a:ext cx="645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(G3)  S ::= if E then S else S  |   if E then S |  blah-bla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21200" y="2209680"/>
            <a:ext cx="400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hat do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f e1 then if e2 then s1 else s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ea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017000" y="411480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5920" y="4876920"/>
            <a:ext cx="3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38720" y="487692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40320" y="4876920"/>
            <a:ext cx="3070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41240" y="487692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16640" y="5715000"/>
            <a:ext cx="3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00840" y="571500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78400" y="5715000"/>
            <a:ext cx="3070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27040" y="571500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711960" y="5715000"/>
            <a:ext cx="65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446000" y="571500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28240" y="4419720"/>
            <a:ext cx="7621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1371240" y="4419720"/>
            <a:ext cx="12193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1371600" y="4419720"/>
            <a:ext cx="45720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1143000" y="4495320"/>
            <a:ext cx="0" cy="3812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2895480" y="5181480"/>
            <a:ext cx="457200" cy="5335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895480" y="5181480"/>
            <a:ext cx="1067040" cy="5335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2895120" y="5181480"/>
            <a:ext cx="1676520" cy="5335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666880" y="525780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219320" y="5181480"/>
            <a:ext cx="129528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81080" y="5257800"/>
            <a:ext cx="5335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51120" y="411480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26520" y="4952880"/>
            <a:ext cx="3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210720" y="495288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88280" y="4952880"/>
            <a:ext cx="3070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036920" y="495288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21840" y="4952880"/>
            <a:ext cx="65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256240" y="495288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6705720" y="4419360"/>
            <a:ext cx="457200" cy="5331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 flipV="1">
            <a:off x="6705360" y="4419360"/>
            <a:ext cx="1066680" cy="5331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6705720" y="4419360"/>
            <a:ext cx="1676160" cy="5331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6477120" y="4495320"/>
            <a:ext cx="0" cy="3812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9200" y="4419720"/>
            <a:ext cx="129528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791320" y="4495680"/>
            <a:ext cx="53316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023520" y="5715000"/>
            <a:ext cx="3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636320" y="571500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937920" y="5715000"/>
            <a:ext cx="3070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538840" y="571500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6225840" y="5257800"/>
            <a:ext cx="7621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7368840" y="5257800"/>
            <a:ext cx="12193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7369200" y="5257800"/>
            <a:ext cx="45720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7140600" y="533412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72240" y="400680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5074-79F6-47FC-8A80-139DC2CBCA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1-26T10:43:48Z</dcterms:modified>
  <cp:revision>269</cp:revision>
  <dc:subject/>
  <dc:title>Slide 1</dc:title>
</cp:coreProperties>
</file>