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02B9-9423-4CEC-938B-AD9EF9D22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’m Eijiro Sumii from Tohok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’m going to talk abou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_very_ simple _and_ efficient compil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a small but non-trivial functional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4712-F266-4E85-8448-DE224F63B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45DE-922D-45C0-B7F3-641C6A77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7702-DF59-4CD2-98B4-626C83DB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B996-7D9F-4A4D-8EBA-7521C4A52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ECB5-D174-4033-B608-4CDE6987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AE83-AE40-46B3-A47F-4515CB1D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935F-79C5-4D18-AEEF-A8ACC804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0F4D-C205-40C9-AD45-9D8A42E5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ED79-369A-4B4E-A63E-88E37F1C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70D9-2A7F-4251-BF42-7DBD5F15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94BE-1FFC-43BA-BAE7-DE2D377E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E1E3-9429-4AD7-975E-A0A2F05A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BBDD-F994-4835-9253-60DC2E18A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timeanddate.com/calendar/monthly.html?year=2007&amp;month=1&amp;country=1" TargetMode="External"/><Relationship Id="rId2" Type="http://schemas.openxmlformats.org/officeDocument/2006/relationships/hyperlink" Target="http://www.timeanddate.com/calendar/monthly.html?year=2007&amp;month=2&amp;country=1" TargetMode="External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5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01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67F2-119D-46AC-8863-11EB450EB8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closer look at the G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2360" y="236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hin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sted 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data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s,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39840" y="2332080"/>
            <a:ext cx="430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hine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s and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flat sco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s,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29040" y="1901880"/>
            <a:ext cx="21801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igh Level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10440" y="1962000"/>
            <a:ext cx="2091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ssembly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A222-F16E-4977-AB6C-06C9F09F79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ur Approach ---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ation as a sequence of transformations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72960" y="4114440"/>
            <a:ext cx="821376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ransformation preserves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ransformation addresses only one aspect of “the ga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ransformation is fairly easy to understa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081080" y="2760840"/>
                <a:ext cx="680400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⋯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426600" y="214956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03480" y="1944720"/>
            <a:ext cx="131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ssemb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4167360" y="524520"/>
            <a:ext cx="409680" cy="4078440"/>
          </a:xfrm>
          <a:custGeom>
            <a:avLst/>
            <a:gdLst>
              <a:gd name="textAreaLeft" fmla="*/ 261720 w 409680"/>
              <a:gd name="textAreaRight" fmla="*/ 410040 w 409680"/>
              <a:gd name="textAreaTop" fmla="*/ 106200 h 4078440"/>
              <a:gd name="textAreaBottom" fmla="*/ 3972240 h 407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21280" y="192096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mediate  langu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D45A-4886-4E52-9C26-CA735583D8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Compil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600200"/>
            <a:ext cx="51055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2057400"/>
            <a:ext cx="1218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91520" y="1447920"/>
            <a:ext cx="121896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3733920"/>
            <a:ext cx="1752480" cy="838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36240" y="20574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41560" y="20574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22860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228600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22860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20574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38680" y="20574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2860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94400" y="1447920"/>
            <a:ext cx="128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ocuments"/>
          <p:cNvSpPr/>
          <p:nvPr/>
        </p:nvSpPr>
        <p:spPr>
          <a:xfrm>
            <a:off x="228600" y="129528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3400" y="190512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4680" y="2819520"/>
            <a:ext cx="0" cy="1828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00440" y="41227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U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95680" y="2590920"/>
            <a:ext cx="0" cy="1066680"/>
          </a:xfrm>
          <a:prstGeom prst="line">
            <a:avLst/>
          </a:prstGeom>
          <a:ln w="76320">
            <a:solidFill>
              <a:srgbClr val="3333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65160" y="1219320"/>
            <a:ext cx="1613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mpi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13840" y="205740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4648320"/>
            <a:ext cx="4876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657600" y="5715000"/>
            <a:ext cx="1671480" cy="519120"/>
            <a:chOff x="3657600" y="5715000"/>
            <a:chExt cx="1671480" cy="519120"/>
          </a:xfrm>
        </p:grpSpPr>
        <p:sp>
          <p:nvSpPr>
            <p:cNvPr id="137" name="Gear"/>
            <p:cNvSpPr/>
            <p:nvPr/>
          </p:nvSpPr>
          <p:spPr>
            <a:xfrm>
              <a:off x="4584240" y="5715000"/>
              <a:ext cx="744840" cy="237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57600" y="5812920"/>
              <a:ext cx="890280" cy="2844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35040" y="5918040"/>
              <a:ext cx="989640" cy="316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4955400" y="480060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5334120"/>
            <a:ext cx="487656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88920" y="57913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w Me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36080" y="380988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example: JV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74040" y="328464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NTERPRE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6120" y="2971800"/>
            <a:ext cx="25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dware independ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ermediate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781680" y="5715000"/>
            <a:ext cx="1671840" cy="519120"/>
            <a:chOff x="6781680" y="5715000"/>
            <a:chExt cx="1671840" cy="519120"/>
          </a:xfrm>
        </p:grpSpPr>
        <p:sp>
          <p:nvSpPr>
            <p:cNvPr id="147" name="Gear"/>
            <p:cNvSpPr/>
            <p:nvPr/>
          </p:nvSpPr>
          <p:spPr>
            <a:xfrm>
              <a:off x="7708680" y="5715000"/>
              <a:ext cx="744840" cy="237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81680" y="5812920"/>
              <a:ext cx="890640" cy="2844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59480" y="5918040"/>
              <a:ext cx="990000" cy="316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83960" y="5105520"/>
            <a:ext cx="3073320" cy="1465560"/>
          </a:xfrm>
          <a:prstGeom prst="rect">
            <a:avLst/>
          </a:prstGeom>
          <a:noFill/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Something to Pond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 compiler is just a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ut how did it get compil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s this a chicken-and-eg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bl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83E8-C70C-418F-9427-4FEBBB9023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Front End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167652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31520" y="17524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2895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ocuments"/>
          <p:cNvSpPr/>
          <p:nvPr/>
        </p:nvSpPr>
        <p:spPr>
          <a:xfrm>
            <a:off x="228600" y="190512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3400" y="251460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2133720"/>
            <a:ext cx="41911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2743200"/>
            <a:ext cx="1218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2666880"/>
            <a:ext cx="1219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8880" y="2666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289548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83800" y="2971800"/>
            <a:ext cx="8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27160" y="28195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75560" y="434340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theory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 finite automa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17320" y="4343400"/>
            <a:ext cx="247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 The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sed on push-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tomaton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text-free gram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867280" y="2057400"/>
            <a:ext cx="91440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21720" y="1789200"/>
            <a:ext cx="209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ing syntac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s i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2971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95880" y="323676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bstract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91520" y="3962520"/>
            <a:ext cx="990360" cy="609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91520" y="4419720"/>
            <a:ext cx="53316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924680" y="4419720"/>
            <a:ext cx="5335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5029200"/>
            <a:ext cx="5335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29600" y="4648320"/>
            <a:ext cx="152280" cy="533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01000" y="4648320"/>
            <a:ext cx="763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91520" y="5257800"/>
            <a:ext cx="7596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18F9-5A54-40EF-BCF2-A3F93EA86F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“Middle End”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1905120"/>
            <a:ext cx="1905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56640" y="19810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312408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2362320"/>
            <a:ext cx="67820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95680" y="2514600"/>
            <a:ext cx="12193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2438280"/>
            <a:ext cx="18288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304812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60" y="220968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320" y="2590920"/>
            <a:ext cx="990360" cy="609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320" y="3048120"/>
            <a:ext cx="53316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3048120"/>
            <a:ext cx="5335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657600"/>
            <a:ext cx="5335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3276720"/>
            <a:ext cx="152280" cy="533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3276720"/>
            <a:ext cx="763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320" y="3886200"/>
            <a:ext cx="7596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3600" y="5257800"/>
            <a:ext cx="464328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re is a lot of diversity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ddle-end” -- some compilers are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ile others are very simpl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76520" y="266688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alysis of symb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finition and u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14600" y="358128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22680" y="3962520"/>
            <a:ext cx="1898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rror repor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ariable x on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7 of file main.c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clared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03520" y="3124080"/>
            <a:ext cx="10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ot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5240" y="2666880"/>
            <a:ext cx="11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3429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62040" y="3886200"/>
            <a:ext cx="191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rror repor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ariable x decla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s a string but us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s an integer”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29718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13560" y="3048120"/>
            <a:ext cx="10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ot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2590920"/>
            <a:ext cx="12189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03560" y="2666880"/>
            <a:ext cx="129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924680" y="30481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7547400" y="296856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mediate-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81680" y="1981080"/>
            <a:ext cx="1067040" cy="609840"/>
          </a:xfrm>
          <a:custGeom>
            <a:avLst/>
            <a:gdLst>
              <a:gd name="textAreaLeft" fmla="*/ 186480 w 1067040"/>
              <a:gd name="textAreaRight" fmla="*/ 773640 w 106704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7010280" y="3200400"/>
            <a:ext cx="609480" cy="1218960"/>
          </a:xfrm>
          <a:custGeom>
            <a:avLst/>
            <a:gdLst>
              <a:gd name="textAreaLeft" fmla="*/ 81360 w 609480"/>
              <a:gd name="textAreaRight" fmla="*/ 528120 w 60948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17880" y="4227480"/>
            <a:ext cx="224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hase m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lve m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es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distin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s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D097-93B1-46C9-A59B-75E84F17F1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Back End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231120" y="28195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35053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1905120"/>
            <a:ext cx="52578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971800" y="2514600"/>
            <a:ext cx="60948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01240" y="2209680"/>
            <a:ext cx="25063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x86 code generation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26440" y="2971800"/>
            <a:ext cx="22352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RM code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67480" y="3657600"/>
            <a:ext cx="241200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PARC code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971800" y="3123720"/>
            <a:ext cx="6858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3505320"/>
            <a:ext cx="68580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41920" y="5029200"/>
            <a:ext cx="24836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DP-11 code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6200000">
            <a:off x="6939360" y="4022640"/>
            <a:ext cx="66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3662640" y="4098960"/>
            <a:ext cx="66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339160" y="4098960"/>
            <a:ext cx="66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3581280"/>
            <a:ext cx="76212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17720" y="3276720"/>
            <a:ext cx="981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arg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64800" y="1523880"/>
            <a:ext cx="1131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53080" y="236232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259400" y="2971800"/>
            <a:ext cx="11865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RM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257960" y="2209680"/>
            <a:ext cx="10843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x86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31240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300440" y="3657600"/>
            <a:ext cx="13633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PARC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77120" y="38098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74880" y="5029200"/>
            <a:ext cx="14349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DP-11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77120" y="51814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49960" y="133200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y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52F3-F212-4C0F-AF19-DA3072B7BD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ssembly, Linking, Loading</a:t>
            </a:r>
            <a:endParaRPr b="0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7" name=""/>
          <p:cNvSpPr/>
          <p:nvPr/>
        </p:nvSpPr>
        <p:spPr>
          <a:xfrm>
            <a:off x="482760" y="1066680"/>
            <a:ext cx="1247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17524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11200" y="2133720"/>
            <a:ext cx="12949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66680" y="2514600"/>
            <a:ext cx="0" cy="3808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58920" y="1066680"/>
            <a:ext cx="1247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43200" y="17524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87720" y="2133720"/>
            <a:ext cx="12949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43200" y="2514600"/>
            <a:ext cx="0" cy="3808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35640" y="1066680"/>
            <a:ext cx="1247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17524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64440" y="2133720"/>
            <a:ext cx="12949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19920" y="2514600"/>
            <a:ext cx="0" cy="3808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35600" y="762120"/>
            <a:ext cx="72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035600" y="2514600"/>
            <a:ext cx="72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035600" y="1600200"/>
            <a:ext cx="72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198960" y="4038480"/>
            <a:ext cx="12031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inker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43200" y="3429000"/>
            <a:ext cx="457200" cy="6094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28040" y="2895480"/>
            <a:ext cx="1084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572000" y="3505320"/>
            <a:ext cx="1295280" cy="6094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04400" y="2895480"/>
            <a:ext cx="1084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66680" y="3505320"/>
            <a:ext cx="1981440" cy="68580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1520" y="2895480"/>
            <a:ext cx="1084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33920" y="44956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71600" y="4876920"/>
            <a:ext cx="4800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ingle executable object 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5638680"/>
            <a:ext cx="6705720" cy="0"/>
          </a:xfrm>
          <a:prstGeom prst="line">
            <a:avLst/>
          </a:prstGeom>
          <a:ln w="7632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31120" y="571500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33920" y="5257800"/>
            <a:ext cx="0" cy="68580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17520" y="52261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RU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10400" y="5943600"/>
            <a:ext cx="122760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oader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52280" y="4114800"/>
            <a:ext cx="2286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code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4343400"/>
            <a:ext cx="533520" cy="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1066680"/>
            <a:ext cx="685800" cy="2438640"/>
          </a:xfrm>
          <a:custGeom>
            <a:avLst/>
            <a:gdLst>
              <a:gd name="textAreaLeft" fmla="*/ 0 w 685800"/>
              <a:gd name="textAreaRight" fmla="*/ 247680 w 68580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56840" y="1504800"/>
            <a:ext cx="1451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From symbo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names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ddresses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numeric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nd nume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ddr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0" y="3657600"/>
            <a:ext cx="685800" cy="1523880"/>
          </a:xfrm>
          <a:custGeom>
            <a:avLst/>
            <a:gdLst>
              <a:gd name="textAreaLeft" fmla="*/ 0 w 685800"/>
              <a:gd name="textAreaRight" fmla="*/ 247680 w 6858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637400" y="3886200"/>
            <a:ext cx="1433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Na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esolutio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reat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ingle addr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5562720"/>
            <a:ext cx="685800" cy="914400"/>
          </a:xfrm>
          <a:custGeom>
            <a:avLst/>
            <a:gdLst>
              <a:gd name="textAreaLeft" fmla="*/ 0 w 685800"/>
              <a:gd name="textAreaRight" fmla="*/ 247680 w 6858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708680" y="5276880"/>
            <a:ext cx="1114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ddr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elocat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memo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llocatio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dynam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ink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469640" y="9144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(main tas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0" y="4419720"/>
            <a:ext cx="380880" cy="1522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968360" y="4303800"/>
            <a:ext cx="1258200" cy="368280"/>
          </a:xfrm>
          <a:prstGeom prst="rect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nk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5464-1326-4B2C-8459-8D4EF61712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9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ad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Design in Java/C/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3 books). Appel.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s --- Principles, Techniques, and 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Aho, Sethi, and Ullman (198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Desi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ilhelm, Maurer (19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 to Compiling Techniq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Bennett (199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Retargetable C Compiler: Design and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Frazer, Hanson (19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Constru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aite, Goos (19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-level Languages and Their Compil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atson (198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4160" y="1297080"/>
            <a:ext cx="8577000" cy="116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774200" y="2104920"/>
            <a:ext cx="1072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EF7B-48E4-46BE-8778-DD51FDBD92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this Cours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832120" y="1187280"/>
            <a:ext cx="443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exical 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heory of Context Free Grammars (CFGs) and Predictive (recursive descent) Par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ype che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Variable Scop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Function Closur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Using the Stack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Using the Stack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er, linker, object file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er generatio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er gener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Continu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bject Orien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Garbage Col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Interpreters, Byte Code interpreters, virtual mach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4920" y="1687680"/>
            <a:ext cx="2099160" cy="3987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an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2   3   4   5   6  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  9 10 11 12 13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16 17 18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ebr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3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6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8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3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7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2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4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7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55880" y="37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90720" y="267336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717640" y="4570560"/>
            <a:ext cx="4537080" cy="1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140600" y="1330200"/>
            <a:ext cx="196920" cy="1135080"/>
          </a:xfrm>
          <a:custGeom>
            <a:avLst/>
            <a:gdLst>
              <a:gd name="textAreaLeft" fmla="*/ 0 w 196920"/>
              <a:gd name="textAreaRight" fmla="*/ 70920 w 196920"/>
              <a:gd name="textAreaTop" fmla="*/ 29520 h 1135080"/>
              <a:gd name="textAreaBottom" fmla="*/ 1105560 h 113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576560" y="171936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ont 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210440" y="2786040"/>
            <a:ext cx="185760" cy="1611360"/>
          </a:xfrm>
          <a:custGeom>
            <a:avLst/>
            <a:gdLst>
              <a:gd name="textAreaLeft" fmla="*/ 0 w 185760"/>
              <a:gd name="textAreaRight" fmla="*/ 66960 w 185760"/>
              <a:gd name="textAreaTop" fmla="*/ 41760 h 1611360"/>
              <a:gd name="textAreaBottom" fmla="*/ 1569600 h 161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635240" y="2840040"/>
            <a:ext cx="1409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ddle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ack-e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U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n-Caml 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run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194600" y="4738680"/>
            <a:ext cx="198360" cy="1287360"/>
          </a:xfrm>
          <a:custGeom>
            <a:avLst/>
            <a:gdLst>
              <a:gd name="textAreaLeft" fmla="*/ 0 w 198360"/>
              <a:gd name="textAreaRight" fmla="*/ 71640 w 198360"/>
              <a:gd name="textAreaTop" fmla="*/ 33480 h 1287360"/>
              <a:gd name="textAreaBottom" fmla="*/ 1253880 h 128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661880" y="50245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e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F171-D34F-4005-A118-584C2C7D47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ation is a type of Translation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9880" y="2133360"/>
            <a:ext cx="4114800" cy="4221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be correct in the sense that meaning is pre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be 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enerate efficient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produce usable error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be well-structured and maintain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7080" y="205740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18288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69400" y="198108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1905120"/>
            <a:ext cx="1219320" cy="685800"/>
          </a:xfrm>
          <a:prstGeom prst="rightArrow">
            <a:avLst>
              <a:gd name="adj1" fmla="val 50000"/>
              <a:gd name="adj2" fmla="val 444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 rot="16200000">
            <a:off x="266040" y="3237480"/>
            <a:ext cx="1219320" cy="685800"/>
          </a:xfrm>
          <a:prstGeom prst="rightArrow">
            <a:avLst>
              <a:gd name="adj1" fmla="val 50000"/>
              <a:gd name="adj2" fmla="val 444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4267080"/>
            <a:ext cx="17528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0040" y="441972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tium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74120" y="251460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9560" y="342900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60" y="5638680"/>
            <a:ext cx="32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ation is a trans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“high level” to “low leve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0520" y="1752480"/>
            <a:ext cx="29804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 good compiler should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72400" y="3276720"/>
            <a:ext cx="106668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3352680"/>
            <a:ext cx="304560" cy="2971800"/>
          </a:xfrm>
          <a:custGeom>
            <a:avLst/>
            <a:gdLst>
              <a:gd name="textAreaLeft" fmla="*/ 0 w 304560"/>
              <a:gd name="textAreaRight" fmla="*/ 109800 w 30456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7199280" y="4547880"/>
            <a:ext cx="22762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Trade offs aboun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66EC-36E5-4FAB-9E08-052394357F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ll Hail Grace Hopper 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263760" cy="4140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348800" y="1981080"/>
            <a:ext cx="455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rote first compiler in 19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or the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Short Cod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languag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hile working for Remington R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compiler was called A-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he wrote it because she found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rmal process of compiling Short Code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nd was boring and tedious, and s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anted to spend her time doing “inter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thematics” instead of tasks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uld be done by a stupid mach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59400" y="5979960"/>
            <a:ext cx="40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note: as with all claims of priority t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e will be endlessly disputed…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78F0-9BF7-4F3A-AF31-6DE8409E47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y Study Compilers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Although many of the basic ideas where developed over 30 years ago, compiler construction is still an evolving and active area of research and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ers are intimately related to programming language design and evolu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ers are a Computer Science success story that illustrate the hallmarks of our field --- high-level abstractions implemented with low-level resou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You are computer scientist.  Nothing done with machines should be mysterious to you!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687D-9EB7-4A83-BF2B-401AA9BFE3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529480" cy="6477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7000" y="0"/>
            <a:ext cx="64580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merd.sourceforge.net/pixel/language-study/diagra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80" y="609480"/>
            <a:ext cx="290880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nes of descent shou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 be taken too serious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erl from Algol 60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934320" y="228600"/>
            <a:ext cx="457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22760" y="0"/>
            <a:ext cx="1220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r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A67D-4A8E-4986-852D-A726ACB838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CAML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 http://caml.inria.fr/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2166840" cy="2033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021320" y="1752480"/>
            <a:ext cx="4818240" cy="1191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caml is a dialect of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is course will frequently mine the Oca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mpiler for examp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97080" y="3581280"/>
            <a:ext cx="6733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let rec map f l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match l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[] -&gt; [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head::tail -&gt; (f head) :: (map f tai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(‘a -&gt; ‘b) -&gt; ‘a list -&gt; ‘b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31120" y="5029200"/>
            <a:ext cx="18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nferred type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C07A-2A85-4189-B75D-30682612EC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11080" y="250560"/>
            <a:ext cx="777240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MinCaml: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A Simple and Efficient Compiler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for a Minimal Functional Language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43080" y="3762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jiro Sum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hoku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kb.ecei.tohoku.ac.jp/~sumii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90520" y="5394240"/>
            <a:ext cx="3051360" cy="11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009520" y="1693800"/>
            <a:ext cx="501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PLAN :Proceedings of the 2005 workshop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al and declarative programming in edu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1680" y="6031080"/>
            <a:ext cx="4082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http://min-caml.sourceforge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47720" y="2457360"/>
            <a:ext cx="77724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美しい日本の</a:t>
            </a:r>
            <a:r>
              <a:rPr b="0" lang="en-US" sz="40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ML</a:t>
            </a:r>
            <a:r>
              <a:rPr b="0" lang="ja-JP" sz="40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コンパイ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FEA9-C4E9-4AE7-B12E-4A15691C33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MinCaml Languag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00160" y="1025640"/>
            <a:ext cx="7580160" cy="5684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23960" y="936720"/>
            <a:ext cx="29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inimal functional langu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213E-C534-4DE6-946D-9D59E12775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0960" y="0"/>
            <a:ext cx="8229600" cy="78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ind The G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761760" y="912960"/>
            <a:ext cx="74502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t rec gcd m 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f m = 0 then n 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f m &lt;= n then gcd m (n - m) else gcd n (m - 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 print_int (gcd 21600 33750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51840" y="2467080"/>
            <a:ext cx="3472560" cy="31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global min_caml_sta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in_caml_star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ave    %sp, -112, %s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et     21600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et     337500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t      %o7, [%i0 + 4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ll    gcd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dd     %i0, 8, %i0 ! delay sl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0, 8, %i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d      [%i0 + 4], %o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t      %o7, [%i0 + 4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ll    min_caml_print_i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dd     %i0, 8, %i0 ! delay sl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0, 8, %i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d      [%i0 + 4], %o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esto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24200" y="2384280"/>
            <a:ext cx="2466720" cy="447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section ".rodata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align 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section ".text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gcd.7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mp     %i2, 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ne     be_else.1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i3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et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e_else.19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mp     %i2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g      ble_else.2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3, %i2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       gcd.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le_else.20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2, %i3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i3, %o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i2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o4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       gcd.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52560" y="901800"/>
            <a:ext cx="982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Ca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89280" y="2384280"/>
            <a:ext cx="6770520" cy="46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83080" y="2489040"/>
            <a:ext cx="0" cy="414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873000" y="2323800"/>
            <a:ext cx="2097000" cy="1678320"/>
          </a:xfrm>
          <a:custGeom>
            <a:avLst/>
            <a:gdLst>
              <a:gd name="textAreaLeft" fmla="*/ 698760 w 2097000"/>
              <a:gd name="textAreaRight" fmla="*/ 1796040 w 2097000"/>
              <a:gd name="textAreaTop" fmla="*/ 966600 h 1678320"/>
              <a:gd name="textAreaBottom" fmla="*/ 1437480 h 16783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70360" y="339084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25680" y="5972040"/>
            <a:ext cx="1828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RC ass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4598-01D1-4881-8DD9-FDD0678287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19T14:06:18Z</dcterms:modified>
  <cp:revision>281</cp:revision>
  <dc:subject/>
  <dc:title>Slide 1</dc:title>
</cp:coreProperties>
</file>