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BDA-AD31-49B7-B138-4D4D117A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1724-20AF-4E80-896E-F2E294DB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767-43D5-4227-B3B6-3112FD5D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359-B0E2-4035-B870-A6F9F86F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76A8-43B1-4107-A494-0DD83384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72F-ED1F-4DDC-AF35-55142B79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D574-1A72-4B1F-8164-CCB67B2F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DAF1-4ACB-4147-86A1-1E37A1C6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A9D-83F2-4FE5-A660-2D52778D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903-6609-4883-B0E6-887D43BC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87B8-1D73-489C-8515-FE4C8395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584-4D09-485C-A2EA-E18E7119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D7B6-1040-41C9-B6E6-FEB452D8D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8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Machin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7ED-2CAB-44D2-B83C-C59117F345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est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06560" y="209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9280" y="152892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est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520" y="1400040"/>
            <a:ext cx="1243080" cy="17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16120" y="18273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840" y="1576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70000" y="1692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test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63520" y="2639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18320" y="2770200"/>
            <a:ext cx="1242720" cy="12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78480" y="34131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65040" y="32083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02480" y="32479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55600" y="198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16520" y="971640"/>
            <a:ext cx="1243080" cy="12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77040" y="16146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63600" y="140976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23000" y="1476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76720" y="976320"/>
            <a:ext cx="522360" cy="3195720"/>
          </a:xfrm>
          <a:custGeom>
            <a:avLst/>
            <a:gdLst>
              <a:gd name="textAreaLeft" fmla="*/ 333720 w 522360"/>
              <a:gd name="textAreaRight" fmla="*/ 522720 w 522360"/>
              <a:gd name="textAreaTop" fmla="*/ 83160 h 3195720"/>
              <a:gd name="textAreaBottom" fmla="*/ 3112560 h 319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23120" y="13082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not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35800" y="29606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28880" y="45846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58760" y="4848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52640" y="514656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1960" y="4689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760" y="44276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96440" y="59817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1720" y="499428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78440" y="4884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77000" y="51991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91080" y="50356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83040" y="4784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0800" y="60339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D9CA-2AD7-48B4-A1AD-DE07B14F1B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744560" y="15368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93920" y="21718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15400" y="18622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47800" y="2001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17800" y="2403360"/>
            <a:ext cx="1113120" cy="927360"/>
          </a:xfrm>
          <a:prstGeom prst="rightArrow">
            <a:avLst>
              <a:gd name="adj1" fmla="val 50000"/>
              <a:gd name="adj2" fmla="val 300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3680" y="19782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49200" y="4191120"/>
            <a:ext cx="567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39960" y="4064040"/>
            <a:ext cx="113328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080" y="39654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94560" y="1430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43560" y="2065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65040" y="17557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97800" y="18954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99200" y="4084560"/>
            <a:ext cx="566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89600" y="395748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9720" y="38592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42120" y="4640400"/>
            <a:ext cx="538668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= 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= stopped (program answer should be on top of sta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= store index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= call out of b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= stack overflo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= fp offset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= return cp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= arith error (div by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C543-99C2-43B6-8D2B-9345A14EE2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Initial Stat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3587760" y="20160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15876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75160" y="115884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1074600"/>
            <a:ext cx="14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4560" y="19828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16800" y="15192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ummy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98760" y="220500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46200" y="1332000"/>
            <a:ext cx="99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1440" y="11970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70720" y="24591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59040" y="3656160"/>
            <a:ext cx="13258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76200" y="35305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06760" y="378792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080" y="5079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41360" y="57880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tus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E0A3-B624-4537-9495-D1032096DC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5" name=""/>
          <p:cNvSpPr/>
          <p:nvPr/>
        </p:nvSpPr>
        <p:spPr>
          <a:xfrm>
            <a:off x="402840" y="4462560"/>
            <a:ext cx="3513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33560" y="4454640"/>
            <a:ext cx="219240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45840" y="45385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99640" y="4435560"/>
            <a:ext cx="36828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50800" y="351468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dentif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5200" y="357984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53560" y="305604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26040" y="4255920"/>
            <a:ext cx="248472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24400" y="43290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-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62440" y="564660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oad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10760" y="1349280"/>
            <a:ext cx="3805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47920" y="1298520"/>
            <a:ext cx="188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to leav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of e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the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96840" y="479736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rmal parame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82D9-DCE4-4550-8983-0C1DD1CFE1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7" name=""/>
          <p:cNvSpPr/>
          <p:nvPr/>
        </p:nvSpPr>
        <p:spPr>
          <a:xfrm>
            <a:off x="1342440" y="1798560"/>
            <a:ext cx="16041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1 op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70560" y="1346040"/>
            <a:ext cx="2192400" cy="209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45320" y="157644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05480" y="2073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99000" y="2793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94920" y="290844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862960" y="233208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120" y="499284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3 * ((8 + 17) * (2 - 6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56440" y="4222800"/>
            <a:ext cx="525564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0 : push 3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1 : push 8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 : push 17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3 : arith +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4 : push 2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5 : push 6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6 : arith -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7 : arith *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8 : arith *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0" y="3780000"/>
            <a:ext cx="954576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0753-A3BD-4E4F-8A77-A2B3148D60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607680" y="340524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ig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31240" y="305604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to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77920" y="564660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or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760" y="1362240"/>
            <a:ext cx="9014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29920" y="1298520"/>
            <a:ext cx="193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produc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ide effect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60720" y="3362400"/>
            <a:ext cx="1909800" cy="19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5600" y="4068720"/>
            <a:ext cx="1050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 =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48320" y="4826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35760" y="43862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pdate 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438300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65400" y="481176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19200" y="36720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E92B-92CE-475F-9BF1-9D478ADC4A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9" name=""/>
          <p:cNvSpPr/>
          <p:nvPr/>
        </p:nvSpPr>
        <p:spPr>
          <a:xfrm>
            <a:off x="955800" y="1776240"/>
            <a:ext cx="26312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_1; c_2; … c_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76760" y="1504800"/>
            <a:ext cx="2192400" cy="246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69520" y="173520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611680" y="22320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92600" y="3129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77000" y="327816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72680" y="24606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26560" y="24192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F2A8-0F26-4860-8343-6CAA40E2BC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ditionals, Loop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8" name=""/>
          <p:cNvSpPr/>
          <p:nvPr/>
        </p:nvSpPr>
        <p:spPr>
          <a:xfrm>
            <a:off x="486360" y="1366920"/>
            <a:ext cx="32623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f e then c1 else c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92080" y="2168640"/>
            <a:ext cx="2192400" cy="402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55320" y="2398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3240" y="3048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2160" y="31431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20880" y="3616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96760" y="4260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72960" y="37306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34680" y="428616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27000" y="4794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49840" y="49435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code for 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061640" y="56530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67120" y="1349280"/>
            <a:ext cx="20750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hile e { c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87920" y="2185920"/>
            <a:ext cx="21924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54240" y="235908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99080" y="30654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48360" y="316080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16720" y="36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92600" y="4278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56920" y="37479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30520" y="430380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04640" y="48610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44640" y="56674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10240" y="48117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ED3-CFE0-4460-92D9-EDCBAD3609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5464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ditional Examp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5097600" y="171360"/>
            <a:ext cx="360504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 : push 0             ; slot for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 : push 0             ; slot fo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 : push 19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 : popto 2            ; store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 : push 10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 : popto 3            ; store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 : load 2          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 : load 3          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8 : call 14              ; call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9 : swap                 ; remove ar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0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 : swap               ; remove arg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2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3 : stop                 ; that's all folk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4 : push 0             ; slot fo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 : push 0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6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7 : pushfrom -2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8 : pushfrom -1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9 : arith &lt;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 : test 24             ; if (x &lt; 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1 : push 100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2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3 : goto 26            ; jump over else cl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4 : push 500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6 : skip                 ; end 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7 : pushfrom 2     ; load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8 : return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6680" y="957240"/>
            <a:ext cx="3403440" cy="3744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x, 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&lt;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a = 1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a = 5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(x, 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37080" y="3868560"/>
            <a:ext cx="4465800" cy="20750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22720" y="5546880"/>
            <a:ext cx="1287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n else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6476-7CAF-40AB-8504-483E8ADA79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52960" cy="80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, While lo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5827680" y="1479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50040" y="150840"/>
            <a:ext cx="35442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; call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 0           ; slot for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; slot for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popto 2 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push 0          ; begin 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arith &lt;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test 24          ; check (0 &lt;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pushfrom 3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arith +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2 : popto 2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3 : goto 11         ; while loop it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4 : skip               ; end w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5 : pushfrom 3 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6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09440" y="1871640"/>
            <a:ext cx="23752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sum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k =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s 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while  0 &lt; k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 = s + 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k = k -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um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32280" y="2870280"/>
            <a:ext cx="4570560" cy="34718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39960" y="5910120"/>
            <a:ext cx="1130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6F4A-888D-4E30-BD19-2593B7089D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: A (S)imple (LANG)uage (v0.1)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981840" y="1893960"/>
            <a:ext cx="117432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ca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atatyp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080" y="1104840"/>
            <a:ext cx="8136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name = st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q | Lt | Lte | Gt | G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nd |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unary_op = UnaryMinusOp |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expression = Ident of n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Unary of unary_op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inary of binary_op * expression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pply of name * (expression li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command = Assignment of name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equence of command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Condition of  expression * command * 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Return of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While of expression *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lock of (local_declaration list) *command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local_declaration = Var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global_declaration = Let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Fun of name * (name list) * (local_declaration list) *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slang = Slang of (global_declaration list)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8E5E-4005-4868-BB4E-B6F6C1E0D9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example, with AS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5640480" y="1268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9920" y="3848040"/>
            <a:ext cx="6886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[Fun ("f", ["y"; "x"], [Var ("z", Number 17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Binary (TimesOp, Ident "z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Ident "y", Ident "x"))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("x", Number 19); Let ("y", Number 10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Number 2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MinusOp, Apply ("f", [Ident "x"; Ident "y"]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pply ("f", [Ident "y"; Ident "x"]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0240" y="1014480"/>
            <a:ext cx="3228480" cy="277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95FC-F6D4-4BCE-A217-2F6A8743AC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e will translate SLANG to JARG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56960" y="3424320"/>
            <a:ext cx="12214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LANG 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89320" y="3567240"/>
            <a:ext cx="1238400" cy="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1320" y="3432240"/>
            <a:ext cx="1614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argon Cod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4920" y="2643120"/>
            <a:ext cx="155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4880" y="4049640"/>
            <a:ext cx="252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rgon is my 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nted abstract 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B45-4E41-4F50-A108-45292C6C2A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1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4641840" y="1143000"/>
            <a:ext cx="1157400" cy="249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5400" y="193500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393552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" y="315432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27840" y="183528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35760" y="89352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86520" y="11858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41240" y="189072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22840" y="110484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28600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97560" y="454968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827520" y="603684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9760" y="591012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5280" y="2629080"/>
            <a:ext cx="8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873600" y="435096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D4F-9D8A-4C37-B5DE-FB54F2E419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op, popto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2073240" y="1325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03480" y="1589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97000" y="1887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143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116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41160" y="2722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16440" y="17352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5680" y="10526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17082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75320" y="2022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9760" y="1859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1720" y="1608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19480" y="2857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81240" y="366228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500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1292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1616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73320" y="3664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3560" y="3927600"/>
            <a:ext cx="117000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06400" y="37688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68200" y="3506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01680" y="462276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to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4320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7404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3886200"/>
            <a:ext cx="1157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316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6108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6432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7840" y="387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2280" y="40147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1280" y="381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9136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220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2920" y="565164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51960" y="561348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30760" y="3994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1F3-2CE9-41BD-A061-158C7D0BFB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ush, pushfrom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6585120" y="14428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15000" y="17064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08880" y="200484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8200" y="1547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128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52680" y="28400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14640" y="185256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800" y="110016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6400" y="1743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4960" y="205740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81000" y="16430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0080" y="27986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83400" y="3427560"/>
            <a:ext cx="1157400" cy="31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716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508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18320" y="50655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75480" y="342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3692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08560" y="35337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70360" y="327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50480" y="464652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from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45360" y="64594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7620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4960" y="3651120"/>
            <a:ext cx="115704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3400" y="3639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7840" y="3780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6840" y="3576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541656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600" y="539100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53160" y="5397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48320" y="392436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A4D0-20E8-4D72-B651-17CA47BC14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swap 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arithmetic 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1851120" y="1176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2320" y="1803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16200" y="2101680"/>
            <a:ext cx="124308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32080" y="1305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93880" y="1042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60000" y="29368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19494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60480" y="140184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05040" y="1492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8200" y="1193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9760" y="1820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83280" y="21193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99160" y="1322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60960" y="1060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27440" y="29541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72120" y="1509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0840" y="3587760"/>
            <a:ext cx="8993160" cy="12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62280" y="4272120"/>
            <a:ext cx="124272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4898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7360" y="519732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2880" y="4400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4680" y="413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440" y="4848120"/>
            <a:ext cx="1112760" cy="927360"/>
          </a:xfrm>
          <a:prstGeom prst="rightArrow">
            <a:avLst>
              <a:gd name="adj1" fmla="val 50000"/>
              <a:gd name="adj2" fmla="val 299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7600" y="442764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45277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05680" y="513540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49920" y="46782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99120" y="44863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16200" y="4587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89840" y="4835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95560" y="4118040"/>
            <a:ext cx="28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= (value 1) op (value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55080" y="6080040"/>
            <a:ext cx="56656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p in { + , *, -, / , &lt;, &gt;, &lt;=, &gt;=, =, &amp;&amp;, ||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EF6-7862-42FB-8A9C-30FA70885A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oto, skip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027320" y="178920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39480" y="11905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oto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14640" y="12812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28720" y="1857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26440" y="1606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17880" y="1746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goto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87640" y="2208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81800" y="1241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30800" y="23335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17360" y="2128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54800" y="21686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49640" y="3108240"/>
            <a:ext cx="45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status to an error code if k is not in range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505320"/>
            <a:ext cx="91440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44800" y="470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2280" y="406872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k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32120" y="4194000"/>
            <a:ext cx="124272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46200" y="4770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43920" y="4519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35000" y="4659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28880" y="4957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0240" y="41990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3520" y="51386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11240" y="48880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13480" y="4664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07000" y="4962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1A58-E351-4A0A-B9CC-0291DC131E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5:38:20Z</dcterms:modified>
  <cp:revision>268</cp:revision>
  <dc:subject/>
  <dc:title>Slide 1</dc:title>
</cp:coreProperties>
</file>