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471C-049E-48F8-9040-7057F3A6D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’m going to talk abou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_very_ simple _and_ efficient compil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4553-DCC9-4C01-BD80-762104F9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7CAA-6C2B-4762-BED7-5D00D033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12CA-4536-42B9-8B84-176B6C05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853B-27BB-40D3-9E35-57C41263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3DCA-7B95-46A8-9EA9-79930D19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BB18-D4B9-4E14-9540-52B0CEC6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91F5-B666-4F74-9CDF-383AA0A3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B035-17D6-4C46-AF8A-1973A8BB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AD7F-AEF0-4E1B-AF53-FBB60095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46C4-6DE6-44EE-B43E-C83B188D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D539-FB3B-494B-A90C-A6FD7C83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222A-A2F0-4353-9828-C2D34FF1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5470-9F88-479E-AACD-07B7CDE13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5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01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72F3-8662-43A5-A0EC-49874C89DB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closer look at the G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2360" y="236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ed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s,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39840" y="2332080"/>
            <a:ext cx="430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s an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flat sco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s,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29040" y="1901880"/>
            <a:ext cx="21801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igh Level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0440" y="1962000"/>
            <a:ext cx="2091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ssembly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6FB0-3EBB-4C7A-A35C-DA76286CD4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r Approach ---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as a sequence of transformations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72960" y="4114440"/>
            <a:ext cx="821376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preserves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addresses only one aspect of “the ga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is fairly easy to underst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081080" y="2760840"/>
                <a:ext cx="68040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⋯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426600" y="214956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03480" y="1944720"/>
            <a:ext cx="131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ssemb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4167360" y="524520"/>
            <a:ext cx="409680" cy="4078440"/>
          </a:xfrm>
          <a:custGeom>
            <a:avLst/>
            <a:gdLst>
              <a:gd name="textAreaLeft" fmla="*/ 261720 w 409680"/>
              <a:gd name="textAreaRight" fmla="*/ 410040 w 409680"/>
              <a:gd name="textAreaTop" fmla="*/ 106200 h 4078440"/>
              <a:gd name="textAreaBottom" fmla="*/ 3972240 h 407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21280" y="192096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mediate  langu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00C5-08D9-45B7-9FE4-94B6324409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600200"/>
            <a:ext cx="51055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20574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91520" y="1447920"/>
            <a:ext cx="121896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733920"/>
            <a:ext cx="1752480" cy="838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6240" y="20574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41560" y="20574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22860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20574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20574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94400" y="1447920"/>
            <a:ext cx="128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ocuments"/>
          <p:cNvSpPr/>
          <p:nvPr/>
        </p:nvSpPr>
        <p:spPr>
          <a:xfrm>
            <a:off x="228600" y="129528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3400" y="190512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4680" y="28195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00440" y="41227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U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2590920"/>
            <a:ext cx="0" cy="1066680"/>
          </a:xfrm>
          <a:prstGeom prst="line">
            <a:avLst/>
          </a:prstGeom>
          <a:ln w="76320">
            <a:solidFill>
              <a:srgbClr val="3333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65160" y="1219320"/>
            <a:ext cx="1613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i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13840" y="205740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4648320"/>
            <a:ext cx="4876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657600" y="5715000"/>
            <a:ext cx="1671480" cy="519120"/>
            <a:chOff x="3657600" y="5715000"/>
            <a:chExt cx="1671480" cy="519120"/>
          </a:xfrm>
        </p:grpSpPr>
        <p:sp>
          <p:nvSpPr>
            <p:cNvPr id="137" name="Gear"/>
            <p:cNvSpPr/>
            <p:nvPr/>
          </p:nvSpPr>
          <p:spPr>
            <a:xfrm>
              <a:off x="4584240" y="5715000"/>
              <a:ext cx="744840" cy="237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57600" y="5812920"/>
              <a:ext cx="890280" cy="284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35040" y="5918040"/>
              <a:ext cx="989640" cy="316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955400" y="480060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5334120"/>
            <a:ext cx="48765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88920" y="57913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 M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6080" y="380988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example: JV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74040" y="32846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NTERPRE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6120" y="2971800"/>
            <a:ext cx="25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dware indepen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mediate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781680" y="5715000"/>
            <a:ext cx="1671840" cy="519120"/>
            <a:chOff x="6781680" y="5715000"/>
            <a:chExt cx="1671840" cy="519120"/>
          </a:xfrm>
        </p:grpSpPr>
        <p:sp>
          <p:nvSpPr>
            <p:cNvPr id="147" name="Gear"/>
            <p:cNvSpPr/>
            <p:nvPr/>
          </p:nvSpPr>
          <p:spPr>
            <a:xfrm>
              <a:off x="7708680" y="5715000"/>
              <a:ext cx="744840" cy="237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81680" y="5812920"/>
              <a:ext cx="890640" cy="284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59480" y="5918040"/>
              <a:ext cx="990000" cy="316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83960" y="5105520"/>
            <a:ext cx="3073320" cy="146556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omething to Pon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compiler is just a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ut how did it get compi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s this a chicken-and-eg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bl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0C7A-C7F9-46D0-BEF9-C8F1287FE0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Front End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167652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31520" y="17524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2895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ocuments"/>
          <p:cNvSpPr/>
          <p:nvPr/>
        </p:nvSpPr>
        <p:spPr>
          <a:xfrm>
            <a:off x="228600" y="190512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3400" y="25146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2133720"/>
            <a:ext cx="4191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27432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666880"/>
            <a:ext cx="1219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8880" y="2666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289548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83800" y="2971800"/>
            <a:ext cx="8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27160" y="28195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5560" y="43434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theor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 finite automa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17320" y="4343400"/>
            <a:ext cx="24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ed on push-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mat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ext-free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867280" y="2057400"/>
            <a:ext cx="9144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21720" y="1789200"/>
            <a:ext cx="20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ynta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 i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971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95880" y="323676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91520" y="39625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91520" y="44197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4680" y="44197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50292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29600" y="46483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01000" y="46483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52578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012C-25AC-4AA5-94CF-1E4EA95765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“Middle End”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190512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56640" y="19810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312408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2362320"/>
            <a:ext cx="67820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95680" y="2514600"/>
            <a:ext cx="1219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2438280"/>
            <a:ext cx="1828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304812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60" y="22096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25909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30481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30481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6576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32767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32767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38862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3600" y="5257800"/>
            <a:ext cx="464328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re is a lot of diversity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ddle-end” -- some compilers a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le others are very simpl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26668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sis of sym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ition and u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14600" y="35812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22680" y="3962520"/>
            <a:ext cx="189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rror repor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riable x on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7 of file main.c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clared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03520" y="3124080"/>
            <a:ext cx="10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5240" y="2666880"/>
            <a:ext cx="11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3429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62040" y="3886200"/>
            <a:ext cx="191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rror repor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riable x decla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s a string but u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s an integer”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29718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13560" y="3048120"/>
            <a:ext cx="10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2590920"/>
            <a:ext cx="1218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03560" y="2666880"/>
            <a:ext cx="129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24680" y="30481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547400" y="296856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mediate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1981080"/>
            <a:ext cx="1067040" cy="60984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7010280" y="3200400"/>
            <a:ext cx="609480" cy="1218960"/>
          </a:xfrm>
          <a:custGeom>
            <a:avLst/>
            <a:gdLst>
              <a:gd name="textAreaLeft" fmla="*/ 81360 w 609480"/>
              <a:gd name="textAreaRight" fmla="*/ 528120 w 60948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17880" y="4227480"/>
            <a:ext cx="224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hase m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e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disti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s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BE2C-DEE0-4248-8A3D-284B177C4B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Back End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231120" y="28195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35053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1905120"/>
            <a:ext cx="52578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971800" y="251460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1240" y="2209680"/>
            <a:ext cx="2506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x86 code generation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26440" y="2971800"/>
            <a:ext cx="22352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RM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67480" y="3657600"/>
            <a:ext cx="2412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ARC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971800" y="3123720"/>
            <a:ext cx="6858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3505320"/>
            <a:ext cx="68580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41920" y="5029200"/>
            <a:ext cx="24836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DP-11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6939360" y="402264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3662640" y="409896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339160" y="409896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3581280"/>
            <a:ext cx="7621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17720" y="3276720"/>
            <a:ext cx="981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arg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64800" y="1523880"/>
            <a:ext cx="1131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53080" y="23623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259400" y="2971800"/>
            <a:ext cx="11865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RM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257960" y="2209680"/>
            <a:ext cx="1084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x86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3124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00440" y="3657600"/>
            <a:ext cx="1363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ARC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38098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74880" y="502920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DP-11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51814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49960" y="13320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CE6E-DD2F-438F-A1BB-D76D98D6EF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ssembly, Linking, Loading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7" name=""/>
          <p:cNvSpPr/>
          <p:nvPr/>
        </p:nvSpPr>
        <p:spPr>
          <a:xfrm>
            <a:off x="48276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120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5892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8772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4320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3564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6444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1992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35600" y="76212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35600" y="251460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35600" y="160020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98960" y="4038480"/>
            <a:ext cx="12031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inker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3429000"/>
            <a:ext cx="457200" cy="6094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2804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572000" y="3505320"/>
            <a:ext cx="1295280" cy="6094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0440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3505320"/>
            <a:ext cx="1981440" cy="6858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152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33920" y="44956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4876920"/>
            <a:ext cx="4800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ingle executable object 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5638680"/>
            <a:ext cx="6705720" cy="0"/>
          </a:xfrm>
          <a:prstGeom prst="line">
            <a:avLst/>
          </a:prstGeom>
          <a:ln w="7632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31120" y="571500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5257800"/>
            <a:ext cx="0" cy="6858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17520" y="52261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RU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10400" y="5943600"/>
            <a:ext cx="122760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oader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4114800"/>
            <a:ext cx="2286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code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4343400"/>
            <a:ext cx="53352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1066680"/>
            <a:ext cx="685800" cy="2438640"/>
          </a:xfrm>
          <a:custGeom>
            <a:avLst/>
            <a:gdLst>
              <a:gd name="textAreaLeft" fmla="*/ 0 w 685800"/>
              <a:gd name="textAreaRight" fmla="*/ 247680 w 6858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56840" y="1504800"/>
            <a:ext cx="1451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rom symbo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ames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es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umeric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nd nume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0" y="3657600"/>
            <a:ext cx="685800" cy="1523880"/>
          </a:xfrm>
          <a:custGeom>
            <a:avLst/>
            <a:gdLst>
              <a:gd name="textAreaLeft" fmla="*/ 0 w 685800"/>
              <a:gd name="textAreaRight" fmla="*/ 247680 w 6858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37400" y="3886200"/>
            <a:ext cx="1433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a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solu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re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ingle addr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5562720"/>
            <a:ext cx="685800" cy="914400"/>
          </a:xfrm>
          <a:custGeom>
            <a:avLst/>
            <a:gdLst>
              <a:gd name="textAreaLeft" fmla="*/ 0 w 685800"/>
              <a:gd name="textAreaRight" fmla="*/ 247680 w 6858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708680" y="5276880"/>
            <a:ext cx="1114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loc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lloca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ynam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ink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469640" y="9144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main tas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4419720"/>
            <a:ext cx="380880" cy="1522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68360" y="4303800"/>
            <a:ext cx="1258200" cy="36828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nk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BE0F-A68D-4025-9DE9-D5580D9E6A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a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Design in Java/C/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3 books). Appel.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s --- Principles, Techniques, and 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Aho, Sethi, and Ullman (19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ilhelm, Maurer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Compiling Techniq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Bennett (199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etargetable C Compiler: Design and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Frazer, Hanson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Constr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aite, Goos (19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level Languages and Their Compil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atson (19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4160" y="1297080"/>
            <a:ext cx="8577000" cy="116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774200" y="2104920"/>
            <a:ext cx="1072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2F23-8C20-40E1-B91B-66B00D79AF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this Cours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ype 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 Sc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Function Closu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Using the Stack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Using the Stack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, linker, object fil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 generat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 gene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Continu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90720" y="26733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17640" y="4570560"/>
            <a:ext cx="453708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40600" y="1330200"/>
            <a:ext cx="196920" cy="1135080"/>
          </a:xfrm>
          <a:custGeom>
            <a:avLst/>
            <a:gdLst>
              <a:gd name="textAreaLeft" fmla="*/ 0 w 196920"/>
              <a:gd name="textAreaRight" fmla="*/ 70920 w 196920"/>
              <a:gd name="textAreaTop" fmla="*/ 29520 h 1135080"/>
              <a:gd name="textAreaBottom" fmla="*/ 110556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76560" y="17193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210440" y="2786040"/>
            <a:ext cx="185760" cy="1611360"/>
          </a:xfrm>
          <a:custGeom>
            <a:avLst/>
            <a:gdLst>
              <a:gd name="textAreaLeft" fmla="*/ 0 w 185760"/>
              <a:gd name="textAreaRight" fmla="*/ 66960 w 185760"/>
              <a:gd name="textAreaTop" fmla="*/ 41760 h 1611360"/>
              <a:gd name="textAreaBottom" fmla="*/ 1569600 h 161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35240" y="2840040"/>
            <a:ext cx="1409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n-Caml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u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194600" y="4738680"/>
            <a:ext cx="198360" cy="128736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360"/>
              <a:gd name="textAreaBottom" fmla="*/ 1253880 h 128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A62B-6667-45AA-87F4-9E969E4B10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is a type of Translatio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9880" y="2133360"/>
            <a:ext cx="4114800" cy="4221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correct in the sense that meaning is pre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enerate efficient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produce usable erro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well-structured and maintain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7080" y="20574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18288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9400" y="198108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90512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 rot="16200000">
            <a:off x="266040" y="323748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4267080"/>
            <a:ext cx="17528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0040" y="441972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74120" y="25146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9560" y="34290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0" y="563868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ation is a trans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“high level” to “low leve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0520" y="1752480"/>
            <a:ext cx="29804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 good compiler should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72400" y="3276720"/>
            <a:ext cx="10666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3352680"/>
            <a:ext cx="304560" cy="2971800"/>
          </a:xfrm>
          <a:custGeom>
            <a:avLst/>
            <a:gdLst>
              <a:gd name="textAreaLeft" fmla="*/ 0 w 304560"/>
              <a:gd name="textAreaRight" fmla="*/ 109800 w 30456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7199280" y="4547880"/>
            <a:ext cx="22762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Trade offs aboun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B1AB-F127-4D28-B4E4-4AC7BB0980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ll Hail Grace Hopper 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263760" cy="4140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48800" y="1981080"/>
            <a:ext cx="455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rote first compiler in 19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or the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hort Cod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languag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hile working for Remington 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compiler was called A-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e wrote it because she fou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rmal process of compiling Short Code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nd was boring and tedious, and s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anted to spend her time doing “inter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thematics” instead of task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uld be done by a stupid mach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59400" y="5979960"/>
            <a:ext cx="40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note: as with all claims of priority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e will be endlessly disputed…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3F7-BC64-4B66-A4C4-BAD50EB40B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y Study Compilers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lthough many of the basic ideas where developed over 30 years ago, compiler construction is still an evolving and active area of research and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ers are intimately related to programming language design and evol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ers are a Computer Science success story that illustrate the hallmarks of our field --- high-level abstractions implemented with low-level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You are computer scientist.  Nothing done with machines should be mysterious to you!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A4E7-9279-4765-A261-061736389E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529480" cy="6477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7000" y="0"/>
            <a:ext cx="64580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erd.sourceforge.net/pixel/language-study/diagra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80" y="609480"/>
            <a:ext cx="290880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nes of descent sh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 be taken too serious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rl from Algol 60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34320" y="22860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22760" y="0"/>
            <a:ext cx="1220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r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C487-5C54-4B9D-9482-5B6B0BFBB7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CAML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http://caml.inria.fr/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166840" cy="2033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21320" y="1752480"/>
            <a:ext cx="4818240" cy="119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caml is a dialect of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is course will frequently mine the Oca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mpiler for examp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97080" y="3581280"/>
            <a:ext cx="6733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rec map f l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match l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[] -&gt; [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head::tail -&gt; (f head) :: (map f ta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(‘a -&gt; ‘b) -&gt; ‘a list -&gt; ‘b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31120" y="502920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nferred typ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8B57-D9F7-498C-AB83-FCFB12FEB4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11080" y="25056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inCaml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A Simple and Efficient Compiler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for a Minimal Functional Languag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43080" y="3762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jiro Sum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hoku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kb.ecei.tohoku.ac.jp/~sumi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90520" y="53942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009520" y="1693800"/>
            <a:ext cx="501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PLAN :Proceedings of the 2005 workshop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al and declarative programming in edu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1680" y="6031080"/>
            <a:ext cx="4082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min-caml.sourceforg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7720" y="245736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美しい日本の</a:t>
            </a:r>
            <a:r>
              <a:rPr b="0" lang="en-US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L</a:t>
            </a:r>
            <a:r>
              <a:rPr b="0" lang="ja-JP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コンパイ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09E0-606F-445C-A7EC-4C3CDE2ED8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MinCaml Languag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00160" y="1025640"/>
            <a:ext cx="7580160" cy="5684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23960" y="936720"/>
            <a:ext cx="29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inimal functional langu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64A2-55B8-487D-B4C5-791992F821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0960" y="0"/>
            <a:ext cx="8229600" cy="78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ind The G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761760" y="912960"/>
            <a:ext cx="7450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t rec gcd m 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m = 0 then n 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m &lt;= n then gcd m (n - m) else gcd n (m - 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 print_int (gcd 21600 33750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51840" y="2467080"/>
            <a:ext cx="3472560" cy="31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global min_caml_sta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in_caml_star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ave    %sp, -112, %s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et     21600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et     337500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      %o7, [%i0 + 4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ll    gcd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dd     %i0, 8, %i0 ! delay sl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0, 8, %i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d      [%i0 + 4], %o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      %o7, [%i0 + 4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ll    min_caml_print_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dd     %i0, 8, %i0 ! delay sl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0, 8, %i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d      [%i0 + 4], %o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st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24200" y="2384280"/>
            <a:ext cx="2466720" cy="447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section ".rodata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align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section ".text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gcd.7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mp     %i2, 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ne     be_else.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3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t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e_else.19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mp    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g      ble_else.2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3,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      gcd.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le_else.20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2, %i3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3, %o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o4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      gcd.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52560" y="901800"/>
            <a:ext cx="982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Ca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9280" y="2384280"/>
            <a:ext cx="6770520" cy="46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83080" y="2489040"/>
            <a:ext cx="0" cy="41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873000" y="2323800"/>
            <a:ext cx="2097000" cy="1678320"/>
          </a:xfrm>
          <a:custGeom>
            <a:avLst/>
            <a:gdLst>
              <a:gd name="textAreaLeft" fmla="*/ 698760 w 2097000"/>
              <a:gd name="textAreaRight" fmla="*/ 1796040 w 2097000"/>
              <a:gd name="textAreaTop" fmla="*/ 966600 h 1678320"/>
              <a:gd name="textAreaBottom" fmla="*/ 1437480 h 1678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70360" y="339084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25680" y="5972040"/>
            <a:ext cx="1828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C ass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A27B-7EE2-4F7D-87A3-ECD7C5ED5B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19T14:06:18Z</dcterms:modified>
  <cp:revision>281</cp:revision>
  <dc:subject/>
  <dc:title>Slide 1</dc:title>
</cp:coreProperties>
</file>