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E1DD-F4C1-4F30-8CA1-BCE1A6124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8156-7C6D-4783-81FC-01B3850F8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lthough m4 is redefined in E, it still requires a pointer to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3EA-33E4-4FC1-A2E6-55C58CA2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D09-F66A-444F-A7B2-DD0A3832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D1C2-68F5-45B7-928E-96B7975D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33F-C4A7-4DF5-B4A8-EB4D5DBD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F31-089F-4E86-94A2-2AE2AD87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444-C335-4B42-A935-03EC88E7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FE9-CC0F-4AEF-BA35-74461D8B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D9C-A567-4CE5-AC6E-0D36AD9B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F2E-3901-46F2-9785-5CDCF8B8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B50-9D5C-4EF9-B3E6-0780D5DD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759-3927-4A45-A920-3A088C51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A08-8DB5-4F9D-B5C9-72C27078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F3BC-9847-4121-BC57-1DE2C626C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bject Orient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6440" y="2554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987800"/>
            <a:ext cx="70106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slides in this lecture are b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oen Langendo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Delft University of Technology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DE8-8111-4F8C-B86D-F39A33CFA0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Dynamic dispatch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dispatch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25720" y="2666880"/>
            <a:ext cx="2087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tr to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lso a ptr t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58920" y="30639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64080" y="3063960"/>
            <a:ext cx="1209600" cy="1554120"/>
            <a:chOff x="4564080" y="3063960"/>
            <a:chExt cx="1209600" cy="1554120"/>
          </a:xfrm>
        </p:grpSpPr>
        <p:sp>
          <p:nvSpPr>
            <p:cNvPr id="148" name=""/>
            <p:cNvSpPr/>
            <p:nvPr/>
          </p:nvSpPr>
          <p:spPr>
            <a:xfrm>
              <a:off x="4564080" y="3063960"/>
              <a:ext cx="120960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408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6408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4080" y="42498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969240" y="3063960"/>
            <a:ext cx="1209600" cy="1158840"/>
            <a:chOff x="6969240" y="3063960"/>
            <a:chExt cx="1209600" cy="1158840"/>
          </a:xfrm>
        </p:grpSpPr>
        <p:sp>
          <p:nvSpPr>
            <p:cNvPr id="153" name=""/>
            <p:cNvSpPr/>
            <p:nvPr/>
          </p:nvSpPr>
          <p:spPr>
            <a:xfrm>
              <a:off x="6969240" y="30639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24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6924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130720" y="3276720"/>
            <a:ext cx="183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340080" y="5353200"/>
            <a:ext cx="5184720" cy="395280"/>
            <a:chOff x="3340080" y="5353200"/>
            <a:chExt cx="5184720" cy="395280"/>
          </a:xfrm>
        </p:grpSpPr>
        <p:sp>
          <p:nvSpPr>
            <p:cNvPr id="158" name=""/>
            <p:cNvSpPr/>
            <p:nvPr/>
          </p:nvSpPr>
          <p:spPr>
            <a:xfrm>
              <a:off x="4029120" y="5353200"/>
              <a:ext cx="4495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*(a-&gt;dispatch_table[1])(a, 3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0080" y="53676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6240" y="5105520"/>
            <a:ext cx="2512440" cy="13629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3B6B-9DB2-4C3E-B647-33720636B622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Dynamic typing:implementation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requires </a:t>
            </a:r>
            <a:r>
              <a:rPr b="0" lang="en-GB" sz="2400" spc="-1" strike="noStrike">
                <a:solidFill>
                  <a:srgbClr val="0033cc"/>
                </a:solidFill>
                <a:latin typeface="Arial Black"/>
              </a:rPr>
              <a:t>pointer subtyping</a:t>
            </a: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876240" y="3814920"/>
            <a:ext cx="6829560" cy="16945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_A_C(class_A *this_A, 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_C *this = </a:t>
            </a:r>
            <a:r>
              <a:rPr b="1" lang="en-GB" sz="1800" spc="-1" strike="noStrike">
                <a:solidFill>
                  <a:srgbClr val="0033cc"/>
                </a:solidFill>
                <a:latin typeface="Courier New"/>
              </a:rPr>
              <a:t>convert_ptrA_to_ptr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this_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-&gt;a2 = this-&gt;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5040" y="1714680"/>
            <a:ext cx="2649600" cy="103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0160" y="2048040"/>
            <a:ext cx="938160" cy="1122120"/>
          </a:xfrm>
          <a:prstGeom prst="downArrow">
            <a:avLst>
              <a:gd name="adj1" fmla="val 50000"/>
              <a:gd name="adj2" fmla="val 29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8E4-796B-4E16-91F7-7D680BAF67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138348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, c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99480" y="3867120"/>
            <a:ext cx="3335400" cy="2357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E : public C,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5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5340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d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FF8-02D2-47AC-B770-A5C7450C8A9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5640" y="1600200"/>
            <a:ext cx="6561360" cy="3050280"/>
            <a:chOff x="2285640" y="1600200"/>
            <a:chExt cx="6561360" cy="3050280"/>
          </a:xfrm>
        </p:grpSpPr>
        <p:sp>
          <p:nvSpPr>
            <p:cNvPr id="175" name=""/>
            <p:cNvSpPr/>
            <p:nvPr/>
          </p:nvSpPr>
          <p:spPr>
            <a:xfrm>
              <a:off x="435132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1480" y="42516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960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8720" y="425160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5640" y="1600200"/>
              <a:ext cx="19897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C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70240" y="199728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5040" y="185760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75040" y="225288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75040" y="264816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75040" y="304344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0200" y="1857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80200" y="2252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C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80200" y="26481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D_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42040" y="207036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5040" y="343872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040" y="383400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281628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D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0240" y="321336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80200" y="30434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4_D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0200" y="34387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5_E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42040" y="2816280"/>
              <a:ext cx="1838160" cy="399960"/>
            </a:xfrm>
            <a:custGeom>
              <a:avLst/>
              <a:gdLst/>
              <a:ahLst/>
              <a:rect l="l" t="t" r="r" b="b"/>
              <a:pathLst>
                <a:path w="1158" h="252">
                  <a:moveTo>
                    <a:pt x="0" y="250"/>
                  </a:moveTo>
                  <a:lnTo>
                    <a:pt x="787" y="252"/>
                  </a:lnTo>
                  <a:lnTo>
                    <a:pt x="787" y="2"/>
                  </a:lnTo>
                  <a:lnTo>
                    <a:pt x="115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28200" y="42908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2880" y="56530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CB7-93C5-44DA-ACBD-71A017C337EB}" type="slidenum">
              <a:t>13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iven an object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of class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06440" y="2362320"/>
          <a:ext cx="8508960" cy="3319200"/>
        </p:xfrm>
        <a:graphic>
          <a:graphicData uri="http://schemas.openxmlformats.org/drawingml/2006/table">
            <a:tbl>
              <a:tblPr/>
              <a:tblGrid>
                <a:gridCol w="1346040"/>
                <a:gridCol w="716292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1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0]))((Class_C *)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3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2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4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3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135-B5C6-4CF7-A6E6-279C730062B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OO Featur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really a scope/visibility issu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nt-end during semantic analysis (type checking and so on), the compiler maintains this information in the symbol table for each class and enforces visibility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CB7-E6F5-4D35-B5F1-429B0351C0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s (with single inheritance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226440" y="982800"/>
            <a:ext cx="5941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tart :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Vehicle extends Objec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osition :=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{position := position + x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Car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assengers :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wait(v : Vehicle)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(v.position &lt; po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v.move(position – v.posi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lse self.move(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Truck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x &lt;= 55 then position := position +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t := new Tr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c := new C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v : Vehicle :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passengers :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move(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.move(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await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9600" y="4014720"/>
            <a:ext cx="2021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46800" y="5259240"/>
            <a:ext cx="3592800" cy="100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 or Car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d as a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804680" y="6087960"/>
            <a:ext cx="3647880" cy="185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03160" y="4105080"/>
            <a:ext cx="3103560" cy="44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855880" y="5217840"/>
            <a:ext cx="2604960" cy="368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714-8775-4E7E-BDE8-99F1B3E21A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 Implementatio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implement subtyping (“object polymorphism”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B is derived from A, then need to be able to treat a pointer to a B-object as if it were an A-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5711-3847-42C2-B313-AD7FC471AC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tic &amp; Dynamic Metho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0D4-1C66-42D4-AD07-4920299EBF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bject represent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597240" y="1752480"/>
            <a:ext cx="2786760" cy="3499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a1,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1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a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1160" y="1752480"/>
            <a:ext cx="75672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46400" y="2482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65640" y="2354400"/>
            <a:ext cx="1209600" cy="763560"/>
            <a:chOff x="5165640" y="2354400"/>
            <a:chExt cx="1209600" cy="763560"/>
          </a:xfrm>
        </p:grpSpPr>
        <p:sp>
          <p:nvSpPr>
            <p:cNvPr id="67" name=""/>
            <p:cNvSpPr/>
            <p:nvPr/>
          </p:nvSpPr>
          <p:spPr>
            <a:xfrm>
              <a:off x="5165640" y="2354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5640" y="2749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65640" y="4138560"/>
            <a:ext cx="1209600" cy="763560"/>
            <a:chOff x="5165640" y="4138560"/>
            <a:chExt cx="1209600" cy="763560"/>
          </a:xfrm>
        </p:grpSpPr>
        <p:sp>
          <p:nvSpPr>
            <p:cNvPr id="70" name=""/>
            <p:cNvSpPr/>
            <p:nvPr/>
          </p:nvSpPr>
          <p:spPr>
            <a:xfrm>
              <a:off x="5165640" y="41385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65640" y="45338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673320" y="4157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62400" y="1955880"/>
            <a:ext cx="120996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6080" y="215100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77040" y="1573200"/>
            <a:ext cx="70632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0080" y="13208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37D-AC0E-4699-AE00-B8B78D34607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Black"/>
              </a:rPr>
              <a:t>Inheritance (“pointer polymorphism”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604920" y="27511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5280" y="42004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5280" y="459576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80840" y="4033800"/>
            <a:ext cx="22626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de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05280" y="2416320"/>
            <a:ext cx="1209600" cy="1158840"/>
            <a:chOff x="4805280" y="2416320"/>
            <a:chExt cx="1209600" cy="1158840"/>
          </a:xfrm>
        </p:grpSpPr>
        <p:sp>
          <p:nvSpPr>
            <p:cNvPr id="83" name=""/>
            <p:cNvSpPr/>
            <p:nvPr/>
          </p:nvSpPr>
          <p:spPr>
            <a:xfrm>
              <a:off x="4805280" y="24163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5280" y="2811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5280" y="3206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05280" y="499104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040" y="1289160"/>
            <a:ext cx="2923920" cy="2689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b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37120" y="13939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8360" y="5888160"/>
            <a:ext cx="696420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a pointer to a B object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reated as if it were a pointer to an A obj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5CD-DF59-4C95-A602-CA71B6F05D6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ethod overri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287400" y="26528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92680" y="416232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2680" y="455760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90560" y="41324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80080" y="2427120"/>
            <a:ext cx="1209600" cy="1158840"/>
            <a:chOff x="4780080" y="2427120"/>
            <a:chExt cx="1209600" cy="1158840"/>
          </a:xfrm>
        </p:grpSpPr>
        <p:sp>
          <p:nvSpPr>
            <p:cNvPr id="99" name=""/>
            <p:cNvSpPr/>
            <p:nvPr/>
          </p:nvSpPr>
          <p:spPr>
            <a:xfrm>
              <a:off x="4780080" y="24271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0080" y="2822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0080" y="3217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792680" y="49528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C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880" y="2057400"/>
            <a:ext cx="2923920" cy="3683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4356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308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86240" y="59673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5800" y="59673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29560" y="1393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1E0-9C0C-43E2-B6EE-F51494B092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547560" y="1962000"/>
            <a:ext cx="3838320" cy="2924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clas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hap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double SurfaceArea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Rectangle extend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ouble SurfaceArea { ..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Squrae extends Rectang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46640" y="1179360"/>
          <a:ext cx="2678040" cy="2211480"/>
        </p:xfrm>
        <a:graphic>
          <a:graphicData uri="http://schemas.openxmlformats.org/drawingml/2006/table">
            <a:tbl>
              <a:tblPr/>
              <a:tblGrid>
                <a:gridCol w="26780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table fo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ta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hap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ctangl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quar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rfaceArea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216400" y="379728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table 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6400" y="588816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rfaceArea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6400" y="5356080"/>
            <a:ext cx="2830680" cy="532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quar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6400" y="4838760"/>
            <a:ext cx="2830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Rectangl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6400" y="4317840"/>
            <a:ext cx="2830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hap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6400" y="3797280"/>
            <a:ext cx="283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6400" y="48387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6400" y="535608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6400" y="58881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6408720"/>
            <a:ext cx="2830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640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4708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6400" y="4317840"/>
            <a:ext cx="2830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708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640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5920" y="5450040"/>
            <a:ext cx="334152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mpiler needs to 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YMBOL TABLE to keep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object type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788-7A04-45C1-8E6C-39F73FE6CD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Static vs. Dynamic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ethod to invoke on overloaded polymorphic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3890880"/>
            <a:ext cx="2771640" cy="1503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37000" y="4137480"/>
            <a:ext cx="739080" cy="79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297320" y="3733920"/>
            <a:ext cx="3929040" cy="1592280"/>
            <a:chOff x="4297320" y="3733920"/>
            <a:chExt cx="3929040" cy="1592280"/>
          </a:xfrm>
        </p:grpSpPr>
        <p:grpSp>
          <p:nvGrpSpPr>
            <p:cNvPr id="136" name=""/>
            <p:cNvGrpSpPr/>
            <p:nvPr/>
          </p:nvGrpSpPr>
          <p:grpSpPr>
            <a:xfrm>
              <a:off x="4602240" y="3886200"/>
              <a:ext cx="3200400" cy="459720"/>
              <a:chOff x="4602240" y="3886200"/>
              <a:chExt cx="320040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4602240" y="391788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A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10200" y="3886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tat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602240" y="4724280"/>
              <a:ext cx="3624120" cy="459720"/>
              <a:chOff x="4602240" y="4724280"/>
              <a:chExt cx="3624120" cy="459720"/>
            </a:xfrm>
          </p:grpSpPr>
          <p:sp>
            <p:nvSpPr>
              <p:cNvPr id="140" name=""/>
              <p:cNvSpPr/>
              <p:nvPr/>
            </p:nvSpPr>
            <p:spPr>
              <a:xfrm>
                <a:off x="4602240" y="475452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C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11640" y="472428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ynam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97320" y="3733920"/>
              <a:ext cx="304920" cy="1592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400 h 1592280"/>
                <a:gd name="textAreaBottom" fmla="*/ 1550880 h 15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666-6700-4087-AE6B-5699F065FB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1T10:20:51Z</dcterms:modified>
  <cp:revision>274</cp:revision>
  <dc:subject/>
  <dc:title>Slide 1</dc:title>
</cp:coreProperties>
</file>