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3394-886A-4108-9F1E-25F8BFD81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am not going to lecture a full compiler cours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EF16-5DA8-402B-8D51-7491A371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0EA6-9BAC-4B48-9585-A4A7019E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E7EF-A759-42E9-97C6-2AB78B5F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9BA0-7E22-4581-A954-F767C1B2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F2B7-B13D-4657-9A0D-17366275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951F-9DBD-40AE-9919-AFCB6CDE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2AE2-AE60-480C-856C-ADA9FAA0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79D9-CB9D-4D73-AB6A-AA1FC33D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44C0-DFF4-44F7-BF89-29B591F9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AB58-5DB7-4AA9-BC7E-92D372F7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67F9-B48A-4FE5-90FC-003E38FB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5C0D-E2B8-4972-AF80-6F238265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1E2F-59C8-40A3-A093-ED8C8F974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1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gister Machines and the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in-Caml Middle-End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96C1-E3C5-465B-91F1-953B69B856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Knormaliz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1129680" y="565200"/>
            <a:ext cx="548424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: int =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f  : (int) -&gt; (int) -&gt;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g  : (int) -&gt; int z : int = ((x + y)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: (int) -&gt; int = (f 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: (int) -&gt; int = (f 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: int = ((first 99) + (second 44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120" y="269568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68200" y="3263760"/>
            <a:ext cx="740448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  : (int) -&gt; (int) -&gt;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  : (int) -&gt; int z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  : int = (x + y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: (int) -&gt; int = let Ti1  : int = 21 in (f Ti1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: (int) -&gt; int = let Ti2  : int = 88 in (f Ti2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: int = let Ti4  : int = let Ti3  : int = 99 in (first Ti3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  : int = let Ti5  : int = 44 in (second Ti5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4 + Ti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D978-69D2-491B-85CC-B9242141C4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KNormaliz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630360" y="1030320"/>
            <a:ext cx="35334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Bool of b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ot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q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t *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rray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23880" y="1100160"/>
            <a:ext cx="1468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ntax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84840" y="1076400"/>
            <a:ext cx="3762000" cy="4662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Fun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44240" y="6083280"/>
            <a:ext cx="69472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val Knormal.f : Syntax.t -&gt; Knormal.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68360" y="1235160"/>
            <a:ext cx="1671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normal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F8AB-DEEF-4573-9B22-5BE6AA7BCD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-Reduction, Nested "Let" Reduc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536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y in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[y/x]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394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y = (let x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)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let y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2120" y="3365640"/>
            <a:ext cx="862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A904-92D5-49B5-9CC3-3CFBD3E325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Inlin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nlines all "small"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udes recursive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mall" = less than a constan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-specified by "-inline"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eat for a constant number of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-specified by "-iter"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B001-804A-4B49-A57C-E4C959808D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Constant Folding and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Unused Variable Elimin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 let y = 7 in x +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 let y = 7 in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effective after inli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E63C-632D-40C4-9212-EFB2EAD3BD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mplific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708120" y="269568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81040"/>
            <a:ext cx="6200280" cy="268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x  : int = 17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f  : (int) -&gt; (int) -&gt; int y : in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g  : (int) -&gt; int z : in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Ti7  : int = (x + y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(Ti7 + z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first  : (int) -&gt; int = let Ti1  : int = 21 in (f Ti1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second  : (int) -&gt; int = let Ti2  : int = 88 in (f Ti2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result  : int = let Ti4  : int = let Ti3  : int = 99 in (first Ti3)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Ti6  : int = let Ti5  : int = 44 in (second Ti5)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(Ti4 + Ti6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EXTERN(print_int resul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51280" y="3406680"/>
            <a:ext cx="530136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.9  : (int) -&gt; (int) -&gt; in t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.20  : (int) -&gt; int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= 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= 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= 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= 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11BE-0EB3-45DC-B859-101C7C4264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function defini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   functio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p-level function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ure crea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ure applica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clo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n function call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dir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0447-D1F5-4814-8D53-1B3B53D281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1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Closure Creation/Applic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y = x + y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x] y = x + y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 f = (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, [x])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closure 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09D2-91EC-49EF-BA89-4D623BB9E2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2: Known Function Cal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x = x +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(f, f 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] x = x + 3 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 f = (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, [])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(f, apply_direct f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A31B-11B4-4032-8F36-D6950EED25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3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Unused Closure Elimin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x = x +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] x = x + 3 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direct 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AE22-53FA-40BA-898A-CC77192163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Register Machine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asic (Abstract) Opera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932040" y="433692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2 op 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4280" y="1324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8760" y="1376280"/>
            <a:ext cx="47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memory location L to register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8560" y="26002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47840" y="2666880"/>
            <a:ext cx="47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register R to memory location 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0520" y="4213080"/>
            <a:ext cx="541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 operation op in values in registers R2 and R3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store the result in register R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50320" y="180648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R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59360" y="1752480"/>
            <a:ext cx="458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memory location stored in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register 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58240" y="317196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2]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46040" y="3129120"/>
            <a:ext cx="47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register R1 to memory lo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ed in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75EF-6CC5-4D56-A95C-D68D7CBBE0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7280" y="378000"/>
            <a:ext cx="2511360" cy="1109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2182680"/>
            <a:ext cx="0" cy="1182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0" y="200160"/>
            <a:ext cx="530136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.9  : (int) -&gt; (int) -&gt; in t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.20  : (int) -&gt; int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= 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= 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= 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= 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4320" y="3456000"/>
            <a:ext cx="7221600" cy="35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g.20) [x.8 : int, y.10 : int]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 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f.9) [x.8 : int] 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g.20  : (int) -&gt; int = ( LABEL(g.20); [x.8, y.10] ) 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                         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f.9  : (int) -&gt; (int) -&gt; int = ( LABEL(f.9); [x.8] 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           = APPLY_CLOSURE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           = APPLY_CLOSURE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           = APPLY_CLOSURE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           = APPLY_CLOSURE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 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PPLY_DIRECT(LABEL(min_caml_print_int)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82E5-3E92-4D29-A34F-911CE81C0B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336600" y="1006560"/>
            <a:ext cx="37620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Fun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1200" y="6059520"/>
            <a:ext cx="76788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val Closure.f : Knormal.t -&gt; Closure.p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8640" y="1093680"/>
            <a:ext cx="1671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normal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84600" y="12207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16400" y="18781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34040" y="1017720"/>
            <a:ext cx="429552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closure = { entry : Id.l; actual_fv : Id.t lis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MakeCls of (Id.t * Type.t) * closure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Cls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Dir of Id.l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fundef = { name : Id.l * Type.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Id.t * Type.t) lis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formal_fv : (Id.t * Type.t) lis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    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prog = Prog of fundef lis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68800" y="1744560"/>
            <a:ext cx="1569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osure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9C67-C550-4CAA-9CCB-9F6B1978BD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6600" y="0"/>
            <a:ext cx="852804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as a sequence of small steps…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634320" y="3456000"/>
            <a:ext cx="7221600" cy="35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g.20) [x.8 : int, y.10 : int]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 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f.9) [x.8 : int] 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g.20  : (int) -&gt; int = ( LABEL(g.20); [x.8, y.10] ) 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                         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f.9  : (int) -&gt; (int) -&gt; int = ( LABEL(f.9); [x.8] 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           = APPLY_CLOSURE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           = APPLY_CLOSURE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           = APPLY_CLOSURE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           = APPLY_CLOSURE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 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PPLY_DIRECT(LABEL(min_caml_print_int)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71000" y="884160"/>
            <a:ext cx="493560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=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f  y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g  z = ((x + y)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= (f 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= (f 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= ((first 99) + (second 44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49520" y="1684440"/>
            <a:ext cx="12600" cy="177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585800"/>
            <a:ext cx="261288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-norm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sure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2A2D-B04D-4D25-B8C1-C4F8DAC9A0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BA43-2F52-4C29-A290-1290F01114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nother Example: ack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1854000" y="1179360"/>
            <a:ext cx="5057640" cy="2040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ack x y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x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y +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y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ack (x - 1)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(ack (x - 1) (ack x (y - 1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n (print_int (ack 3 10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12840" y="4095720"/>
            <a:ext cx="6398640" cy="228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ack  : (int, int) -&gt; int x : int y : int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x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y +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y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ack (x - 1)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(ack (x - 1) (ack x (y - 1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n (print_int (ack 3 10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7200" y="3013200"/>
            <a:ext cx="691920" cy="831600"/>
          </a:xfrm>
          <a:prstGeom prst="downArrow">
            <a:avLst>
              <a:gd name="adj1" fmla="val 50000"/>
              <a:gd name="adj2" fmla="val 3004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6400" y="34480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5254-A9A2-425A-BAA9-A36316D288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KNormalization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1806480" y="132732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44720" y="1619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17480" y="109872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7480" y="2220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5320" y="1569960"/>
            <a:ext cx="8318880" cy="44744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  : (int, int) -&gt; int x :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 &lt;= Ti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 + Ti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 &lt;= Ti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  : int = let Ti7  : int = 1 in (x - Ti7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  : int = 1 in (ack Ti8 Ti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  : int = let Ti10  : int = 1 in (x - Ti1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  : int =  let Ti13  : int =  (let Ti12  : int = 1 in (y - Ti12)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    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 x Ti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 Ti11 Ti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  : int = let Ti1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  : int = 10 in (ack Ti1 Ti2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XTERN(print_int Ti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5870-D422-4D16-883D-02B4E6CD2E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fter Simplific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84760" y="1057320"/>
            <a:ext cx="5392800" cy="5387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.15  : (int, int) -&gt; int x.16 : int y.17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.21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.16 &lt;= Ti4.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.31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.17 + Ti5.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.22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.17 &lt;= Ti6.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7.30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.28  : int = (x.16 - Ti7.3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.29  : int =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.15 Ti8.28 Ti9.2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0.27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.23  : int = (x.16 - Ti10.2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2.26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3.25  : int = (y.17 - Ti12.26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.24  : int = (ack.15 x.16 Ti13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.15 Ti11.23 Ti14.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.19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.20  : int = 10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.18  : int = (ack.15 Ti1.19 Ti2.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EXTERN(print_int Ti3.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1007-BA76-488D-9180-1D93458A66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403560" y="1017720"/>
            <a:ext cx="6215760" cy="5387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.15  : (int, int) -&gt; int x.16 : int, y.17 : int 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.21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.16 &lt;= Ti4.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.31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.17 + Ti5.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.22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.17 &lt;= Ti6.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7.30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.28  : int = (x.16 - Ti7.3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.29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ack.15 Ti8.28 Ti9.2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0.27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.23  : int = (x.16 - Ti10.27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2.26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3.25  : int = (y.17 - Ti12.2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.24  : int = APPLY_DIRECT(ack.15 x.16 Ti13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ack.15 Ti11.23 Ti14.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.19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.20  : int = 10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.18  : int = APPLY_DIRECT(ack.15 Ti1.19 Ti2.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min_caml_print_int Ti3.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ADBE-8112-4107-BA13-D98E6F8E1C4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Yet another example : funcomp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3" name=""/>
          <p:cNvSpPr/>
          <p:nvPr/>
        </p:nvSpPr>
        <p:spPr>
          <a:xfrm>
            <a:off x="741240" y="2031840"/>
            <a:ext cx="749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compose f g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composed x = g (f x)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compos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dbl x = x + x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inc x = x + 1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dec x = x - 1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h = compose inc (compose dbl dec)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nt_int (h 1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9E88-B583-4B2F-AD83-CE9571B782E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Machine to Register Machin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323640" y="1206360"/>
            <a:ext cx="49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imple translation that produces terrible cod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6400" y="2433600"/>
            <a:ext cx="1119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rith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1520" y="2278080"/>
            <a:ext cx="1414800" cy="70812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60000" y="3664080"/>
            <a:ext cx="1922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1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R2 op 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27960" y="4098960"/>
            <a:ext cx="12675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[SP]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70440" y="4595760"/>
            <a:ext cx="151272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31920" y="2727360"/>
            <a:ext cx="144864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3200" y="3200400"/>
            <a:ext cx="1398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3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[SP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1120" y="2257560"/>
            <a:ext cx="1398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2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[SP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03480" y="1798560"/>
            <a:ext cx="144864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4000" y="5656320"/>
            <a:ext cx="319680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is assumes that stack 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upwards, and SP always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o the next free s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7000" y="4352760"/>
            <a:ext cx="465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this defeats the whole point of registers 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are FAST local memory that shou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used to reduce CPU to memory traffi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3839-4179-499D-A624-0948DA0CCA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Better way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402120" y="2322360"/>
            <a:ext cx="14274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rogram 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13120" y="2511360"/>
            <a:ext cx="815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32400" y="2570040"/>
            <a:ext cx="815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58840" y="2039760"/>
            <a:ext cx="142740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ive explic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ames to 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51560" y="2135160"/>
            <a:ext cx="246528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enerat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or an abstra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Machine with an infin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mber of regist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62880" y="3236760"/>
            <a:ext cx="10800" cy="901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48040" y="4143240"/>
            <a:ext cx="3252960" cy="15541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erform “Register Allocation”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map abstract register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ctual machine registe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“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illing” registers into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only when you run out of actu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regis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91080" y="4908600"/>
            <a:ext cx="816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38960" y="4745160"/>
            <a:ext cx="16484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mit assemb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384B-6DCD-4F59-BF81-842C3FD1DD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498600" y="644400"/>
            <a:ext cx="7580520" cy="5685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11560" y="6334200"/>
            <a:ext cx="4082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min-caml.sourceforg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t’s look at the MinCaml Middle-End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5604120" y="1176480"/>
            <a:ext cx="35334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Bool of b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ot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q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t *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rray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7640" y="1246320"/>
            <a:ext cx="1468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ntax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CBFA-DDDC-4F8D-8DB3-9A719283EF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inCaml Compiler Roadm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91" idx="3"/>
            <a:endCxn id="90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3" name=""/>
          <p:cNvCxnSpPr>
            <a:stCxn id="90" idx="3"/>
            <a:endCxn id="93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4" name=""/>
          <p:cNvCxnSpPr>
            <a:stCxn id="93" idx="3"/>
            <a:endCxn id="92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5" name=""/>
          <p:cNvCxnSpPr>
            <a:stCxn id="97" idx="2"/>
            <a:endCxn id="96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6" name=""/>
          <p:cNvCxnSpPr>
            <a:stCxn id="101" idx="3"/>
            <a:endCxn id="91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7" name=""/>
          <p:cNvCxnSpPr/>
          <p:nvPr/>
        </p:nvCxnSpPr>
        <p:spPr>
          <a:xfrm>
            <a:off x="8494200" y="2813040"/>
            <a:ext cx="1080" cy="1038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8" name=""/>
          <p:cNvCxnSpPr>
            <a:stCxn id="95" idx="1"/>
            <a:endCxn id="94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9" name=""/>
          <p:cNvCxnSpPr>
            <a:stCxn id="94" idx="1"/>
            <a:endCxn id="97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0" name=""/>
          <p:cNvCxnSpPr>
            <a:stCxn id="96" idx="3"/>
            <a:endCxn id="99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1" name=""/>
          <p:cNvCxnSpPr>
            <a:stCxn id="99" idx="3"/>
            <a:endCxn id="98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2" name=""/>
          <p:cNvCxnSpPr>
            <a:stCxn id="98" idx="3"/>
            <a:endCxn id="113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4" name=""/>
          <p:cNvCxnSpPr>
            <a:stCxn id="97" idx="0"/>
            <a:endCxn id="115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27700000"/>
              <a:gd name="adj2" fmla="val 49997"/>
              <a:gd name="adj3" fmla="val -27700000"/>
            </a:avLst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6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5" idx="1"/>
            <a:endCxn id="128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30" name=""/>
          <p:cNvCxnSpPr>
            <a:stCxn id="128" idx="1"/>
            <a:endCxn id="95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1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13" idx="3"/>
            <a:endCxn id="100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4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4800" y="1230480"/>
            <a:ext cx="33735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ges, with lines of ocaml cod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1623-BBA0-4058-8DBB-9E60F6A4B9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utting it all together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284040" y="1047600"/>
            <a:ext cx="8379000" cy="4717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iter n e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n = 0 then e 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e' = Elim.f (ConstFold.f (Inline.f (Assoc.f (Beta.f e))))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e = e' then e else iter (n - 1) e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lexbuf outchan l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d.counter :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yping.extenv := M.empt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mit.f outch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RegAlloc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Simm13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Virtual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Closure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iter !li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Alpha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KNormal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Typing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Parser.exp Lexer.token l)))))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40600" y="3211560"/>
            <a:ext cx="24681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rom min-caml/main.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94440" y="6105600"/>
            <a:ext cx="19972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lean code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9EED-F4E4-4084-96E8-8490D899AC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K-Normaliz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 + b + c *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tmp1 = a + b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tmp2 = c * d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tmp1 + tmp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st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llow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(let y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)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2993-DA8C-491E-AB2E-E098342E56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xample.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1863720" y="617400"/>
            <a:ext cx="5727960" cy="286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x  =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f  y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g  z = ((x + y) + 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first  = (f 2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econd  = (f 8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sult  = ((first 99) + (second 44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78480" y="3652920"/>
            <a:ext cx="6368040" cy="26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x  : int =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f  : (int) -&gt; (int) -&gt; int y : int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g  : (int) -&gt; int z : int = ((x + y) + 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first  : (int) -&gt; int = (f 2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econd  : (int) -&gt; int = (f 8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sult  : int = ((first 99) + (second 44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36840" y="297504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5880" y="34369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4275-35A9-47EB-8104-EAD1BE5996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5T20:28:48Z</dcterms:modified>
  <cp:revision>295</cp:revision>
  <dc:subject/>
  <dc:title>Slide 1</dc:title>
</cp:coreProperties>
</file>