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787-3AD6-4FE0-ACDA-B23B5FC1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1B8-2994-48C1-A33F-8863077C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DD5-BC20-41FB-B458-CE362DD2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F84-1427-43FF-91E2-28BC4778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5CC-191C-4D28-8CBB-D7FACDAC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6A1-2E33-4A7A-82DC-D12442CA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441-96EF-4AC7-AE3E-80B725D0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CE1-67E0-4A21-A7F7-35AE3AE7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F19-6F50-4B98-9A99-81020F71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27F-F19E-4EB0-8EC2-82B5E9CA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F71-D171-4645-A08E-AB58E4AA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2D7-3523-4ED7-B6F7-DEC12ED9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646F-23E1-4E34-8A0E-6F82DCE70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4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954-A8D9-403F-A6DA-3ADE2C3CA5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新細明體"/>
              </a:rPr>
              <a:t>Q: How do we know when to shift and when to reduce? A: Build a FSA from LR(0) It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" y="1471680"/>
            <a:ext cx="3200400" cy="2308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 $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| 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1523880"/>
            <a:ext cx="4191120" cy="400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7640" y="5518080"/>
            <a:ext cx="35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R(0) items indicate what i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to the lef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 and what is stil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the input stream 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righ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600" y="3962520"/>
            <a:ext cx="2399760" cy="256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 produc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n LR(0)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EAA-2AC7-4D1F-A245-63B82D315D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Key idea behind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current state” contains the i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and the current symbol in the input buffer 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shif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xt state will contain A ::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 •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reduc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S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$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 input buffer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t How about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re X is a nonterm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9D0-9E15-49EA-AACF-E13E473191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NFA for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The transition of LR(0) items can be represented by an NFA, in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1. each LR(0) item is a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2. there is a 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c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to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c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with label c, where c is a termin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3. there is a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-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X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to X ::=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where X is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4. S ::= • A $ is the star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5.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• is a fi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9CE-D815-4837-8813-44E47A9125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 NFA for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728720"/>
            <a:ext cx="8458200" cy="1492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$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• $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(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440" y="3429000"/>
            <a:ext cx="8259480" cy="3008160"/>
            <a:chOff x="406440" y="3429000"/>
            <a:chExt cx="8259480" cy="3008160"/>
          </a:xfrm>
        </p:grpSpPr>
        <p:sp>
          <p:nvSpPr>
            <p:cNvPr id="120" name=""/>
            <p:cNvSpPr/>
            <p:nvPr/>
          </p:nvSpPr>
          <p:spPr>
            <a:xfrm>
              <a:off x="61880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34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5760" y="3832200"/>
              <a:ext cx="1904400" cy="414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3440" y="3832200"/>
              <a:ext cx="1904760" cy="414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8840" y="3832200"/>
              <a:ext cx="1904760" cy="4143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 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1720" y="6021360"/>
              <a:ext cx="1904760" cy="4158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 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712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88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4" idx="1"/>
              <a:endCxn id="125" idx="1"/>
            </p:cNvCxnSpPr>
            <p:nvPr/>
          </p:nvCxnSpPr>
          <p:spPr>
            <a:xfrm flipH="1" flipV="1" rot="10800000">
              <a:off x="1144080" y="4037400"/>
              <a:ext cx="2160" cy="2191320"/>
            </a:xfrm>
            <a:prstGeom prst="curvedConnector5">
              <a:avLst>
                <a:gd name="adj1" fmla="val -41000000"/>
                <a:gd name="adj2" fmla="val 50000"/>
                <a:gd name="adj3" fmla="val -410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1"/>
              <a:endCxn id="128" idx="1"/>
            </p:cNvCxnSpPr>
            <p:nvPr/>
          </p:nvCxnSpPr>
          <p:spPr>
            <a:xfrm flipH="1" flipV="1" rot="10800000">
              <a:off x="1144080" y="4037040"/>
              <a:ext cx="2160" cy="989280"/>
            </a:xfrm>
            <a:prstGeom prst="curvedConnector5">
              <a:avLst>
                <a:gd name="adj1" fmla="val -13500000"/>
                <a:gd name="adj2" fmla="val 49981"/>
                <a:gd name="adj3" fmla="val -135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3"/>
              <a:endCxn id="123" idx="1"/>
            </p:cNvCxnSpPr>
            <p:nvPr/>
          </p:nvCxnSpPr>
          <p:spPr>
            <a:xfrm>
              <a:off x="3078000" y="403812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2" name=""/>
            <p:cNvCxnSpPr>
              <a:stCxn id="128" idx="3"/>
              <a:endCxn id="127" idx="1"/>
            </p:cNvCxnSpPr>
            <p:nvPr/>
          </p:nvCxnSpPr>
          <p:spPr>
            <a:xfrm>
              <a:off x="3078000" y="5027040"/>
              <a:ext cx="50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3" name=""/>
            <p:cNvCxnSpPr>
              <a:stCxn id="127" idx="3"/>
              <a:endCxn id="120" idx="1"/>
            </p:cNvCxnSpPr>
            <p:nvPr/>
          </p:nvCxnSpPr>
          <p:spPr>
            <a:xfrm>
              <a:off x="5516640" y="5027040"/>
              <a:ext cx="65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4" name=""/>
            <p:cNvCxnSpPr>
              <a:stCxn id="125" idx="3"/>
              <a:endCxn id="121" idx="1"/>
            </p:cNvCxnSpPr>
            <p:nvPr/>
          </p:nvCxnSpPr>
          <p:spPr>
            <a:xfrm>
              <a:off x="3077640" y="6228720"/>
              <a:ext cx="581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5" name=""/>
            <p:cNvCxnSpPr>
              <a:stCxn id="120" idx="3"/>
              <a:endCxn id="122" idx="3"/>
            </p:cNvCxnSpPr>
            <p:nvPr/>
          </p:nvCxnSpPr>
          <p:spPr>
            <a:xfrm flipH="1" flipV="1">
              <a:off x="7958880" y="4038120"/>
              <a:ext cx="147960" cy="989280"/>
            </a:xfrm>
            <a:prstGeom prst="curvedConnector5">
              <a:avLst>
                <a:gd name="adj1" fmla="val -145121"/>
                <a:gd name="adj2" fmla="val 49981"/>
                <a:gd name="adj3" fmla="val -145121"/>
              </a:avLst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6" name=""/>
            <p:cNvCxnSpPr>
              <a:stCxn id="121" idx="3"/>
              <a:endCxn id="126" idx="1"/>
            </p:cNvCxnSpPr>
            <p:nvPr/>
          </p:nvCxnSpPr>
          <p:spPr>
            <a:xfrm>
              <a:off x="5592600" y="6228720"/>
              <a:ext cx="500400" cy="10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stCxn id="127" idx="2"/>
              <a:endCxn id="125" idx="0"/>
            </p:cNvCxnSpPr>
            <p:nvPr/>
          </p:nvCxnSpPr>
          <p:spPr>
            <a:xfrm rot="5400000">
              <a:off x="2953440" y="4410000"/>
              <a:ext cx="753480" cy="2438640"/>
            </a:xfrm>
            <a:prstGeom prst="bentConnector3">
              <a:avLst>
                <a:gd name="adj1" fmla="val 47466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8" idx="0"/>
            </p:cNvCxnSpPr>
            <p:nvPr/>
          </p:nvCxnSpPr>
          <p:spPr>
            <a:xfrm rot="5400000">
              <a:off x="3328920" y="3584520"/>
              <a:ext cx="2520" cy="2438640"/>
            </a:xfrm>
            <a:prstGeom prst="curvedConnector5">
              <a:avLst>
                <a:gd name="adj1" fmla="val -23800000"/>
                <a:gd name="adj2" fmla="val 49992"/>
                <a:gd name="adj3" fmla="val -238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1258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416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5160" y="450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160" y="567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6080" y="5584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960" y="423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520" y="4232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560" y="51307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0320" y="42750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EAF-5662-4B5F-BD19-9850DF0A06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DFA from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6040" y="1114200"/>
            <a:ext cx="8229600" cy="270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fter the NFA for LR(0) is constructed, the resulting DFA for LR(0) parsing can be obtained by the usual NFA2DFA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e thus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-closure (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ve(S, 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68560"/>
            <a:ext cx="8229600" cy="25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xed Point Algorithm for 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ry ite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lso an item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s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n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n item,  then ad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new items can be add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BAD-2F8E-4CE1-B68E-65E5F6B4A0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1447920"/>
            <a:ext cx="5181480" cy="20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:=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58316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00" y="458316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34040" y="45831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3821040"/>
            <a:ext cx="4435200" cy="2595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73920" y="1708200"/>
            <a:ext cx="290484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481-A92A-48D1-8D0A-E6006C7F8F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Goto() of a set of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 finds the new state after consuming a grammar symbol while in the 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hm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set of i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non-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720" y="4191120"/>
            <a:ext cx="88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to(I, X) = Closure(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is the new set obtained by “moving the dot” ove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C22-E7AB-48D2-A821-93E8B61EAC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44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•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209680"/>
            <a:ext cx="2895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3692520"/>
            <a:ext cx="46879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 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445464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2880" y="4378320"/>
            <a:ext cx="3885840" cy="685800"/>
            <a:chOff x="812880" y="4378320"/>
            <a:chExt cx="3885840" cy="685800"/>
          </a:xfrm>
        </p:grpSpPr>
        <p:sp>
          <p:nvSpPr>
            <p:cNvPr id="175" name=""/>
            <p:cNvSpPr/>
            <p:nvPr/>
          </p:nvSpPr>
          <p:spPr>
            <a:xfrm>
              <a:off x="81288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39344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38760" y="1812960"/>
            <a:ext cx="290520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B9C-9A65-456A-A7D5-CB7F8C8DEF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4320" y="1306440"/>
            <a:ext cx="85345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ssentially the usual NFA2DFA construc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t A be the start symbol and S a new start sym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a new rule S ::= A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the first state to be Closure(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ick a st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r each item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ind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not already a state, mak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 an edge X from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addi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the DFA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86E-DED3-4816-AE45-AD13941418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22860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DF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253044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360" y="22334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43200" y="21067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0" y="1809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5400000">
            <a:off x="2433240" y="132012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03560" y="1941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7240" y="2741760"/>
            <a:ext cx="1981080" cy="11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5680" y="244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2438280" y="2952360"/>
            <a:ext cx="1115280" cy="353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653920" y="30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9920" y="3446640"/>
            <a:ext cx="1905120" cy="35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91" idx="1"/>
          </p:cNvCxnSpPr>
          <p:nvPr/>
        </p:nvCxnSpPr>
        <p:spPr>
          <a:xfrm flipV="1">
            <a:off x="5548320" y="3622320"/>
            <a:ext cx="1357920" cy="248400"/>
          </a:xfrm>
          <a:prstGeom prst="curvedConnector5">
            <a:avLst>
              <a:gd name="adj1" fmla="val 50517"/>
              <a:gd name="adj2" fmla="val 49927"/>
              <a:gd name="adj3" fmla="val 50517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34120" y="36669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4680" y="3094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 flipH="1" rot="16200000">
            <a:off x="5273640" y="301716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06960" y="2670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240" y="450540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7" idx="0"/>
          </p:cNvCxnSpPr>
          <p:nvPr/>
        </p:nvCxnSpPr>
        <p:spPr>
          <a:xfrm rot="5400000">
            <a:off x="4233960" y="416772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870080" y="394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9920" y="450540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201" idx="0"/>
          </p:cNvCxnSpPr>
          <p:nvPr/>
        </p:nvCxnSpPr>
        <p:spPr>
          <a:xfrm flipV="1" rot="10800000">
            <a:off x="7871760" y="381276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835760" y="3870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468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BDC-8F7B-4041-B23F-235632E851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ut wait! What if there are conflicts in the predictive parsing table?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132560" y="1201680"/>
            <a:ext cx="1689480" cy="2288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d | X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 ::= c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Y |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5920" y="172260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60880" y="161136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760" y="12556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FIRST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8160" y="1676520"/>
            <a:ext cx="718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7960" y="1676520"/>
            <a:ext cx="10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 ,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1676520"/>
            <a:ext cx="11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 a,d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495288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6640" y="43797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c         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60" y="4876920"/>
            <a:ext cx="228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a, 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4876920"/>
            <a:ext cx="202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, Y ::= c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487692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, S ::= 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33412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800600"/>
            <a:ext cx="28954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1120" y="385452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resulting “predictive” table is not so predictiv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D3F-CAEB-45D5-BE11-B581CFA3EB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33548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60" y="4038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19560" y="391176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0" y="361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109240" y="312516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879920" y="374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3240" y="4546440"/>
            <a:ext cx="1981080" cy="112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2040" y="424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114280" y="4757400"/>
            <a:ext cx="1114920" cy="35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330280" y="48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5920" y="52513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endCxn id="216" idx="1"/>
          </p:cNvCxnSpPr>
          <p:nvPr/>
        </p:nvCxnSpPr>
        <p:spPr>
          <a:xfrm flipV="1">
            <a:off x="5223960" y="5427360"/>
            <a:ext cx="1358280" cy="248400"/>
          </a:xfrm>
          <a:prstGeom prst="curvedConnector5">
            <a:avLst>
              <a:gd name="adj1" fmla="val 50503"/>
              <a:gd name="adj2" fmla="val 49927"/>
              <a:gd name="adj3" fmla="val 5050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910480" y="54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040" y="4898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 flipH="1" rot="16200000">
            <a:off x="4949640" y="482220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682960" y="4475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324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endCxn id="222" idx="0"/>
          </p:cNvCxnSpPr>
          <p:nvPr/>
        </p:nvCxnSpPr>
        <p:spPr>
          <a:xfrm rot="5400000">
            <a:off x="3910320" y="597276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46440" y="5745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800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592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 flipV="1" rot="10800000">
            <a:off x="7547760" y="561780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11760" y="5675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104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Creating the Parse Table(s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25520" y="1084320"/>
          <a:ext cx="7112160" cy="25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084320"/>
                    <a:ext cx="7112160" cy="250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17640" y="1484280"/>
            <a:ext cx="2087640" cy="20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EDE-973B-48B2-92FC-22461A4FB9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ing with an LR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316080" y="1333440"/>
            <a:ext cx="862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table and top-of-stack and input symbol to get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ac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ift sn  : advance input one tok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sn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 X :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: pop stack 2*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| times (grammar symb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e paired with states).  In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w on top of st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goto table to get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te s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it on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cept : stop and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ror : weep (actually, produce a goo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ss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8A0-9528-4E50-B48C-89ED4F5082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arsing, agai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0" y="990720"/>
          <a:ext cx="7112160" cy="27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7112160" cy="27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6040" y="4010040"/>
            <a:ext cx="6136560" cy="28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                                  (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                            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                       ))$                          shift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) s5                  )$                           reduce A ::=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                           )$                            go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                      )$                            shift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) s4                 $                            reduce A::=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                                   $                            got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s1                               $                            ACCEP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7360"/>
            <a:ext cx="2087640" cy="2051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312-CC5C-4368-92BC-C11C638684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 Parsing Algorith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28480" y="2200320"/>
          <a:ext cx="1265400" cy="465768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1680" y="1125360"/>
          <a:ext cx="3774960" cy="51768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54160" y="4343400"/>
          <a:ext cx="4596120" cy="2138040"/>
        </p:xfrm>
        <a:graphic>
          <a:graphicData uri="http://schemas.openxmlformats.org/drawingml/2006/table">
            <a:tbl>
              <a:tblPr/>
              <a:tblGrid>
                <a:gridCol w="2298960"/>
                <a:gridCol w="2297160"/>
              </a:tblGrid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ti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rminals and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four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oto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-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 each item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  a 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305160" y="510552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516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7520" y="510552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752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87760" y="2438280"/>
          <a:ext cx="2695680" cy="1211400"/>
        </p:xfrm>
        <a:graphic>
          <a:graphicData uri="http://schemas.openxmlformats.org/drawingml/2006/table">
            <a:tbl>
              <a:tblPr/>
              <a:tblGrid>
                <a:gridCol w="26956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 Parsing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99760" y="1189080"/>
            <a:ext cx="19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c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t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ramma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1080" y="1144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3360" y="2751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98640" y="2549160"/>
            <a:ext cx="1689120" cy="42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10040" y="3657600"/>
            <a:ext cx="843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3160" y="36576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924440" y="1752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0960" y="30481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A0E-01FF-413A-BAEF-5BCC9CBAC2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1), LL(k), LR(0), LR(1),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: (L)eft-to-right parse, (L)eft-most derivation, k-symbol lookahead.  Based on looking at the next k tokens, an LL(k) parser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xt production. We have been looking at LL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: (L)eft-to-right parse, (R)ight-most derivation, k-symbol lookahead. Postpone production selection unti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en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-hand-side has been seen (and as many as k symbols beyon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LR(1) : A special subclass of LR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194-8AC8-4263-A485-C2CE767A4E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World 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962680" cy="49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6160" y="6151680"/>
            <a:ext cx="7075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840" y="2819520"/>
            <a:ext cx="2282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st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nguage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E7D-29ED-4575-B2FC-2DBB64EFDD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825280" y="1308240"/>
            <a:ext cx="32806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; S | ID = E 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+ E 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66440" y="4308480"/>
            <a:ext cx="62218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SEMI S | ID EQUAL E | PRINT LPAREN L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PLUS E | LPAREN S COMMA E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 COMM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6320" y="3927600"/>
            <a:ext cx="605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stent, I should write the following, but I won’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6F3-25A8-41A8-801A-9CA24FF181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Right-most derivatio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25520" y="1295280"/>
            <a:ext cx="1558440" cy="36601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066680"/>
            <a:ext cx="510552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c + ( d = 5 + 6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A15-D4C2-41B1-8AA7-DB16E0CAAA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turn it upside dow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988920"/>
            <a:ext cx="48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NUM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E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ID + ( d = 5 + 6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NUM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NUM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E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101-B19D-432D-8E7E-C314A3E77A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slice it down the middle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149400" y="1000080"/>
            <a:ext cx="31240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4640" y="1023840"/>
            <a:ext cx="527688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 = 7 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7 ; b = c + ( d = 5 + 6, d )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c + ( d = 5 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440" y="5813280"/>
            <a:ext cx="268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tack of 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n-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4480" y="5533920"/>
            <a:ext cx="291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rest of the inpu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63440" y="12636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81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9848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382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3440" y="21668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63440" y="234792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63440" y="25542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63440" y="2759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-581040" y="29538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352440" y="31824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-123840" y="3411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4760" y="36396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139680" y="382284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-384120" y="4005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606600" y="42350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-514440" y="446220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-378000" y="44636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-149400" y="46922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-347760" y="490968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508176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0" y="528444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2D7-1AD8-4836-B700-142DE54516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w, add some actions. s = SHIFT, r = REDUC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3124080" cy="61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914400"/>
            <a:ext cx="3657600" cy="61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914400"/>
            <a:ext cx="2362320" cy="72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+E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r E ::= (S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240" y="6481800"/>
            <a:ext cx="1153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5950080"/>
            <a:ext cx="5164200" cy="717480"/>
          </a:xfrm>
          <a:prstGeom prst="leftArrow">
            <a:avLst>
              <a:gd name="adj1" fmla="val 50000"/>
              <a:gd name="adj2" fmla="val 179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FT = LEX + move token t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8CC-44E2-4667-A5BA-DF6DF8A18F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6Z</dcterms:modified>
  <cp:revision>269</cp:revision>
  <dc:subject/>
  <dc:title>Slide 1</dc:title>
</cp:coreProperties>
</file>