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3ED-347B-4658-B5E1-F7DAA586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534-F0A6-4B82-B904-003CE611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A7A-E47C-4C1A-8233-E3818C5B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E326-0126-4380-BA6D-081AE3CB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3E0-EA02-42A1-8ACF-D76A207B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D6D-F9D1-4081-8515-9F534FA9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809-4B3A-46E9-B6C7-D97F4465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87E-C939-49B4-995C-21BBC17B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FAE-5AA3-4EA7-8281-F2BCE5D8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3DB2-15E0-47A1-BAE4-4611A64C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D32-A193-425A-926E-75479F7E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1F0-9A47-42F0-B372-BFF80216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3FF9-FA65-4ACA-A408-DEE19D8D4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6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2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ical Analysi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6ED-2FD2-4E0B-A65B-F8F57E7587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2920680" y="1600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eyword: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2895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86800" y="2895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9880" y="28954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26668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2760" y="46483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6200" y="46483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4419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60199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952880"/>
            <a:ext cx="83808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952880"/>
            <a:ext cx="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66720" y="4952880"/>
            <a:ext cx="83844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4320" y="5029200"/>
            <a:ext cx="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f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8320" y="5410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i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6440" y="533412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0040" y="3770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 is really shorthand f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6083280"/>
            <a:ext cx="1003320" cy="406440"/>
          </a:xfrm>
          <a:custGeom>
            <a:avLst/>
            <a:gdLst/>
            <a:ahLst/>
            <a:rect l="l" t="t" r="r" b="b"/>
            <a:pathLst>
              <a:path w="632" h="256">
                <a:moveTo>
                  <a:pt x="48" y="104"/>
                </a:moveTo>
                <a:cubicBezTo>
                  <a:pt x="144" y="52"/>
                  <a:pt x="240" y="0"/>
                  <a:pt x="336" y="8"/>
                </a:cubicBezTo>
                <a:cubicBezTo>
                  <a:pt x="432" y="16"/>
                  <a:pt x="632" y="112"/>
                  <a:pt x="624" y="152"/>
                </a:cubicBezTo>
                <a:cubicBezTo>
                  <a:pt x="616" y="192"/>
                  <a:pt x="392" y="240"/>
                  <a:pt x="288" y="248"/>
                </a:cubicBezTo>
                <a:cubicBezTo>
                  <a:pt x="184" y="256"/>
                  <a:pt x="92" y="228"/>
                  <a:pt x="0" y="2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9960" y="60958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3120" y="609588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ad sta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EAA-B9BA-4A49-A76E-8818FCAAFA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08520" y="160020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7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0440" y="18288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90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3520" y="1828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00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3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16600" y="18288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43640" y="16002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6720" y="17524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I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8520" y="31240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57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00440" y="33526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90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4600" y="33526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0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3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16960" y="33526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43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2240" y="36576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68840" y="35053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t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00640" y="41148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1160" y="3657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69240" y="3962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43640" y="41148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3800" y="43434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760" y="553716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entifi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a-zA-Z][a-zA-Z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54864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54864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7150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57150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3600" y="57150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52322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1880" y="49528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95040" y="568944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C65-9262-4F1F-BBC7-A2B6FBDC07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960" y="23367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b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0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2860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286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5146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25146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3960" y="2514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20318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9080" y="1676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98640" y="2489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320" y="386064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[0-9]+ ‘.’ [0-9]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([0-9]* ‘.’ [0-9]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50292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0384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4038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396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355608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98640" y="4013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6280" y="3505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7242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260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43240" y="42670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4343400"/>
            <a:ext cx="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60199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8120" y="49528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62866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3960" y="6286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80392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605808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78560" y="6019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6CD-B427-49B5-AF89-1CEC0B7FB1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 Tokens for “White-Space”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41880" y="320040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ite-spac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‘ ‘ | ‘\n’ | ‘\t’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‘%’ [A-Za-z0-9’ ‘]+’\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7339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2743200"/>
            <a:ext cx="12952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27432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23280" y="2743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2260440"/>
            <a:ext cx="83808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04812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6480" y="22096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’ ‘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048120"/>
            <a:ext cx="0" cy="1676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47242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30481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44956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3280" y="396252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35053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2080" y="320040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6471-1287-4AD7-8090-D43D7177DF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raditional Regular Language Proble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447920"/>
            <a:ext cx="6781680" cy="19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7040" y="1560600"/>
            <a:ext cx="38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regular express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 determine i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5120" y="2104920"/>
                <a:ext cx="3045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740120" y="2629080"/>
                <a:ext cx="121788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89480" y="4267080"/>
            <a:ext cx="73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thod: Construct a DFA M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est if it accep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 rot="7066200">
            <a:off x="-1336320" y="305496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087-F7BA-4F6F-B542-9DFFD74401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the “lexing problem”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447920"/>
            <a:ext cx="67816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67320" y="1560600"/>
            <a:ext cx="654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part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for each        there is a        such that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5120" y="3200400"/>
                <a:ext cx="1857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895480" y="3733920"/>
                <a:ext cx="4161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446720" y="3733920"/>
                <a:ext cx="3045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867280" y="373392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1940760" y="5334120"/>
            <a:ext cx="51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638360" y="5981760"/>
            <a:ext cx="304560" cy="380880"/>
          </a:xfrm>
          <a:custGeom>
            <a:avLst/>
            <a:gdLst>
              <a:gd name="textAreaLeft" fmla="*/ 0 w 304560"/>
              <a:gd name="textAreaRight" fmla="*/ 10980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9000" y="6324480"/>
            <a:ext cx="3772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285768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55000" y="6324480"/>
            <a:ext cx="7765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74000" y="6324480"/>
            <a:ext cx="729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6400440" y="541008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41400" y="6324480"/>
            <a:ext cx="4262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201924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4724280"/>
            <a:ext cx="38862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HITE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5245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6957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461016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412-FD9D-4D34-A139-F51333B1A8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…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1536120" y="49528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28280" y="137160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1280" y="350532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37720" y="4191120"/>
            <a:ext cx="405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6680" y="5867280"/>
            <a:ext cx="749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) ID(f)  KEY(then) NUM(2) NUM(0) NUM(0) NUM(6)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76640" y="203976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7800" y="198108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0E4-B595-42D1-BFD7-F73E085DB4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ambigu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75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the next token is associated with the longest possible matching prefix of the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ule Priority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for a particular longest match, use rule (automata) with highest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7A9-3774-413F-884C-B8556C04A9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ite-Space i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NOT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gnored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303720" y="1219320"/>
            <a:ext cx="224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69280" y="28954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2BE-85FC-497B-A7B7-89B6F4D4E9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a Lex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62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62120" y="2438280"/>
                <a:ext cx="333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62120" y="3352680"/>
                <a:ext cx="360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 rot="5400000">
            <a:off x="76320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9840" y="1090440"/>
            <a:ext cx="145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PU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Black"/>
              </a:rPr>
              <a:t>ordered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ist of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390760" y="2057400"/>
                <a:ext cx="858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389320" y="2438280"/>
                <a:ext cx="8902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90760" y="3352680"/>
                <a:ext cx="9144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 rot="5400000">
            <a:off x="266796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30640" y="1219320"/>
            <a:ext cx="164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rrespo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25146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16400" y="2658960"/>
                <a:ext cx="776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F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513560" y="2714760"/>
                <a:ext cx="776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4643640" y="126036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on-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2448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9720" y="129528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1840" y="4572000"/>
            <a:ext cx="230364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1) Keyword :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Ident : [a-z][a-z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White-space: ‘ 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4952880"/>
            <a:ext cx="2133720" cy="685800"/>
          </a:xfrm>
          <a:prstGeom prst="rightArrow">
            <a:avLst>
              <a:gd name="adj1" fmla="val 50000"/>
              <a:gd name="adj2" fmla="val 7778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41911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44197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59680" y="441972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419112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22040" y="4419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41911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472428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72400" y="617220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66240" y="4724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16012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51814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8077320" y="57150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5562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28840" y="464832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86720" y="48769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715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609588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7754600">
            <a:off x="6052320" y="48229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324480" y="4648320"/>
            <a:ext cx="533520" cy="1066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00440" y="4648320"/>
            <a:ext cx="1523880" cy="12189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400800" y="5562720"/>
            <a:ext cx="1447920" cy="380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20781000">
            <a:off x="6836760" y="5638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108800">
            <a:off x="6833520" y="5104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834600">
            <a:off x="6744240" y="61718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867280" y="472428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4705200">
            <a:off x="5262840" y="50832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19640" y="617220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494800">
            <a:off x="4915080" y="64004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11E-6BCA-46B7-9791-F058072C3C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Front-End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8048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92C-02CC-40CD-B03F-68D4E13D69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5812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38098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16280" y="38098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358128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8640" y="38098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5812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41148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56272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22840" y="4114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16720" y="5105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5720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733920" y="510552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49528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85440" y="403848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3320" y="4267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1055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548640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7754600">
            <a:off x="1708920" y="42134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981080" y="4038480"/>
            <a:ext cx="53352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57040" y="4038480"/>
            <a:ext cx="1523880" cy="1219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057400" y="4952880"/>
            <a:ext cx="1447920" cy="3812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781000">
            <a:off x="2493360" y="50292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108800">
            <a:off x="2490120" y="449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834600">
            <a:off x="2400840" y="55623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1523880" y="411480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4705200">
            <a:off x="919440" y="44737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6240" y="556272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494800">
            <a:off x="571680" y="57909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53360" y="2286000"/>
            <a:ext cx="3975480" cy="4483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then thenx$   1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|hen thenx$   2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|en th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|n thenx$   4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5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0   5 EMIT KEY(TH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1   0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7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0   7 EMIT WHITE(‘ ‘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1   0 RE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2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|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|nx$   4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|x$   5  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|$   6  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$|   0   6 EMIT ID(then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8800" y="1371600"/>
            <a:ext cx="3632400" cy="201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initial st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read input until dead stat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d.  Emit token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last accepting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reset state to star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34680" y="1182600"/>
            <a:ext cx="336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= current position,      $ =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9051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98600" y="1676520"/>
            <a:ext cx="12567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urrent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89920" y="2133720"/>
            <a:ext cx="179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last accept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705720" y="228600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142-AA57-4D9D-A044-64FF3D1233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real lexing proble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1447920"/>
            <a:ext cx="739620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79920" y="1560600"/>
            <a:ext cx="472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rd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s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list of pai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687680" y="4138560"/>
                <a:ext cx="23842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596960" y="4589640"/>
                <a:ext cx="2131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39800" y="3149640"/>
                <a:ext cx="3608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68600" y="5106960"/>
                <a:ext cx="52876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ority ru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247920" y="6021360"/>
                <a:ext cx="492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∉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ngest matc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622520" y="5603760"/>
                <a:ext cx="5675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refi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AEC-ADD4-4044-9A82-5CBF979C35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ng Lexical Analyze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3397320" y="171612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1160" y="17575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51600" y="191448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73280" y="3240000"/>
            <a:ext cx="1752840" cy="11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3168720"/>
            <a:ext cx="27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List of Regular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97520" y="270684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89640" y="2706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06600" y="2173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378400" y="2161800"/>
            <a:ext cx="7254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54320" y="3544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311720" y="2630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4944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9040" y="494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78280" y="49449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56480" y="4944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41480" y="51735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27480" y="5173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13480" y="5173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1480" y="55548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mpson’s Con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03440" y="5554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et Con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65760" y="5630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pcroft Min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57320" y="4608000"/>
            <a:ext cx="88185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94440" y="215892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11920" y="1736640"/>
            <a:ext cx="1981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D88-FF80-4322-A32F-A8EDA1047C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om Mini-Caml (using Ocaml-lex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8" name=""/>
          <p:cNvSpPr/>
          <p:nvPr/>
        </p:nvSpPr>
        <p:spPr>
          <a:xfrm>
            <a:off x="543960" y="1106640"/>
            <a:ext cx="5941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Par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Ty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pace = [' ' '\t' '\n' '\r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digit = ['0'-'9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ow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upp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ule token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pace+  {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   { comment lexbuf;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('     { L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)'     { R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rue"  { BOOL(tru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false" { BOOL(fals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not"   { N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  { INT(in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('.' digit*)? (['e' 'E'] ['+' '-']? digit+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FLOAT(floa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-'     { 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+'     { PL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-."    { MIN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+."    { PL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."    { AST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/."    { SLASH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='     { 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&gt;"    { LESS_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="    { LESS_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gt;="    { GREATER_EQUAL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E06-1A27-4D0E-9F64-28E0085BD7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301680"/>
            <a:ext cx="74991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lt;‘    { LES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gt;'    { 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f"   { I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hen" { TH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else“ { ELS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let"  { LE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n"   { I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rec"  { REC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,'    { COMMA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_'    { IDENT(Id.gentmp Type.Unit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Array.create" (* HACK *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ARRAY_CREAT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.'    { 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-"   { LESS_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;'    { SEMICOLO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   { EO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lower (digit|lower|upper|'_')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IDENT(Lexing.lexeme lexbuf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failwith (Printf.sprintf "unknown token %s near characters %d-%d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start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end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comment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)" { (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{ comment lexbuf;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{ Format.eprintf "warning: unterminated comment@."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37520" y="474840"/>
            <a:ext cx="3926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77 states and 2474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07B-C362-4242-906A-E48E1D943B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some of the) OCAML Lexical Classes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2" name=""/>
          <p:cNvSpPr/>
          <p:nvPr/>
        </p:nvSpPr>
        <p:spPr>
          <a:xfrm>
            <a:off x="299520" y="1273320"/>
            <a:ext cx="829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A … Z | a … z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_)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0…9 | _ | '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e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x | 0X) (0…9 | A…F | a…f) { 0…9 | A…F | a…f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o | 0O) (0…7) { 0…7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b | 0B) (0…1) { 0…1 | _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oat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 [. { 0…9 | _ }] [(e | E) [+ | -] (0…9) { 0…9 | _ }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' | '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\ (\  | "  | '  | n  | t  | b  | r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 (0…9) (0…9) (0…9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x (0…9 | A…F |  a…f) (0…9 | A…F | a…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"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-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80080" y="1219320"/>
            <a:ext cx="2958840" cy="11912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ID Leng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have a limit.  Ocaml’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,000,000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4D9-E0FC-4056-BAFE-C95F16D00B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CAML Keywor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5" name=""/>
          <p:cNvSpPr/>
          <p:nvPr/>
        </p:nvSpPr>
        <p:spPr>
          <a:xfrm>
            <a:off x="916560" y="1447920"/>
            <a:ext cx="740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d as assert asr begin class constraint do done downto els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ception external false for fun function functor if in include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itializer land lazy let lor lsl lsr lxor match method mod mod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utable new object of open or private rec sig struct then to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ry type val virtual when while wi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!=    #    &amp;     &amp;&amp;    ‘   (    )    *    +    ,    -    -.    -&gt;   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.    :    ::    :=    :&gt;   ;    ;;    &lt;    &lt;-    =    &gt;    &gt;]    &gt;}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??    [    [&lt;    [&gt;    [|    ]    _    `    {    {&lt;    |    |]    }    ~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20760" y="5611680"/>
            <a:ext cx="405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151 states and 2911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859C-79D2-4743-8771-A7DEE45E59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From Character Streams to Token Stream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97160" y="1295280"/>
            <a:ext cx="56671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loat match0(char *s) /* find a zer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(!strncmp(s, “0.0”, 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turn 0.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56600" y="3429000"/>
            <a:ext cx="77364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819520"/>
            <a:ext cx="0" cy="533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3886200"/>
            <a:ext cx="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23240" y="4495680"/>
            <a:ext cx="5662440" cy="1465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OAT   ID(match0)   LPAREN   CHAR  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  RPAREN   LBRACE   IF   LPAREN   B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trncmp)   LPAREN   ID(s)   COMMA   STRING(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MA   NUM(3)   RPAREN   RPAREN 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(0.0)   SEMI   RBRACE  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3400" y="632448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e that white-space and comments have vanish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4351320"/>
            <a:ext cx="35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84F-80A4-4E2E-9DF9-7E5C350C2B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61120" y="247500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Se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6840" y="1166400"/>
            <a:ext cx="6332760" cy="46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finite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empty 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ring of length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P and Q are regular sets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(Set Union)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(String Concatenation) P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(Kleene Closure) P*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Nothing else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0240" y="6256440"/>
            <a:ext cx="2160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. C. Kl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7400" y="5962680"/>
            <a:ext cx="5278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on of Nerve Nets and Finite Automata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eene (195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814600">
            <a:off x="6816240" y="2797200"/>
            <a:ext cx="1236960" cy="182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505-08EE-4016-AE05-23FFF13A8A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Expressions: A concise notation for regular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If p and q are regular expressions denoting the regular sets P and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ively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(p | q) denotes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(pq) denotes P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 (p)* denotes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Nothing else is a regular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+ = ((p)*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964-7264-476A-B979-F2BE033AA4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perations on 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 languag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|b                   {a,b}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(a|b)         {aa, ab, ba, b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                    {e, a, aa, aaa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b                  {b,ab, aab, aaab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               {e, a, b, ab, ba, aa, bb, ….       abbbabba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|b*               {e, a, aa, aaa, …, b, bb, bbb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229-641B-4A0A-B51D-EC04DAB621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eterministic Finite Automaton (D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 = (Q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i ,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1) Q is a finite non-empty 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2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finite set of input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3) i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initi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4) F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final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5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partial mapping from Q x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transition function: move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46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643280"/>
            <a:ext cx="79297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a choice of moves, i.e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mapping from Q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llow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ansitions, 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520" y="4675320"/>
            <a:ext cx="52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deterministic Finite Automaton (N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B28-F456-4604-A2D1-582C0DAD57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FA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abb = { abb, aabb, babb, aaabb, bbabb,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1148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66680" y="3657600"/>
            <a:ext cx="6248160" cy="1333080"/>
            <a:chOff x="1066680" y="3657600"/>
            <a:chExt cx="6248160" cy="1333080"/>
          </a:xfrm>
        </p:grpSpPr>
        <p:sp>
          <p:nvSpPr>
            <p:cNvPr id="96" name=""/>
            <p:cNvSpPr/>
            <p:nvPr/>
          </p:nvSpPr>
          <p:spPr>
            <a:xfrm>
              <a:off x="1981080" y="430236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864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4226040"/>
              <a:ext cx="60948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536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040" y="4149720"/>
              <a:ext cx="68580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38280" y="45309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62160" y="45309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62360" y="44546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4226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4302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4302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>
              <a:stCxn id="96" idx="7"/>
              <a:endCxn id="96" idx="0"/>
            </p:cNvCxnSpPr>
            <p:nvPr/>
          </p:nvCxnSpPr>
          <p:spPr>
            <a:xfrm flipV="1" rot="16200000">
              <a:off x="2256480" y="4254120"/>
              <a:ext cx="67320" cy="162360"/>
            </a:xfrm>
            <a:prstGeom prst="curvedConnector5">
              <a:avLst>
                <a:gd name="adj1" fmla="val 442473"/>
                <a:gd name="adj2" fmla="val 50000"/>
                <a:gd name="adj3" fmla="val 4424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96" idx="5"/>
              <a:endCxn id="96" idx="4"/>
            </p:cNvCxnSpPr>
            <p:nvPr/>
          </p:nvCxnSpPr>
          <p:spPr>
            <a:xfrm rot="5400000">
              <a:off x="2256120" y="4645080"/>
              <a:ext cx="67680" cy="162360"/>
            </a:xfrm>
            <a:prstGeom prst="curvedConnector5">
              <a:avLst>
                <a:gd name="adj1" fmla="val 442780"/>
                <a:gd name="adj2" fmla="val 50000"/>
                <a:gd name="adj3" fmla="val 442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2194920" y="365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371240" y="453060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4073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62120" y="429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1350600">
            <a:off x="4065120" y="4437000"/>
            <a:ext cx="4248360" cy="559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071-AE89-4351-A09E-FFF8F9EEF9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FA 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0481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97180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99840" y="278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7" idx="3"/>
            <a:endCxn id="116" idx="5"/>
          </p:cNvCxnSpPr>
          <p:nvPr/>
        </p:nvCxnSpPr>
        <p:spPr>
          <a:xfrm rot="5400000">
            <a:off x="4303800" y="2919960"/>
            <a:ext cx="2520" cy="1169280"/>
          </a:xfrm>
          <a:prstGeom prst="curvedConnector5">
            <a:avLst>
              <a:gd name="adj1" fmla="val 19300000"/>
              <a:gd name="adj2" fmla="val 49984"/>
              <a:gd name="adj3" fmla="val 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9" idx="4"/>
            <a:endCxn id="116" idx="4"/>
          </p:cNvCxnSpPr>
          <p:nvPr/>
        </p:nvCxnSpPr>
        <p:spPr>
          <a:xfrm flipV="1" rot="16200000">
            <a:off x="5085720" y="1999800"/>
            <a:ext cx="153360" cy="331524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9" idx="0"/>
            <a:endCxn id="115" idx="7"/>
          </p:cNvCxnSpPr>
          <p:nvPr/>
        </p:nvCxnSpPr>
        <p:spPr>
          <a:xfrm rot="5400000">
            <a:off x="4430520" y="737280"/>
            <a:ext cx="154800" cy="4623480"/>
          </a:xfrm>
          <a:prstGeom prst="curvedConnector5">
            <a:avLst>
              <a:gd name="adj1" fmla="val -148251"/>
              <a:gd name="adj2" fmla="val 50000"/>
              <a:gd name="adj3" fmla="val -148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5" idx="0"/>
            <a:endCxn id="115" idx="2"/>
          </p:cNvCxnSpPr>
          <p:nvPr/>
        </p:nvCxnSpPr>
        <p:spPr>
          <a:xfrm rot="5400000">
            <a:off x="1694880" y="3027960"/>
            <a:ext cx="267120" cy="305280"/>
          </a:xfrm>
          <a:prstGeom prst="curvedConnector5">
            <a:avLst>
              <a:gd name="adj1" fmla="val -85695"/>
              <a:gd name="adj2" fmla="val 87485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6" idx="4"/>
            <a:endCxn id="116" idx="2"/>
          </p:cNvCxnSpPr>
          <p:nvPr/>
        </p:nvCxnSpPr>
        <p:spPr>
          <a:xfrm flipV="1" rot="16200000">
            <a:off x="3219120" y="3295080"/>
            <a:ext cx="267120" cy="305640"/>
          </a:xfrm>
          <a:prstGeom prst="curvedConnector5">
            <a:avLst>
              <a:gd name="adj1" fmla="val -85695"/>
              <a:gd name="adj2" fmla="val 87500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43352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1080" y="347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67080" y="385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52680" y="3317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25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724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te has an e-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put symbo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is at most one edge labe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v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FA5-0648-4D58-8FB4-491CD9F409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2T12:41:56Z</dcterms:modified>
  <cp:revision>274</cp:revision>
  <dc:subject/>
  <dc:title>Slide 1</dc:title>
</cp:coreProperties>
</file>