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926640" y="747720"/>
            <a:ext cx="4948200" cy="371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06480" y="4713120"/>
            <a:ext cx="4984560" cy="4470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9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6289B4C-D77B-4FD8-98F2-0895E5CC3986}" type="slidenum">
              <a:rPr b="1" lang="en-GB" sz="32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78960" y="4713120"/>
            <a:ext cx="54356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560" y="3657240"/>
            <a:ext cx="8458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38600" y="9903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8600" y="365724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4400" y="99036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4600" y="99036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560" y="365724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4400" y="365724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4600" y="365724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127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8600" y="990360"/>
            <a:ext cx="4127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8600" y="990360"/>
            <a:ext cx="4127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127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8600" y="9903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38600" y="365724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600" y="9903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8458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3" marL="16002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4" marL="2057400" indent="-228600">
              <a:spcBef>
                <a:spcPts val="374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5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6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" name="Rectangle 1028"/>
          <p:cNvSpPr/>
          <p:nvPr/>
        </p:nvSpPr>
        <p:spPr>
          <a:xfrm>
            <a:off x="568440" y="6167520"/>
            <a:ext cx="70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Rectangle 1049"/>
          <p:cNvSpPr/>
          <p:nvPr/>
        </p:nvSpPr>
        <p:spPr>
          <a:xfrm>
            <a:off x="1523880" y="6629400"/>
            <a:ext cx="6324840" cy="228600"/>
          </a:xfrm>
          <a:prstGeom prst="rect">
            <a:avLst/>
          </a:prstGeom>
          <a:solidFill>
            <a:srgbClr val="003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etFPGA Cambridge Spring School 15-19 Mar 2010</a:t>
            </a: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" name="Group 1058"/>
          <p:cNvGrpSpPr/>
          <p:nvPr/>
        </p:nvGrpSpPr>
        <p:grpSpPr>
          <a:xfrm>
            <a:off x="0" y="793800"/>
            <a:ext cx="9144000" cy="88920"/>
            <a:chOff x="0" y="793800"/>
            <a:chExt cx="9144000" cy="88920"/>
          </a:xfrm>
        </p:grpSpPr>
        <p:sp>
          <p:nvSpPr>
            <p:cNvPr id="5" name="Line 1059"/>
            <p:cNvSpPr/>
            <p:nvPr/>
          </p:nvSpPr>
          <p:spPr>
            <a:xfrm>
              <a:off x="0" y="793800"/>
              <a:ext cx="9144000" cy="0"/>
            </a:xfrm>
            <a:prstGeom prst="line">
              <a:avLst/>
            </a:prstGeom>
            <a:ln w="38160">
              <a:solidFill>
                <a:srgbClr val="003e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" name="Line 1060"/>
            <p:cNvSpPr/>
            <p:nvPr/>
          </p:nvSpPr>
          <p:spPr>
            <a:xfrm>
              <a:off x="3333600" y="847800"/>
              <a:ext cx="5810400" cy="0"/>
            </a:xfrm>
            <a:prstGeom prst="line">
              <a:avLst/>
            </a:prstGeom>
            <a:ln w="9360">
              <a:solidFill>
                <a:srgbClr val="003e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" name="Line 1061"/>
            <p:cNvSpPr/>
            <p:nvPr/>
          </p:nvSpPr>
          <p:spPr>
            <a:xfrm>
              <a:off x="6515280" y="882720"/>
              <a:ext cx="2628720" cy="0"/>
            </a:xfrm>
            <a:prstGeom prst="line">
              <a:avLst/>
            </a:prstGeom>
            <a:ln w="6480">
              <a:solidFill>
                <a:srgbClr val="003e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8" name="Rectangle 1043"/>
          <p:cNvSpPr/>
          <p:nvPr/>
        </p:nvSpPr>
        <p:spPr>
          <a:xfrm>
            <a:off x="6062400" y="6553080"/>
            <a:ext cx="990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ABAB-4C70-48A4-B9DF-D8C5670B4D80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9" name="Picture 6" descr="NetFPGA_Logo.gif"/>
          <p:cNvPicPr/>
          <p:nvPr/>
        </p:nvPicPr>
        <p:blipFill>
          <a:blip r:embed="rId2"/>
          <a:stretch/>
        </p:blipFill>
        <p:spPr>
          <a:xfrm>
            <a:off x="76320" y="6469200"/>
            <a:ext cx="1371600" cy="3888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5" descr="C:\Documents and Settings\Andrew Moore\My Documents\uoc-800-logo.PNG"/>
          <p:cNvPicPr/>
          <p:nvPr/>
        </p:nvPicPr>
        <p:blipFill>
          <a:blip r:embed="rId3"/>
          <a:srcRect l="2572" t="6349" r="5682" b="66668"/>
          <a:stretch/>
        </p:blipFill>
        <p:spPr>
          <a:xfrm>
            <a:off x="7624800" y="6629400"/>
            <a:ext cx="1519200" cy="2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netfpga.org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0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0" y="380880"/>
            <a:ext cx="914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304920" y="228600"/>
            <a:ext cx="8610480" cy="137160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72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e72"/>
                </a:solidFill>
                <a:latin typeface="Arial"/>
              </a:rPr>
              <a:t>Day 2: NetFPGA Cambridge Spring School</a:t>
            </a:r>
            <a:br>
              <a:rPr sz="3200"/>
            </a:br>
            <a:r>
              <a:rPr b="1" lang="en-US" sz="3200" spc="-1" strike="noStrike">
                <a:solidFill>
                  <a:srgbClr val="003e72"/>
                </a:solidFill>
                <a:latin typeface="Arial"/>
              </a:rPr>
              <a:t>Module Development and Testing</a:t>
            </a:r>
            <a:endParaRPr b="1" lang="en-US" sz="32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80880" y="1676520"/>
            <a:ext cx="84582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sented by: 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rew W. Moore and David Miller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(University of Cambridge)</a:t>
            </a:r>
            <a:endParaRPr b="1" lang="en-US" sz="16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tin Žádník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(Brno University of Technology)</a:t>
            </a:r>
            <a:endParaRPr b="1" lang="en-US" sz="16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mbridge UK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ch 15-19, 2010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NetFPGA.org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5" name="Picture 6" descr="NetFPGA_Logo.gif"/>
          <p:cNvPicPr/>
          <p:nvPr/>
        </p:nvPicPr>
        <p:blipFill>
          <a:blip r:embed="rId2"/>
          <a:stretch/>
        </p:blipFill>
        <p:spPr>
          <a:xfrm>
            <a:off x="2590920" y="1752480"/>
            <a:ext cx="40813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14"/>
          <p:cNvGrpSpPr/>
          <p:nvPr/>
        </p:nvGrpSpPr>
        <p:grpSpPr>
          <a:xfrm>
            <a:off x="304920" y="1746360"/>
            <a:ext cx="1295280" cy="4730760"/>
            <a:chOff x="304920" y="1746360"/>
            <a:chExt cx="1295280" cy="4730760"/>
          </a:xfrm>
        </p:grpSpPr>
        <p:pic>
          <p:nvPicPr>
            <p:cNvPr id="57" name="Picture 1062" descr="Stanford_Logo_Small"/>
            <p:cNvPicPr/>
            <p:nvPr/>
          </p:nvPicPr>
          <p:blipFill>
            <a:blip r:embed="rId3"/>
            <a:stretch/>
          </p:blipFill>
          <p:spPr>
            <a:xfrm>
              <a:off x="482400" y="5078520"/>
              <a:ext cx="939960" cy="139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4" descr="477px-Cambridge_University_Crest_-_flat.png"/>
            <p:cNvPicPr/>
            <p:nvPr/>
          </p:nvPicPr>
          <p:blipFill>
            <a:blip r:embed="rId4"/>
            <a:stretch/>
          </p:blipFill>
          <p:spPr>
            <a:xfrm>
              <a:off x="403200" y="1746360"/>
              <a:ext cx="1098720" cy="13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7" descr=""/>
            <p:cNvPicPr/>
            <p:nvPr/>
          </p:nvPicPr>
          <p:blipFill>
            <a:blip r:embed="rId5"/>
            <a:stretch/>
          </p:blipFill>
          <p:spPr>
            <a:xfrm>
              <a:off x="304920" y="3454560"/>
              <a:ext cx="1295280" cy="1295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Crypto Module State Diagram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nt: We suggest 4 operational states(3 if you’re feeling adventurous) and one initialization/startup state</a:t>
            </a:r>
            <a:endParaRPr b="1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38" name="Oval 4"/>
          <p:cNvSpPr/>
          <p:nvPr/>
        </p:nvSpPr>
        <p:spPr>
          <a:xfrm>
            <a:off x="1279440" y="1905120"/>
            <a:ext cx="1524240" cy="1523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13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kip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Module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Headers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9" name="Oval 5"/>
          <p:cNvSpPr/>
          <p:nvPr/>
        </p:nvSpPr>
        <p:spPr>
          <a:xfrm>
            <a:off x="1279440" y="4724280"/>
            <a:ext cx="1524240" cy="1524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5711760" y="4724280"/>
            <a:ext cx="1524240" cy="1524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5715000" y="1905120"/>
            <a:ext cx="1523880" cy="1523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cxnSp>
        <p:nvCxnSpPr>
          <p:cNvPr id="142" name="AutoShape 9"/>
          <p:cNvCxnSpPr>
            <a:stCxn id="138" idx="7"/>
            <a:endCxn id="141" idx="1"/>
          </p:cNvCxnSpPr>
          <p:nvPr/>
        </p:nvCxnSpPr>
        <p:spPr>
          <a:xfrm flipH="1" rot="16200000">
            <a:off x="4258440" y="435600"/>
            <a:ext cx="2160" cy="3359880"/>
          </a:xfrm>
          <a:prstGeom prst="curvedConnector5">
            <a:avLst>
              <a:gd name="adj1" fmla="val -27600000"/>
              <a:gd name="adj2" fmla="val 50000"/>
              <a:gd name="adj3" fmla="val -27600000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8720" y="0"/>
            <a:ext cx="8224920" cy="10605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State Diagram to Verilog (1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103400"/>
            <a:ext cx="3886200" cy="49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349"/>
              </a:spcBef>
              <a:buNone/>
              <a:tabLst>
                <a:tab algn="l" pos="0"/>
                <a:tab algn="l" pos="411120"/>
                <a:tab algn="l" pos="825480"/>
                <a:tab algn="l" pos="1239840"/>
                <a:tab algn="l" pos="1655640"/>
                <a:tab algn="l" pos="2070000"/>
                <a:tab algn="l" pos="2484360"/>
                <a:tab algn="l" pos="2898720"/>
                <a:tab algn="l" pos="3314880"/>
                <a:tab algn="l" pos="3728880"/>
                <a:tab algn="l" pos="4143240"/>
                <a:tab algn="l" pos="4557600"/>
                <a:tab algn="l" pos="4973760"/>
                <a:tab algn="l" pos="5388120"/>
                <a:tab algn="l" pos="5802480"/>
                <a:tab algn="l" pos="6216480"/>
                <a:tab algn="l" pos="6632640"/>
                <a:tab algn="l" pos="7047000"/>
                <a:tab algn="l" pos="7461360"/>
                <a:tab algn="l" pos="7875720"/>
                <a:tab algn="l" pos="829152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e72"/>
                </a:solidFill>
                <a:latin typeface="Arial"/>
              </a:rPr>
              <a:t>Module location</a:t>
            </a:r>
            <a:endParaRPr b="1" lang="en-US" sz="2800" spc="-1" strike="noStrike">
              <a:solidFill>
                <a:srgbClr val="003e72"/>
              </a:solidFill>
              <a:latin typeface="Arial"/>
            </a:endParaRPr>
          </a:p>
          <a:p>
            <a:pPr marL="571680" indent="0">
              <a:spcBef>
                <a:spcPts val="349"/>
              </a:spcBef>
              <a:buNone/>
              <a:tabLst>
                <a:tab algn="l" pos="0"/>
                <a:tab algn="l" pos="411120"/>
                <a:tab algn="l" pos="825480"/>
                <a:tab algn="l" pos="1239840"/>
                <a:tab algn="l" pos="1655640"/>
                <a:tab algn="l" pos="2070000"/>
                <a:tab algn="l" pos="2484360"/>
                <a:tab algn="l" pos="2898720"/>
                <a:tab algn="l" pos="3314880"/>
                <a:tab algn="l" pos="3728880"/>
                <a:tab algn="l" pos="4143240"/>
                <a:tab algn="l" pos="4557600"/>
                <a:tab algn="l" pos="4973760"/>
                <a:tab algn="l" pos="5388120"/>
                <a:tab algn="l" pos="5802480"/>
                <a:tab algn="l" pos="6216480"/>
                <a:tab algn="l" pos="6632640"/>
                <a:tab algn="l" pos="7047000"/>
                <a:tab algn="l" pos="7461360"/>
                <a:tab algn="l" pos="7875720"/>
                <a:tab algn="l" pos="829152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e72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3333cc"/>
              </a:buClr>
              <a:buFont typeface="Arial"/>
              <a:buAutoNum type="arabicPeriod"/>
              <a:tabLst>
                <a:tab algn="l" pos="411120"/>
                <a:tab algn="l" pos="825480"/>
                <a:tab algn="l" pos="1239840"/>
                <a:tab algn="l" pos="1655640"/>
                <a:tab algn="l" pos="2070000"/>
                <a:tab algn="l" pos="2484360"/>
                <a:tab algn="l" pos="2898720"/>
                <a:tab algn="l" pos="3314880"/>
                <a:tab algn="l" pos="3728880"/>
                <a:tab algn="l" pos="4143240"/>
                <a:tab algn="l" pos="4557600"/>
                <a:tab algn="l" pos="4973760"/>
                <a:tab algn="l" pos="5388120"/>
                <a:tab algn="l" pos="5802480"/>
                <a:tab algn="l" pos="6216480"/>
                <a:tab algn="l" pos="6632640"/>
                <a:tab algn="l" pos="7047000"/>
                <a:tab algn="l" pos="7461360"/>
                <a:tab algn="l" pos="7875720"/>
                <a:tab algn="l" pos="829152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"/>
              </a:rPr>
              <a:t>Crypto modu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encrypt and decrypt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411120"/>
                <a:tab algn="l" pos="825480"/>
                <a:tab algn="l" pos="1239840"/>
                <a:tab algn="l" pos="1655640"/>
                <a:tab algn="l" pos="2070000"/>
                <a:tab algn="l" pos="2484360"/>
                <a:tab algn="l" pos="2898720"/>
                <a:tab algn="l" pos="3314880"/>
                <a:tab algn="l" pos="3728880"/>
                <a:tab algn="l" pos="4143240"/>
                <a:tab algn="l" pos="4557600"/>
                <a:tab algn="l" pos="4973760"/>
                <a:tab algn="l" pos="5388120"/>
                <a:tab algn="l" pos="5802480"/>
                <a:tab algn="l" pos="6216480"/>
                <a:tab algn="l" pos="6632640"/>
                <a:tab algn="l" pos="7047000"/>
                <a:tab algn="l" pos="7461360"/>
                <a:tab algn="l" pos="7875720"/>
                <a:tab algn="l" pos="829152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8"/>
          <p:cNvSpPr/>
          <p:nvPr/>
        </p:nvSpPr>
        <p:spPr>
          <a:xfrm>
            <a:off x="3505320" y="2743200"/>
            <a:ext cx="2286000" cy="838080"/>
          </a:xfrm>
          <a:prstGeom prst="line">
            <a:avLst/>
          </a:prstGeom>
          <a:ln w="36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146" name="Group 163"/>
          <p:cNvGrpSpPr/>
          <p:nvPr/>
        </p:nvGrpSpPr>
        <p:grpSpPr>
          <a:xfrm>
            <a:off x="3962520" y="914040"/>
            <a:ext cx="5105160" cy="4953240"/>
            <a:chOff x="3962520" y="914040"/>
            <a:chExt cx="5105160" cy="4953240"/>
          </a:xfrm>
        </p:grpSpPr>
        <p:sp>
          <p:nvSpPr>
            <p:cNvPr id="147" name="Flowchart: Process 53"/>
            <p:cNvSpPr/>
            <p:nvPr/>
          </p:nvSpPr>
          <p:spPr>
            <a:xfrm>
              <a:off x="4267080" y="914400"/>
              <a:ext cx="53352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MAC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R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48" name="Group 7"/>
            <p:cNvGrpSpPr/>
            <p:nvPr/>
          </p:nvGrpSpPr>
          <p:grpSpPr>
            <a:xfrm>
              <a:off x="4419720" y="914040"/>
              <a:ext cx="266760" cy="381240"/>
              <a:chOff x="4419720" y="914040"/>
              <a:chExt cx="266760" cy="381240"/>
            </a:xfrm>
          </p:grpSpPr>
          <p:sp>
            <p:nvSpPr>
              <p:cNvPr id="149" name="Rectangle 200"/>
              <p:cNvSpPr/>
              <p:nvPr/>
            </p:nvSpPr>
            <p:spPr>
              <a:xfrm>
                <a:off x="4419720" y="106668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50" name="Straight Connector 201"/>
              <p:cNvSpPr/>
              <p:nvPr/>
            </p:nvSpPr>
            <p:spPr>
              <a:xfrm flipV="1">
                <a:off x="4419720" y="91440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51" name="Straight Connector 202"/>
              <p:cNvSpPr/>
              <p:nvPr/>
            </p:nvSpPr>
            <p:spPr>
              <a:xfrm flipV="1">
                <a:off x="4686480" y="91404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52" name="Rectangle 203"/>
              <p:cNvSpPr/>
              <p:nvPr/>
            </p:nvSpPr>
            <p:spPr>
              <a:xfrm>
                <a:off x="4419720" y="118116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153" name="Flowchart: Process 140"/>
            <p:cNvSpPr/>
            <p:nvPr/>
          </p:nvSpPr>
          <p:spPr>
            <a:xfrm>
              <a:off x="4876920" y="914400"/>
              <a:ext cx="53316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PU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R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54" name="Group 7"/>
            <p:cNvGrpSpPr/>
            <p:nvPr/>
          </p:nvGrpSpPr>
          <p:grpSpPr>
            <a:xfrm>
              <a:off x="5029200" y="914040"/>
              <a:ext cx="266760" cy="381240"/>
              <a:chOff x="5029200" y="914040"/>
              <a:chExt cx="266760" cy="381240"/>
            </a:xfrm>
          </p:grpSpPr>
          <p:sp>
            <p:nvSpPr>
              <p:cNvPr id="155" name="Rectangle 196"/>
              <p:cNvSpPr/>
              <p:nvPr/>
            </p:nvSpPr>
            <p:spPr>
              <a:xfrm>
                <a:off x="5029200" y="106668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56" name="Straight Connector 197"/>
              <p:cNvSpPr/>
              <p:nvPr/>
            </p:nvSpPr>
            <p:spPr>
              <a:xfrm flipV="1">
                <a:off x="5029200" y="91440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57" name="Straight Connector 198"/>
              <p:cNvSpPr/>
              <p:nvPr/>
            </p:nvSpPr>
            <p:spPr>
              <a:xfrm flipV="1">
                <a:off x="5295960" y="91404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58" name="Rectangle 199"/>
              <p:cNvSpPr/>
              <p:nvPr/>
            </p:nvSpPr>
            <p:spPr>
              <a:xfrm>
                <a:off x="5029200" y="118116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159" name="Flowchart: Process 57"/>
            <p:cNvSpPr/>
            <p:nvPr/>
          </p:nvSpPr>
          <p:spPr>
            <a:xfrm>
              <a:off x="5486400" y="914400"/>
              <a:ext cx="53352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MAC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R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60" name="Group 58"/>
            <p:cNvGrpSpPr/>
            <p:nvPr/>
          </p:nvGrpSpPr>
          <p:grpSpPr>
            <a:xfrm>
              <a:off x="5638680" y="914040"/>
              <a:ext cx="266760" cy="381240"/>
              <a:chOff x="5638680" y="914040"/>
              <a:chExt cx="266760" cy="381240"/>
            </a:xfrm>
          </p:grpSpPr>
          <p:sp>
            <p:nvSpPr>
              <p:cNvPr id="161" name="Rectangle 192"/>
              <p:cNvSpPr/>
              <p:nvPr/>
            </p:nvSpPr>
            <p:spPr>
              <a:xfrm>
                <a:off x="5638680" y="106668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62" name="Straight Connector 193"/>
              <p:cNvSpPr/>
              <p:nvPr/>
            </p:nvSpPr>
            <p:spPr>
              <a:xfrm flipV="1">
                <a:off x="5638680" y="91440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63" name="Straight Connector 194"/>
              <p:cNvSpPr/>
              <p:nvPr/>
            </p:nvSpPr>
            <p:spPr>
              <a:xfrm flipV="1">
                <a:off x="5905440" y="91404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64" name="Rectangle 152"/>
              <p:cNvSpPr/>
              <p:nvPr/>
            </p:nvSpPr>
            <p:spPr>
              <a:xfrm>
                <a:off x="5638680" y="118116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165" name="Flowchart: Process 59"/>
            <p:cNvSpPr/>
            <p:nvPr/>
          </p:nvSpPr>
          <p:spPr>
            <a:xfrm>
              <a:off x="6095880" y="914400"/>
              <a:ext cx="53352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PU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R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66" name="Group 7"/>
            <p:cNvGrpSpPr/>
            <p:nvPr/>
          </p:nvGrpSpPr>
          <p:grpSpPr>
            <a:xfrm>
              <a:off x="6248520" y="914040"/>
              <a:ext cx="266760" cy="381240"/>
              <a:chOff x="6248520" y="914040"/>
              <a:chExt cx="266760" cy="381240"/>
            </a:xfrm>
          </p:grpSpPr>
          <p:sp>
            <p:nvSpPr>
              <p:cNvPr id="167" name="Rectangle 188"/>
              <p:cNvSpPr/>
              <p:nvPr/>
            </p:nvSpPr>
            <p:spPr>
              <a:xfrm>
                <a:off x="6248520" y="106668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68" name="Straight Connector 189"/>
              <p:cNvSpPr/>
              <p:nvPr/>
            </p:nvSpPr>
            <p:spPr>
              <a:xfrm flipV="1">
                <a:off x="6248520" y="91440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69" name="Straight Connector 190"/>
              <p:cNvSpPr/>
              <p:nvPr/>
            </p:nvSpPr>
            <p:spPr>
              <a:xfrm flipV="1">
                <a:off x="6515280" y="91404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70" name="Rectangle 191"/>
              <p:cNvSpPr/>
              <p:nvPr/>
            </p:nvSpPr>
            <p:spPr>
              <a:xfrm>
                <a:off x="6248520" y="118116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171" name="Flowchart: Process 61"/>
            <p:cNvSpPr/>
            <p:nvPr/>
          </p:nvSpPr>
          <p:spPr>
            <a:xfrm>
              <a:off x="6705720" y="914400"/>
              <a:ext cx="53316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MAC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R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72" name="Group 7"/>
            <p:cNvGrpSpPr/>
            <p:nvPr/>
          </p:nvGrpSpPr>
          <p:grpSpPr>
            <a:xfrm>
              <a:off x="6858000" y="914040"/>
              <a:ext cx="266760" cy="381240"/>
              <a:chOff x="6858000" y="914040"/>
              <a:chExt cx="266760" cy="381240"/>
            </a:xfrm>
          </p:grpSpPr>
          <p:sp>
            <p:nvSpPr>
              <p:cNvPr id="173" name="Rectangle 184"/>
              <p:cNvSpPr/>
              <p:nvPr/>
            </p:nvSpPr>
            <p:spPr>
              <a:xfrm>
                <a:off x="6858000" y="106668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74" name="Straight Connector 185"/>
              <p:cNvSpPr/>
              <p:nvPr/>
            </p:nvSpPr>
            <p:spPr>
              <a:xfrm flipV="1">
                <a:off x="6858000" y="91440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75" name="Straight Connector 186"/>
              <p:cNvSpPr/>
              <p:nvPr/>
            </p:nvSpPr>
            <p:spPr>
              <a:xfrm flipV="1">
                <a:off x="7124760" y="91404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76" name="Rectangle 187"/>
              <p:cNvSpPr/>
              <p:nvPr/>
            </p:nvSpPr>
            <p:spPr>
              <a:xfrm>
                <a:off x="6858000" y="118116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177" name="Flowchart: Process 63"/>
            <p:cNvSpPr/>
            <p:nvPr/>
          </p:nvSpPr>
          <p:spPr>
            <a:xfrm>
              <a:off x="7315200" y="914400"/>
              <a:ext cx="53352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PU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R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78" name="Group 7"/>
            <p:cNvGrpSpPr/>
            <p:nvPr/>
          </p:nvGrpSpPr>
          <p:grpSpPr>
            <a:xfrm>
              <a:off x="7467480" y="914040"/>
              <a:ext cx="266760" cy="381240"/>
              <a:chOff x="7467480" y="914040"/>
              <a:chExt cx="266760" cy="381240"/>
            </a:xfrm>
          </p:grpSpPr>
          <p:sp>
            <p:nvSpPr>
              <p:cNvPr id="179" name="Rectangle 180"/>
              <p:cNvSpPr/>
              <p:nvPr/>
            </p:nvSpPr>
            <p:spPr>
              <a:xfrm>
                <a:off x="7467480" y="106668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80" name="Straight Connector 181"/>
              <p:cNvSpPr/>
              <p:nvPr/>
            </p:nvSpPr>
            <p:spPr>
              <a:xfrm flipV="1">
                <a:off x="7467480" y="91440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81" name="Straight Connector 182"/>
              <p:cNvSpPr/>
              <p:nvPr/>
            </p:nvSpPr>
            <p:spPr>
              <a:xfrm flipV="1">
                <a:off x="7734240" y="91404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82" name="Rectangle 183"/>
              <p:cNvSpPr/>
              <p:nvPr/>
            </p:nvSpPr>
            <p:spPr>
              <a:xfrm>
                <a:off x="7467480" y="118116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183" name="Flowchart: Process 65"/>
            <p:cNvSpPr/>
            <p:nvPr/>
          </p:nvSpPr>
          <p:spPr>
            <a:xfrm>
              <a:off x="7924680" y="914400"/>
              <a:ext cx="53352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MAC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R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84" name="Group 7"/>
            <p:cNvGrpSpPr/>
            <p:nvPr/>
          </p:nvGrpSpPr>
          <p:grpSpPr>
            <a:xfrm>
              <a:off x="8077320" y="914040"/>
              <a:ext cx="266760" cy="381240"/>
              <a:chOff x="8077320" y="914040"/>
              <a:chExt cx="266760" cy="381240"/>
            </a:xfrm>
          </p:grpSpPr>
          <p:sp>
            <p:nvSpPr>
              <p:cNvPr id="185" name="Rectangle 176"/>
              <p:cNvSpPr/>
              <p:nvPr/>
            </p:nvSpPr>
            <p:spPr>
              <a:xfrm>
                <a:off x="8077320" y="106668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86" name="Straight Connector 177"/>
              <p:cNvSpPr/>
              <p:nvPr/>
            </p:nvSpPr>
            <p:spPr>
              <a:xfrm flipV="1">
                <a:off x="8077320" y="91440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87" name="Straight Connector 178"/>
              <p:cNvSpPr/>
              <p:nvPr/>
            </p:nvSpPr>
            <p:spPr>
              <a:xfrm flipV="1">
                <a:off x="8344080" y="91404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88" name="Rectangle 179"/>
              <p:cNvSpPr/>
              <p:nvPr/>
            </p:nvSpPr>
            <p:spPr>
              <a:xfrm>
                <a:off x="8077320" y="118116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189" name="Flowchart: Process 67"/>
            <p:cNvSpPr/>
            <p:nvPr/>
          </p:nvSpPr>
          <p:spPr>
            <a:xfrm>
              <a:off x="8534520" y="914400"/>
              <a:ext cx="53316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PU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R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90" name="Group 883"/>
            <p:cNvGrpSpPr/>
            <p:nvPr/>
          </p:nvGrpSpPr>
          <p:grpSpPr>
            <a:xfrm>
              <a:off x="8686800" y="914040"/>
              <a:ext cx="266760" cy="381240"/>
              <a:chOff x="8686800" y="914040"/>
              <a:chExt cx="266760" cy="381240"/>
            </a:xfrm>
          </p:grpSpPr>
          <p:sp>
            <p:nvSpPr>
              <p:cNvPr id="191" name="Rectangle 172"/>
              <p:cNvSpPr/>
              <p:nvPr/>
            </p:nvSpPr>
            <p:spPr>
              <a:xfrm>
                <a:off x="8686800" y="106668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92" name="Straight Connector 173"/>
              <p:cNvSpPr/>
              <p:nvPr/>
            </p:nvSpPr>
            <p:spPr>
              <a:xfrm flipV="1">
                <a:off x="8686800" y="91440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93" name="Straight Connector 174"/>
              <p:cNvSpPr/>
              <p:nvPr/>
            </p:nvSpPr>
            <p:spPr>
              <a:xfrm flipV="1">
                <a:off x="8953560" y="91404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94" name="Rectangle 175"/>
              <p:cNvSpPr/>
              <p:nvPr/>
            </p:nvSpPr>
            <p:spPr>
              <a:xfrm>
                <a:off x="8686800" y="118116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195" name="Flowchart: Process 69"/>
            <p:cNvSpPr/>
            <p:nvPr/>
          </p:nvSpPr>
          <p:spPr>
            <a:xfrm>
              <a:off x="5791320" y="2057400"/>
              <a:ext cx="1752480" cy="4572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Input Arbiter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96" name="Flowchart: Process 70"/>
            <p:cNvSpPr/>
            <p:nvPr/>
          </p:nvSpPr>
          <p:spPr>
            <a:xfrm>
              <a:off x="5791320" y="2743200"/>
              <a:ext cx="1752480" cy="4572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Output Port Lookup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97" name="Flowchart: Process 71"/>
            <p:cNvSpPr/>
            <p:nvPr/>
          </p:nvSpPr>
          <p:spPr>
            <a:xfrm>
              <a:off x="3962520" y="4952880"/>
              <a:ext cx="53316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MAC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T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98" name="Group 7"/>
            <p:cNvGrpSpPr/>
            <p:nvPr/>
          </p:nvGrpSpPr>
          <p:grpSpPr>
            <a:xfrm>
              <a:off x="4114800" y="4952520"/>
              <a:ext cx="266760" cy="381600"/>
              <a:chOff x="4114800" y="4952520"/>
              <a:chExt cx="266760" cy="381600"/>
            </a:xfrm>
          </p:grpSpPr>
          <p:sp>
            <p:nvSpPr>
              <p:cNvPr id="199" name="Rectangle 168"/>
              <p:cNvSpPr/>
              <p:nvPr/>
            </p:nvSpPr>
            <p:spPr>
              <a:xfrm>
                <a:off x="4114800" y="510552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00" name="Straight Connector 169"/>
              <p:cNvSpPr/>
              <p:nvPr/>
            </p:nvSpPr>
            <p:spPr>
              <a:xfrm flipV="1">
                <a:off x="4114800" y="495288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01" name="Straight Connector 170"/>
              <p:cNvSpPr/>
              <p:nvPr/>
            </p:nvSpPr>
            <p:spPr>
              <a:xfrm flipV="1">
                <a:off x="4381560" y="495252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02" name="Rectangle 171"/>
              <p:cNvSpPr/>
              <p:nvPr/>
            </p:nvSpPr>
            <p:spPr>
              <a:xfrm>
                <a:off x="4114800" y="5219640"/>
                <a:ext cx="266760" cy="11448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203" name="Flowchart: Process 73"/>
            <p:cNvSpPr/>
            <p:nvPr/>
          </p:nvSpPr>
          <p:spPr>
            <a:xfrm>
              <a:off x="4572000" y="4952880"/>
              <a:ext cx="53352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PU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T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204" name="Group 7"/>
            <p:cNvGrpSpPr/>
            <p:nvPr/>
          </p:nvGrpSpPr>
          <p:grpSpPr>
            <a:xfrm>
              <a:off x="4724280" y="4952520"/>
              <a:ext cx="266760" cy="381600"/>
              <a:chOff x="4724280" y="4952520"/>
              <a:chExt cx="266760" cy="381600"/>
            </a:xfrm>
          </p:grpSpPr>
          <p:sp>
            <p:nvSpPr>
              <p:cNvPr id="205" name="Rectangle 164"/>
              <p:cNvSpPr/>
              <p:nvPr/>
            </p:nvSpPr>
            <p:spPr>
              <a:xfrm>
                <a:off x="4724280" y="510552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06" name="Straight Connector 165"/>
              <p:cNvSpPr/>
              <p:nvPr/>
            </p:nvSpPr>
            <p:spPr>
              <a:xfrm flipV="1">
                <a:off x="4724280" y="495288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07" name="Straight Connector 166"/>
              <p:cNvSpPr/>
              <p:nvPr/>
            </p:nvSpPr>
            <p:spPr>
              <a:xfrm flipV="1">
                <a:off x="4991040" y="495252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08" name="Rectangle 167"/>
              <p:cNvSpPr/>
              <p:nvPr/>
            </p:nvSpPr>
            <p:spPr>
              <a:xfrm>
                <a:off x="4724280" y="5219640"/>
                <a:ext cx="266760" cy="11448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209" name="Flowchart: Process 75"/>
            <p:cNvSpPr/>
            <p:nvPr/>
          </p:nvSpPr>
          <p:spPr>
            <a:xfrm>
              <a:off x="5334120" y="4952880"/>
              <a:ext cx="53316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MAC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T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210" name="Group 7"/>
            <p:cNvGrpSpPr/>
            <p:nvPr/>
          </p:nvGrpSpPr>
          <p:grpSpPr>
            <a:xfrm>
              <a:off x="5486400" y="4952520"/>
              <a:ext cx="266760" cy="381600"/>
              <a:chOff x="5486400" y="4952520"/>
              <a:chExt cx="266760" cy="381600"/>
            </a:xfrm>
          </p:grpSpPr>
          <p:sp>
            <p:nvSpPr>
              <p:cNvPr id="211" name="Rectangle 160"/>
              <p:cNvSpPr/>
              <p:nvPr/>
            </p:nvSpPr>
            <p:spPr>
              <a:xfrm>
                <a:off x="5486400" y="510552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12" name="Straight Connector 161"/>
              <p:cNvSpPr/>
              <p:nvPr/>
            </p:nvSpPr>
            <p:spPr>
              <a:xfrm flipV="1">
                <a:off x="5486400" y="495288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13" name="Straight Connector 162"/>
              <p:cNvSpPr/>
              <p:nvPr/>
            </p:nvSpPr>
            <p:spPr>
              <a:xfrm flipV="1">
                <a:off x="5753160" y="495252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14" name="Rectangle 163"/>
              <p:cNvSpPr/>
              <p:nvPr/>
            </p:nvSpPr>
            <p:spPr>
              <a:xfrm>
                <a:off x="5486400" y="5219640"/>
                <a:ext cx="266760" cy="11448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215" name="Flowchart: Process 77"/>
            <p:cNvSpPr/>
            <p:nvPr/>
          </p:nvSpPr>
          <p:spPr>
            <a:xfrm>
              <a:off x="6095880" y="4952880"/>
              <a:ext cx="53352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PU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T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216" name="Group 7"/>
            <p:cNvGrpSpPr/>
            <p:nvPr/>
          </p:nvGrpSpPr>
          <p:grpSpPr>
            <a:xfrm>
              <a:off x="6248520" y="4952520"/>
              <a:ext cx="266760" cy="381600"/>
              <a:chOff x="6248520" y="4952520"/>
              <a:chExt cx="266760" cy="381600"/>
            </a:xfrm>
          </p:grpSpPr>
          <p:sp>
            <p:nvSpPr>
              <p:cNvPr id="217" name="Rectangle 156"/>
              <p:cNvSpPr/>
              <p:nvPr/>
            </p:nvSpPr>
            <p:spPr>
              <a:xfrm>
                <a:off x="6248520" y="510552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18" name="Straight Connector 157"/>
              <p:cNvSpPr/>
              <p:nvPr/>
            </p:nvSpPr>
            <p:spPr>
              <a:xfrm flipV="1">
                <a:off x="6248520" y="495288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19" name="Straight Connector 158"/>
              <p:cNvSpPr/>
              <p:nvPr/>
            </p:nvSpPr>
            <p:spPr>
              <a:xfrm flipV="1">
                <a:off x="6515280" y="495252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20" name="Rectangle 159"/>
              <p:cNvSpPr/>
              <p:nvPr/>
            </p:nvSpPr>
            <p:spPr>
              <a:xfrm>
                <a:off x="6248520" y="5219640"/>
                <a:ext cx="266760" cy="11448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221" name="Flowchart: Process 79"/>
            <p:cNvSpPr/>
            <p:nvPr/>
          </p:nvSpPr>
          <p:spPr>
            <a:xfrm>
              <a:off x="6705720" y="4952880"/>
              <a:ext cx="53316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MAC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T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222" name="Group 7"/>
            <p:cNvGrpSpPr/>
            <p:nvPr/>
          </p:nvGrpSpPr>
          <p:grpSpPr>
            <a:xfrm>
              <a:off x="6858000" y="4952520"/>
              <a:ext cx="266760" cy="381600"/>
              <a:chOff x="6858000" y="4952520"/>
              <a:chExt cx="266760" cy="381600"/>
            </a:xfrm>
          </p:grpSpPr>
          <p:sp>
            <p:nvSpPr>
              <p:cNvPr id="223" name="Rectangle 152"/>
              <p:cNvSpPr/>
              <p:nvPr/>
            </p:nvSpPr>
            <p:spPr>
              <a:xfrm>
                <a:off x="6858000" y="510552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24" name="Straight Connector 153"/>
              <p:cNvSpPr/>
              <p:nvPr/>
            </p:nvSpPr>
            <p:spPr>
              <a:xfrm flipV="1">
                <a:off x="6858000" y="495288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25" name="Straight Connector 154"/>
              <p:cNvSpPr/>
              <p:nvPr/>
            </p:nvSpPr>
            <p:spPr>
              <a:xfrm flipV="1">
                <a:off x="7124760" y="495252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26" name="Rectangle 155"/>
              <p:cNvSpPr/>
              <p:nvPr/>
            </p:nvSpPr>
            <p:spPr>
              <a:xfrm>
                <a:off x="6858000" y="5219640"/>
                <a:ext cx="266760" cy="11448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227" name="Flowchart: Process 81"/>
            <p:cNvSpPr/>
            <p:nvPr/>
          </p:nvSpPr>
          <p:spPr>
            <a:xfrm>
              <a:off x="7315200" y="4952880"/>
              <a:ext cx="53352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PU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T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228" name="Group 7"/>
            <p:cNvGrpSpPr/>
            <p:nvPr/>
          </p:nvGrpSpPr>
          <p:grpSpPr>
            <a:xfrm>
              <a:off x="7467480" y="4952520"/>
              <a:ext cx="266760" cy="381600"/>
              <a:chOff x="7467480" y="4952520"/>
              <a:chExt cx="266760" cy="381600"/>
            </a:xfrm>
          </p:grpSpPr>
          <p:sp>
            <p:nvSpPr>
              <p:cNvPr id="229" name="Rectangle 148"/>
              <p:cNvSpPr/>
              <p:nvPr/>
            </p:nvSpPr>
            <p:spPr>
              <a:xfrm>
                <a:off x="7467480" y="510552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30" name="Straight Connector 149"/>
              <p:cNvSpPr/>
              <p:nvPr/>
            </p:nvSpPr>
            <p:spPr>
              <a:xfrm flipV="1">
                <a:off x="7467480" y="495288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31" name="Straight Connector 150"/>
              <p:cNvSpPr/>
              <p:nvPr/>
            </p:nvSpPr>
            <p:spPr>
              <a:xfrm flipV="1">
                <a:off x="7734240" y="495252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32" name="Rectangle 151"/>
              <p:cNvSpPr/>
              <p:nvPr/>
            </p:nvSpPr>
            <p:spPr>
              <a:xfrm>
                <a:off x="7467480" y="5219640"/>
                <a:ext cx="266760" cy="11448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233" name="Flowchart: Process 83"/>
            <p:cNvSpPr/>
            <p:nvPr/>
          </p:nvSpPr>
          <p:spPr>
            <a:xfrm>
              <a:off x="7924680" y="4952880"/>
              <a:ext cx="53352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MAC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T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234" name="Group 7"/>
            <p:cNvGrpSpPr/>
            <p:nvPr/>
          </p:nvGrpSpPr>
          <p:grpSpPr>
            <a:xfrm>
              <a:off x="8077320" y="4952520"/>
              <a:ext cx="266760" cy="381600"/>
              <a:chOff x="8077320" y="4952520"/>
              <a:chExt cx="266760" cy="381600"/>
            </a:xfrm>
          </p:grpSpPr>
          <p:sp>
            <p:nvSpPr>
              <p:cNvPr id="235" name="Rectangle 144"/>
              <p:cNvSpPr/>
              <p:nvPr/>
            </p:nvSpPr>
            <p:spPr>
              <a:xfrm>
                <a:off x="8077320" y="510552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36" name="Straight Connector 145"/>
              <p:cNvSpPr/>
              <p:nvPr/>
            </p:nvSpPr>
            <p:spPr>
              <a:xfrm flipV="1">
                <a:off x="8077320" y="495288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37" name="Straight Connector 146"/>
              <p:cNvSpPr/>
              <p:nvPr/>
            </p:nvSpPr>
            <p:spPr>
              <a:xfrm flipV="1">
                <a:off x="8344080" y="495252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38" name="Rectangle 147"/>
              <p:cNvSpPr/>
              <p:nvPr/>
            </p:nvSpPr>
            <p:spPr>
              <a:xfrm>
                <a:off x="8077320" y="5219640"/>
                <a:ext cx="266760" cy="11448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239" name="Flowchart: Process 85"/>
            <p:cNvSpPr/>
            <p:nvPr/>
          </p:nvSpPr>
          <p:spPr>
            <a:xfrm>
              <a:off x="8534520" y="4952880"/>
              <a:ext cx="53316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PU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T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240" name="Group 7"/>
            <p:cNvGrpSpPr/>
            <p:nvPr/>
          </p:nvGrpSpPr>
          <p:grpSpPr>
            <a:xfrm>
              <a:off x="8686800" y="4952520"/>
              <a:ext cx="266760" cy="381600"/>
              <a:chOff x="8686800" y="4952520"/>
              <a:chExt cx="266760" cy="381600"/>
            </a:xfrm>
          </p:grpSpPr>
          <p:sp>
            <p:nvSpPr>
              <p:cNvPr id="241" name="Rectangle 140"/>
              <p:cNvSpPr/>
              <p:nvPr/>
            </p:nvSpPr>
            <p:spPr>
              <a:xfrm>
                <a:off x="8686800" y="510552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42" name="Straight Connector 141"/>
              <p:cNvSpPr/>
              <p:nvPr/>
            </p:nvSpPr>
            <p:spPr>
              <a:xfrm flipV="1">
                <a:off x="8686800" y="495288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43" name="Straight Connector 142"/>
              <p:cNvSpPr/>
              <p:nvPr/>
            </p:nvSpPr>
            <p:spPr>
              <a:xfrm flipV="1">
                <a:off x="8953560" y="495252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44" name="Rectangle 143"/>
              <p:cNvSpPr/>
              <p:nvPr/>
            </p:nvSpPr>
            <p:spPr>
              <a:xfrm>
                <a:off x="8686800" y="5219640"/>
                <a:ext cx="266760" cy="11448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cxnSp>
          <p:nvCxnSpPr>
            <p:cNvPr id="245" name="Straight Arrow Connector 87"/>
            <p:cNvCxnSpPr>
              <a:stCxn id="147" idx="2"/>
            </p:cNvCxnSpPr>
            <p:nvPr/>
          </p:nvCxnSpPr>
          <p:spPr>
            <a:xfrm>
              <a:off x="4533480" y="1828440"/>
              <a:ext cx="125820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46" name="Straight Arrow Connector 88"/>
            <p:cNvCxnSpPr>
              <a:stCxn id="153" idx="2"/>
            </p:cNvCxnSpPr>
            <p:nvPr/>
          </p:nvCxnSpPr>
          <p:spPr>
            <a:xfrm>
              <a:off x="5143320" y="1828440"/>
              <a:ext cx="95292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47" name="Straight Arrow Connector 89"/>
            <p:cNvCxnSpPr>
              <a:stCxn id="159" idx="2"/>
            </p:cNvCxnSpPr>
            <p:nvPr/>
          </p:nvCxnSpPr>
          <p:spPr>
            <a:xfrm>
              <a:off x="5752800" y="1828440"/>
              <a:ext cx="57204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48" name="Straight Arrow Connector 90"/>
            <p:cNvCxnSpPr>
              <a:stCxn id="165" idx="2"/>
            </p:cNvCxnSpPr>
            <p:nvPr/>
          </p:nvCxnSpPr>
          <p:spPr>
            <a:xfrm>
              <a:off x="6362280" y="1828440"/>
              <a:ext cx="19116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49" name="Straight Arrow Connector 91"/>
            <p:cNvCxnSpPr>
              <a:stCxn id="171" idx="2"/>
            </p:cNvCxnSpPr>
            <p:nvPr/>
          </p:nvCxnSpPr>
          <p:spPr>
            <a:xfrm flipH="1">
              <a:off x="6781320" y="1828440"/>
              <a:ext cx="19152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50" name="Straight Arrow Connector 92"/>
            <p:cNvCxnSpPr>
              <a:stCxn id="177" idx="2"/>
            </p:cNvCxnSpPr>
            <p:nvPr/>
          </p:nvCxnSpPr>
          <p:spPr>
            <a:xfrm flipH="1">
              <a:off x="7009920" y="1828440"/>
              <a:ext cx="57240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51" name="Straight Arrow Connector 93"/>
            <p:cNvCxnSpPr>
              <a:stCxn id="183" idx="2"/>
            </p:cNvCxnSpPr>
            <p:nvPr/>
          </p:nvCxnSpPr>
          <p:spPr>
            <a:xfrm flipH="1">
              <a:off x="7238520" y="1828440"/>
              <a:ext cx="95328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52" name="Straight Arrow Connector 94"/>
            <p:cNvCxnSpPr>
              <a:stCxn id="189" idx="2"/>
            </p:cNvCxnSpPr>
            <p:nvPr/>
          </p:nvCxnSpPr>
          <p:spPr>
            <a:xfrm flipH="1">
              <a:off x="7543080" y="1828440"/>
              <a:ext cx="125820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53" name="Straight Arrow Connector 95"/>
            <p:cNvCxnSpPr>
              <a:stCxn id="195" idx="2"/>
              <a:endCxn id="196" idx="0"/>
            </p:cNvCxnSpPr>
            <p:nvPr/>
          </p:nvCxnSpPr>
          <p:spPr>
            <a:xfrm>
              <a:off x="6667200" y="2514240"/>
              <a:ext cx="108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54" name="Straight Arrow Connector 96"/>
            <p:cNvCxnSpPr>
              <a:stCxn id="196" idx="2"/>
              <a:endCxn id="255" idx="0"/>
            </p:cNvCxnSpPr>
            <p:nvPr/>
          </p:nvCxnSpPr>
          <p:spPr>
            <a:xfrm>
              <a:off x="6667200" y="3200040"/>
              <a:ext cx="108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56" name="Straight Arrow Connector 97"/>
            <p:cNvCxnSpPr>
              <a:endCxn id="197" idx="0"/>
            </p:cNvCxnSpPr>
            <p:nvPr/>
          </p:nvCxnSpPr>
          <p:spPr>
            <a:xfrm flipH="1">
              <a:off x="4228560" y="4723920"/>
              <a:ext cx="156276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57" name="Straight Arrow Connector 98"/>
            <p:cNvCxnSpPr>
              <a:endCxn id="203" idx="0"/>
            </p:cNvCxnSpPr>
            <p:nvPr/>
          </p:nvCxnSpPr>
          <p:spPr>
            <a:xfrm flipH="1">
              <a:off x="4838040" y="4723920"/>
              <a:ext cx="118188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58" name="Straight Arrow Connector 99"/>
            <p:cNvCxnSpPr/>
            <p:nvPr/>
          </p:nvCxnSpPr>
          <p:spPr>
            <a:xfrm flipH="1">
              <a:off x="5600160" y="4723920"/>
              <a:ext cx="64836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59" name="Straight Arrow Connector 100"/>
            <p:cNvCxnSpPr>
              <a:endCxn id="215" idx="0"/>
            </p:cNvCxnSpPr>
            <p:nvPr/>
          </p:nvCxnSpPr>
          <p:spPr>
            <a:xfrm flipH="1">
              <a:off x="6361920" y="4723920"/>
              <a:ext cx="19116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60" name="Straight Arrow Connector 101"/>
            <p:cNvCxnSpPr>
              <a:endCxn id="221" idx="0"/>
            </p:cNvCxnSpPr>
            <p:nvPr/>
          </p:nvCxnSpPr>
          <p:spPr>
            <a:xfrm>
              <a:off x="6781680" y="4723920"/>
              <a:ext cx="19152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61" name="Straight Arrow Connector 102"/>
            <p:cNvCxnSpPr>
              <a:endCxn id="227" idx="0"/>
            </p:cNvCxnSpPr>
            <p:nvPr/>
          </p:nvCxnSpPr>
          <p:spPr>
            <a:xfrm>
              <a:off x="7010280" y="4723920"/>
              <a:ext cx="57240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62" name="Straight Arrow Connector 103"/>
            <p:cNvCxnSpPr>
              <a:endCxn id="233" idx="0"/>
            </p:cNvCxnSpPr>
            <p:nvPr/>
          </p:nvCxnSpPr>
          <p:spPr>
            <a:xfrm>
              <a:off x="7315200" y="4723920"/>
              <a:ext cx="87696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63" name="Straight Arrow Connector 104"/>
            <p:cNvCxnSpPr>
              <a:endCxn id="239" idx="0"/>
            </p:cNvCxnSpPr>
            <p:nvPr/>
          </p:nvCxnSpPr>
          <p:spPr>
            <a:xfrm>
              <a:off x="7543440" y="4723920"/>
              <a:ext cx="125820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grpSp>
          <p:nvGrpSpPr>
            <p:cNvPr id="264" name="Group 894"/>
            <p:cNvGrpSpPr/>
            <p:nvPr/>
          </p:nvGrpSpPr>
          <p:grpSpPr>
            <a:xfrm>
              <a:off x="5791320" y="4114440"/>
              <a:ext cx="1752480" cy="609840"/>
              <a:chOff x="5791320" y="4114440"/>
              <a:chExt cx="1752480" cy="609840"/>
            </a:xfrm>
          </p:grpSpPr>
          <p:sp>
            <p:nvSpPr>
              <p:cNvPr id="265" name="Flowchart: Process 106"/>
              <p:cNvSpPr/>
              <p:nvPr/>
            </p:nvSpPr>
            <p:spPr>
              <a:xfrm>
                <a:off x="5791320" y="4114800"/>
                <a:ext cx="1752480" cy="609480"/>
              </a:xfrm>
              <a:prstGeom prst="flowChartProcess">
                <a:avLst/>
              </a:prstGeom>
              <a:solidFill>
                <a:srgbClr val="e4e4f8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Output Queues</a:t>
                </a: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grpSp>
            <p:nvGrpSpPr>
              <p:cNvPr id="266" name="Group 882"/>
              <p:cNvGrpSpPr/>
              <p:nvPr/>
            </p:nvGrpSpPr>
            <p:grpSpPr>
              <a:xfrm>
                <a:off x="5791320" y="4114440"/>
                <a:ext cx="1752480" cy="339120"/>
                <a:chOff x="5791320" y="4114440"/>
                <a:chExt cx="1752480" cy="339120"/>
              </a:xfrm>
            </p:grpSpPr>
            <p:sp>
              <p:nvSpPr>
                <p:cNvPr id="267" name="Rectangle 108"/>
                <p:cNvSpPr/>
                <p:nvPr/>
              </p:nvSpPr>
              <p:spPr>
                <a:xfrm>
                  <a:off x="5791320" y="424980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68" name="Straight Connector 109"/>
                <p:cNvSpPr/>
                <p:nvPr/>
              </p:nvSpPr>
              <p:spPr>
                <a:xfrm flipV="1">
                  <a:off x="5791320" y="4114440"/>
                  <a:ext cx="0" cy="17964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69" name="Straight Connector 110"/>
                <p:cNvSpPr/>
                <p:nvPr/>
              </p:nvSpPr>
              <p:spPr>
                <a:xfrm flipV="1">
                  <a:off x="5943600" y="4114800"/>
                  <a:ext cx="0" cy="12888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111"/>
                <p:cNvSpPr/>
                <p:nvPr/>
              </p:nvSpPr>
              <p:spPr>
                <a:xfrm>
                  <a:off x="5791320" y="435168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112"/>
                <p:cNvSpPr/>
                <p:nvPr/>
              </p:nvSpPr>
              <p:spPr>
                <a:xfrm>
                  <a:off x="6019920" y="424980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72" name="Straight Connector 113"/>
                <p:cNvSpPr/>
                <p:nvPr/>
              </p:nvSpPr>
              <p:spPr>
                <a:xfrm flipV="1">
                  <a:off x="6019920" y="4114440"/>
                  <a:ext cx="0" cy="17964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73" name="Straight Connector 114"/>
                <p:cNvSpPr/>
                <p:nvPr/>
              </p:nvSpPr>
              <p:spPr>
                <a:xfrm flipV="1">
                  <a:off x="6172200" y="4114800"/>
                  <a:ext cx="0" cy="12888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74" name="Rectangle 115"/>
                <p:cNvSpPr/>
                <p:nvPr/>
              </p:nvSpPr>
              <p:spPr>
                <a:xfrm>
                  <a:off x="6019920" y="435168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75" name="Rectangle 116"/>
                <p:cNvSpPr/>
                <p:nvPr/>
              </p:nvSpPr>
              <p:spPr>
                <a:xfrm>
                  <a:off x="6248520" y="424980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76" name="Straight Connector 117"/>
                <p:cNvSpPr/>
                <p:nvPr/>
              </p:nvSpPr>
              <p:spPr>
                <a:xfrm flipV="1">
                  <a:off x="6248520" y="4114440"/>
                  <a:ext cx="0" cy="17964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77" name="Straight Connector 118"/>
                <p:cNvSpPr/>
                <p:nvPr/>
              </p:nvSpPr>
              <p:spPr>
                <a:xfrm flipV="1">
                  <a:off x="6400800" y="4114800"/>
                  <a:ext cx="0" cy="12888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78" name="Rectangle 119"/>
                <p:cNvSpPr/>
                <p:nvPr/>
              </p:nvSpPr>
              <p:spPr>
                <a:xfrm>
                  <a:off x="6248520" y="435168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79" name="Rectangle 120"/>
                <p:cNvSpPr/>
                <p:nvPr/>
              </p:nvSpPr>
              <p:spPr>
                <a:xfrm>
                  <a:off x="6477120" y="424980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80" name="Straight Connector 121"/>
                <p:cNvSpPr/>
                <p:nvPr/>
              </p:nvSpPr>
              <p:spPr>
                <a:xfrm flipV="1">
                  <a:off x="6477120" y="4114440"/>
                  <a:ext cx="0" cy="17964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81" name="Straight Connector 122"/>
                <p:cNvSpPr/>
                <p:nvPr/>
              </p:nvSpPr>
              <p:spPr>
                <a:xfrm flipV="1">
                  <a:off x="6629400" y="4114800"/>
                  <a:ext cx="0" cy="12888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82" name="Rectangle 123"/>
                <p:cNvSpPr/>
                <p:nvPr/>
              </p:nvSpPr>
              <p:spPr>
                <a:xfrm>
                  <a:off x="6477120" y="435168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83" name="Rectangle 124"/>
                <p:cNvSpPr/>
                <p:nvPr/>
              </p:nvSpPr>
              <p:spPr>
                <a:xfrm>
                  <a:off x="6705720" y="424980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84" name="Straight Connector 125"/>
                <p:cNvSpPr/>
                <p:nvPr/>
              </p:nvSpPr>
              <p:spPr>
                <a:xfrm flipV="1">
                  <a:off x="6705720" y="4114440"/>
                  <a:ext cx="0" cy="17964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85" name="Straight Connector 126"/>
                <p:cNvSpPr/>
                <p:nvPr/>
              </p:nvSpPr>
              <p:spPr>
                <a:xfrm flipV="1">
                  <a:off x="6858000" y="4114800"/>
                  <a:ext cx="0" cy="12888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86" name="Rectangle 127"/>
                <p:cNvSpPr/>
                <p:nvPr/>
              </p:nvSpPr>
              <p:spPr>
                <a:xfrm>
                  <a:off x="6705720" y="435168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87" name="Rectangle 128"/>
                <p:cNvSpPr/>
                <p:nvPr/>
              </p:nvSpPr>
              <p:spPr>
                <a:xfrm>
                  <a:off x="6934320" y="424980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88" name="Straight Connector 129"/>
                <p:cNvSpPr/>
                <p:nvPr/>
              </p:nvSpPr>
              <p:spPr>
                <a:xfrm flipV="1">
                  <a:off x="6934320" y="4114440"/>
                  <a:ext cx="0" cy="17964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89" name="Straight Connector 130"/>
                <p:cNvSpPr/>
                <p:nvPr/>
              </p:nvSpPr>
              <p:spPr>
                <a:xfrm flipV="1">
                  <a:off x="7086600" y="4114800"/>
                  <a:ext cx="0" cy="12888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90" name="Rectangle 131"/>
                <p:cNvSpPr/>
                <p:nvPr/>
              </p:nvSpPr>
              <p:spPr>
                <a:xfrm>
                  <a:off x="6934320" y="435168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91" name="Rectangle 132"/>
                <p:cNvSpPr/>
                <p:nvPr/>
              </p:nvSpPr>
              <p:spPr>
                <a:xfrm>
                  <a:off x="7162920" y="424980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92" name="Straight Connector 133"/>
                <p:cNvSpPr/>
                <p:nvPr/>
              </p:nvSpPr>
              <p:spPr>
                <a:xfrm flipV="1">
                  <a:off x="7162920" y="4114440"/>
                  <a:ext cx="0" cy="17964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93" name="Straight Connector 134"/>
                <p:cNvSpPr/>
                <p:nvPr/>
              </p:nvSpPr>
              <p:spPr>
                <a:xfrm flipV="1">
                  <a:off x="7315200" y="4114800"/>
                  <a:ext cx="0" cy="12888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135"/>
                <p:cNvSpPr/>
                <p:nvPr/>
              </p:nvSpPr>
              <p:spPr>
                <a:xfrm>
                  <a:off x="7162920" y="435168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95" name="Rectangle 136"/>
                <p:cNvSpPr/>
                <p:nvPr/>
              </p:nvSpPr>
              <p:spPr>
                <a:xfrm>
                  <a:off x="7391520" y="424980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96" name="Straight Connector 137"/>
                <p:cNvSpPr/>
                <p:nvPr/>
              </p:nvSpPr>
              <p:spPr>
                <a:xfrm flipV="1">
                  <a:off x="7391520" y="4114440"/>
                  <a:ext cx="0" cy="17964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97" name="Straight Connector 138"/>
                <p:cNvSpPr/>
                <p:nvPr/>
              </p:nvSpPr>
              <p:spPr>
                <a:xfrm flipV="1">
                  <a:off x="7543800" y="4114800"/>
                  <a:ext cx="0" cy="12888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139"/>
                <p:cNvSpPr/>
                <p:nvPr/>
              </p:nvSpPr>
              <p:spPr>
                <a:xfrm>
                  <a:off x="7391520" y="435168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5" name="Flowchart: Process 247"/>
            <p:cNvSpPr/>
            <p:nvPr/>
          </p:nvSpPr>
          <p:spPr>
            <a:xfrm>
              <a:off x="5791320" y="3429000"/>
              <a:ext cx="1752480" cy="4572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rypto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cxnSp>
          <p:nvCxnSpPr>
            <p:cNvPr id="299" name="Straight Arrow Connector 262"/>
            <p:cNvCxnSpPr>
              <a:stCxn id="255" idx="2"/>
              <a:endCxn id="265" idx="0"/>
            </p:cNvCxnSpPr>
            <p:nvPr/>
          </p:nvCxnSpPr>
          <p:spPr>
            <a:xfrm>
              <a:off x="6667200" y="3885840"/>
              <a:ext cx="108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Inter-module Communication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pic>
        <p:nvPicPr>
          <p:cNvPr id="301" name="Picture 11" descr="protocolcommunication"/>
          <p:cNvPicPr/>
          <p:nvPr/>
        </p:nvPicPr>
        <p:blipFill>
          <a:blip r:embed="rId1"/>
          <a:srcRect l="0" t="0" r="18260" b="74143"/>
          <a:stretch/>
        </p:blipFill>
        <p:spPr>
          <a:xfrm>
            <a:off x="1676520" y="4038480"/>
            <a:ext cx="5790960" cy="2590920"/>
          </a:xfrm>
          <a:prstGeom prst="rect">
            <a:avLst/>
          </a:prstGeom>
          <a:ln w="0">
            <a:noFill/>
          </a:ln>
        </p:spPr>
      </p:pic>
      <p:grpSp>
        <p:nvGrpSpPr>
          <p:cNvPr id="302" name="Group 13"/>
          <p:cNvGrpSpPr/>
          <p:nvPr/>
        </p:nvGrpSpPr>
        <p:grpSpPr>
          <a:xfrm>
            <a:off x="1461960" y="1141560"/>
            <a:ext cx="6220080" cy="2982600"/>
            <a:chOff x="1461960" y="1141560"/>
            <a:chExt cx="6220080" cy="2982600"/>
          </a:xfrm>
        </p:grpSpPr>
        <p:pic>
          <p:nvPicPr>
            <p:cNvPr id="303" name="Rectangle 3" descr=""/>
            <p:cNvPicPr/>
            <p:nvPr/>
          </p:nvPicPr>
          <p:blipFill>
            <a:blip r:embed="rId2"/>
            <a:stretch/>
          </p:blipFill>
          <p:spPr>
            <a:xfrm>
              <a:off x="5844600" y="1141560"/>
              <a:ext cx="1837440" cy="29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Right Arrow 5"/>
            <p:cNvSpPr/>
            <p:nvPr/>
          </p:nvSpPr>
          <p:spPr>
            <a:xfrm>
              <a:off x="2769120" y="1691280"/>
              <a:ext cx="3484440" cy="686160"/>
            </a:xfrm>
            <a:prstGeom prst="rightArrow">
              <a:avLst>
                <a:gd name="adj1" fmla="val 50000"/>
                <a:gd name="adj2" fmla="val 39050"/>
              </a:avLst>
            </a:prstGeom>
            <a:solidFill>
              <a:srgbClr val="a5a5e9"/>
            </a:solidFill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305" name="Right Arrow 6"/>
            <p:cNvSpPr/>
            <p:nvPr/>
          </p:nvSpPr>
          <p:spPr>
            <a:xfrm>
              <a:off x="2769120" y="2377440"/>
              <a:ext cx="3484440" cy="410760"/>
            </a:xfrm>
            <a:prstGeom prst="rightArrow">
              <a:avLst>
                <a:gd name="adj1" fmla="val 50000"/>
                <a:gd name="adj2" fmla="val 65036"/>
              </a:avLst>
            </a:prstGeom>
            <a:solidFill>
              <a:srgbClr val="a5a5e9"/>
            </a:solidFill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306" name="Left Arrow 8"/>
            <p:cNvSpPr/>
            <p:nvPr/>
          </p:nvSpPr>
          <p:spPr>
            <a:xfrm>
              <a:off x="3222720" y="3270960"/>
              <a:ext cx="3047760" cy="194040"/>
            </a:xfrm>
            <a:prstGeom prst="leftArrow">
              <a:avLst>
                <a:gd name="adj1" fmla="val 50000"/>
                <a:gd name="adj2" fmla="val 65009"/>
              </a:avLst>
            </a:prstGeom>
            <a:solidFill>
              <a:srgbClr val="a5a5e9"/>
            </a:solidFill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pic>
          <p:nvPicPr>
            <p:cNvPr id="307" name="Rectangle 4" descr=""/>
            <p:cNvPicPr/>
            <p:nvPr/>
          </p:nvPicPr>
          <p:blipFill>
            <a:blip r:embed="rId3"/>
            <a:stretch/>
          </p:blipFill>
          <p:spPr>
            <a:xfrm>
              <a:off x="1461960" y="1141560"/>
              <a:ext cx="1837440" cy="29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Left Arrow 8"/>
            <p:cNvSpPr/>
            <p:nvPr/>
          </p:nvSpPr>
          <p:spPr>
            <a:xfrm rot="10800000">
              <a:off x="3223440" y="2927160"/>
              <a:ext cx="3047760" cy="194040"/>
            </a:xfrm>
            <a:prstGeom prst="leftArrow">
              <a:avLst>
                <a:gd name="adj1" fmla="val 50000"/>
                <a:gd name="adj2" fmla="val 47121"/>
              </a:avLst>
            </a:prstGeom>
            <a:solidFill>
              <a:srgbClr val="a5a5e9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309" name="Text Box 13"/>
            <p:cNvSpPr/>
            <p:nvPr/>
          </p:nvSpPr>
          <p:spPr>
            <a:xfrm>
              <a:off x="4029120" y="1784160"/>
              <a:ext cx="101592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310" name="Text Box 14"/>
            <p:cNvSpPr/>
            <p:nvPr/>
          </p:nvSpPr>
          <p:spPr>
            <a:xfrm>
              <a:off x="4181760" y="2356200"/>
              <a:ext cx="7354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trl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311" name="Text Box 15"/>
            <p:cNvSpPr/>
            <p:nvPr/>
          </p:nvSpPr>
          <p:spPr>
            <a:xfrm>
              <a:off x="4257720" y="2642040"/>
              <a:ext cx="5950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4257360" y="3042360"/>
              <a:ext cx="6548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dy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State Diagram to Verilog (2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560" y="9903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Projects: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design represented by a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: NF2/projects/&lt;proj_nam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2/projects/crypto_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996840" y="3809880"/>
            <a:ext cx="33516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Verilog source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imulation tests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Hardware tests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4955760" y="3822840"/>
            <a:ext cx="26582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Libraries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Optional software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477440" y="5334120"/>
            <a:ext cx="524916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tate diagram implementation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imulation tests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Regression tests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State Diagram to Verilog (3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Projects (cont):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l in modules from NF2/lib/veri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Generic modules that are re-used in multiple projects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pecify shared modules in project’s include/lib_modules.txt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src modules override shared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ypto_n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Local user_data_path.v, crypto.v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Everything else: shared modules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State Diagram to Verilog (4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e72"/>
                </a:solidFill>
                <a:latin typeface="Arial"/>
              </a:rPr>
              <a:t>Your task:</a:t>
            </a: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571680" indent="-5716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py NF2/lib/verilog/module_template/src/module_template.v to NF2/projects/crypto_nic/src/crypto.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your state diagram in src/crypto.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249"/>
              </a:spcBef>
              <a:buClr>
                <a:srgbClr val="008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Small fallthrough FIFO</a:t>
            </a: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  <a:p>
            <a:pPr lvl="2" marL="1371600" indent="-457200">
              <a:spcBef>
                <a:spcPts val="249"/>
              </a:spcBef>
              <a:buClr>
                <a:srgbClr val="008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Generic register interface</a:t>
            </a: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  <a:p>
            <a:pPr lvl="2" marL="1371600" indent="-457200">
              <a:spcBef>
                <a:spcPts val="249"/>
              </a:spcBef>
              <a:buClr>
                <a:srgbClr val="008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  <a:p>
            <a:pPr lvl="1" marL="990720" indent="-53352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Register definitions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2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e72"/>
                </a:solidFill>
                <a:latin typeface="Arial"/>
              </a:rPr>
              <a:t>Register symbols defined using XML </a:t>
            </a: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(new in NF2.0)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71680" indent="-5716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lvl="1" marL="990720" indent="-533520"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register symbols (both Verilog and PERL) controlled by XML definitions</a:t>
            </a:r>
            <a:br>
              <a:rPr sz="22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See outputs include/registers.v and lib/Perl5/reg_defines_crypto_nic.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ule specific registers defined in include/crypto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ule XML must be explicitly included in project XML definition include/project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76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at:</a:t>
            </a:r>
            <a:br>
              <a:rPr sz="2400"/>
            </a:b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http://netfpga.org/foswiki/bin/view/NetFPGA/OneGig/DevelopersGuide#Register_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  <a:p>
            <a:pPr lvl="1" marL="990720" indent="-53352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Generic Registers Module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560" y="9144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neric_regs # (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UDP_REG_SRC_WIDTH  (UDP_REG_SRC_WIDTH),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TAG                (`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RYPTO_BLOCK_ADD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,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REG_ADDR_WIDTH     (`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RYPTO_REG_ADDR_WID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,                       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NUM_COUNTERS       (0), 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NUM_SOFTWARE_REGS  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,                       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NUM_HARDWARE_REGS  (0)) 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rypto_regs (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reg_req_in       (reg_req_in),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…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reg_src_out      (reg_src_out),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…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software_regs    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ke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,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hardware_regs    (),  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…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Testing: Simulation (1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Simulation allows testing without requiring lengthy synthesis process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NetFPGA provides Perl simulation infrastructure to: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/receive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Physical ports and CPU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/write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y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Simulations run in ModelSim/VCS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Testing: Simulation (2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Simulations located in project/verif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Multiple simulations per project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different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Example: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ypto_nic/verif/test_nic_sh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end one packet from CPU, expect packet out physical port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end one packet in physical port, expect packet to CPU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Tree Structure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Develop a cryptography module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overview of XOR “cryptograph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 crypto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software sim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he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hardware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Testing: Simulation (3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Useful functions: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_PCI_read32(delay, batch, addr, expe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_PCI_write32(delay, batch, addr, va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_packet_in(port, length, delay, batch, pk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_expected_packet(port, length, pk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_dma_data_in(length, delay, port, pk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_expected_dma_data(port, length, pk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_IP_pkt(length, da, sa, ttl, dst_ip, src_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rypt_pkt(key, pk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ypt_pkt(key, pk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Testing: Simulation (4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571680" indent="-5716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571680" indent="-5716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e72"/>
                </a:solidFill>
                <a:latin typeface="Arial"/>
              </a:rPr>
              <a:t>Your task:</a:t>
            </a: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571680" indent="-5716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lvl="1" marL="990720" indent="-533520"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mplate fil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F2/projects/crypto_nic/verif/test_crypto_encrypt/make_pkts.pl  NF2/projects/crypto_nic/verif/test_crypto_decrypt/make_pkts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your Perl verif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300"/>
              </a:spcBef>
              <a:buClr>
                <a:srgbClr val="008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Use the example verif test (test_nic_short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371600" indent="-45720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300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Running Simulations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56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Set env. variables to reference your project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F2_DESIGN_DIR=/root/NF2/projects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lt;project&gt;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PERL5LIB=/root/NF2/projects/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lt;project&gt;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/lib/Perl5: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/root/NF2/lib/Perl5: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Use command nf2_run_test.p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--major &lt;major_name&gt;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--minor &lt;minor_name&gt;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--gui (starts the default viewing environment)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test_crypto_encrypt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1372680" y="6095880"/>
            <a:ext cx="872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major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2515680" y="6095880"/>
            <a:ext cx="8863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minor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8" name="Line 7"/>
          <p:cNvSpPr/>
          <p:nvPr/>
        </p:nvSpPr>
        <p:spPr>
          <a:xfrm flipV="1">
            <a:off x="1905120" y="56386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9" name="Line 8"/>
          <p:cNvSpPr/>
          <p:nvPr/>
        </p:nvSpPr>
        <p:spPr>
          <a:xfrm flipV="1">
            <a:off x="3048120" y="56386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Running Simulations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56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When running modelsim interactively: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"no" when simulator prompts to fi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to Verilog can be recompiled without quitting ModelSi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nle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ke_pkts.p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change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bash# cd /tmp/$(whoami)/verif/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lt;projname&gt;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make model_sim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VSIM 5&gt; restart -f; run -a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nsure $NF2_DESIGN_DIR is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bash# echo $NF2_DESIGN_DIR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Running Simulations </a:t>
            </a:r>
            <a:r>
              <a:rPr b="1" lang="en-US" sz="2400" spc="-1" strike="noStrike">
                <a:solidFill>
                  <a:srgbClr val="003e72"/>
                </a:solidFill>
                <a:latin typeface="Arial"/>
              </a:rPr>
              <a:t>(optional)</a:t>
            </a:r>
            <a:endParaRPr b="1" lang="en-US" sz="24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56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When running modelsim interactively: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new waveform wind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VSIM 4&gt;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Courier New"/>
              </a:rPr>
              <a:t>view -new wave -titl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ourier New"/>
              </a:rPr>
              <a:t>&lt;my_title&gt;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waveform windows by clicking ‘disc’ i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ore waveform wind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VSIM 5&gt;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Courier New"/>
              </a:rPr>
              <a:t>view -new wave -titl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ourier New"/>
              </a:rPr>
              <a:t>&lt;my_title&gt;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VSIM 6&gt;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Courier New"/>
              </a:rPr>
              <a:t>d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ourier New"/>
              </a:rPr>
              <a:t>&lt;my_wave&gt;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Courier New"/>
              </a:rPr>
              <a:t>.do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Synthesis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To synthesize your project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make in the synth directory   (NF2/projects/crypto_nic/syn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Regression Tests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Test hardware module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Perl Infrastructure provided to 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/Write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/Writ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Cou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Example Regression Tests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Reference Router 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Packets from 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est Prefix Ma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est Prefix Matching Mi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dropped when queues over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ing Packets with IP TTL &lt;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ing Packets with IP options or non IPv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ping packets with bad IP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Perl Libraries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e72"/>
                </a:solidFill>
                <a:latin typeface="Arial"/>
              </a:rPr>
              <a:t>Specify the Interfaces</a:t>
            </a: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1, eth2, nf2c0 … nf2c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e72"/>
                </a:solidFill>
                <a:latin typeface="Arial"/>
              </a:rPr>
              <a:t>Start packet capture on Interfaces</a:t>
            </a: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e72"/>
                </a:solidFill>
                <a:latin typeface="Arial"/>
              </a:rPr>
              <a:t>Create Packets</a:t>
            </a: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 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e72"/>
                </a:solidFill>
                <a:latin typeface="Arial"/>
              </a:rPr>
              <a:t>Read/Write Registers</a:t>
            </a: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e72"/>
                </a:solidFill>
                <a:latin typeface="Arial"/>
              </a:rPr>
              <a:t>Read/Write Reference Router tables</a:t>
            </a: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est Prefix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IP Fil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Regression Test Examples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Reference Router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Forwar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regress/test_packet_forwarding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est Prefix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regress/test_lpm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and Rece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regress/test_send_rec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3" marL="1600200" indent="-2286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Tree Structure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NF2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>
            <a:off x="609480" y="144792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066680" y="1676520"/>
            <a:ext cx="68580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bin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1066680" y="3733920"/>
            <a:ext cx="68580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lib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1143000" y="4800600"/>
            <a:ext cx="152388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projects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bitfiles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" name="Line 13"/>
          <p:cNvSpPr/>
          <p:nvPr/>
        </p:nvSpPr>
        <p:spPr>
          <a:xfrm>
            <a:off x="60948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0" name="Line 14"/>
          <p:cNvSpPr/>
          <p:nvPr/>
        </p:nvSpPr>
        <p:spPr>
          <a:xfrm>
            <a:off x="60948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1" name="Line 15"/>
          <p:cNvSpPr/>
          <p:nvPr/>
        </p:nvSpPr>
        <p:spPr>
          <a:xfrm>
            <a:off x="609480" y="5029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2" name="Line 16"/>
          <p:cNvSpPr/>
          <p:nvPr/>
        </p:nvSpPr>
        <p:spPr>
          <a:xfrm>
            <a:off x="60948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3" name="Text Box 18"/>
          <p:cNvSpPr/>
          <p:nvPr/>
        </p:nvSpPr>
        <p:spPr>
          <a:xfrm>
            <a:off x="1905120" y="1676520"/>
            <a:ext cx="64767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scripts for running simulations and setting up the environment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4" name="Text Box 19"/>
          <p:cNvSpPr/>
          <p:nvPr/>
        </p:nvSpPr>
        <p:spPr>
          <a:xfrm>
            <a:off x="2438280" y="2666880"/>
            <a:ext cx="64771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contains the bitfiles for all projects that have been synthesized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5" name="Text Box 20"/>
          <p:cNvSpPr/>
          <p:nvPr/>
        </p:nvSpPr>
        <p:spPr>
          <a:xfrm>
            <a:off x="1905120" y="3733920"/>
            <a:ext cx="64767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stable common modules and common parts needed for simulation/synthesis/design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2743200" y="4861080"/>
            <a:ext cx="6477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user projects, including reference designs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Creating a Regression Test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Useful functions: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test_regwrite(interface, addr, va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test_regread(interface, add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test_send(interface, fra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test_expect(interface, fra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rypt_pkt(key, pk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ypt_pkt(key, pk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pkt = NF2::IP_pkt-&gt;new(len =&gt; $length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  DA =&gt; $DA, SA =&gt; $SA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  ttl =&gt; $TTL, dst_ip =&gt; $dst_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  src_ip =&gt; $src_ip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pkt-&gt;packed (with nftest_{send,expect}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Creating a Regression Test (2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e72"/>
                </a:solidFill>
                <a:latin typeface="Arial"/>
              </a:rPr>
              <a:t>Your task:</a:t>
            </a: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mplate files NF2/projects/crypto_nic/regress/test_crypto_encrypt/ru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 your Perl verif te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Running Regression Test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Run the command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2_regress_test.pl --project crypto_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Tree Structure (2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lib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9" name="Line 4"/>
          <p:cNvSpPr/>
          <p:nvPr/>
        </p:nvSpPr>
        <p:spPr>
          <a:xfrm>
            <a:off x="609480" y="14479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609480" y="1981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6094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60948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609480" y="5029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4" name="Line 9"/>
          <p:cNvSpPr/>
          <p:nvPr/>
        </p:nvSpPr>
        <p:spPr>
          <a:xfrm>
            <a:off x="609480" y="3200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5" name="Line 10"/>
          <p:cNvSpPr/>
          <p:nvPr/>
        </p:nvSpPr>
        <p:spPr>
          <a:xfrm>
            <a:off x="6094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6" name="Line 11"/>
          <p:cNvSpPr/>
          <p:nvPr/>
        </p:nvSpPr>
        <p:spPr>
          <a:xfrm>
            <a:off x="60948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1076400" y="1774800"/>
            <a:ext cx="38088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C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1219320" y="2362320"/>
            <a:ext cx="68580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java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1143000" y="2971800"/>
            <a:ext cx="182880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Makefiles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" name="Rectangle 16"/>
          <p:cNvSpPr/>
          <p:nvPr/>
        </p:nvSpPr>
        <p:spPr>
          <a:xfrm>
            <a:off x="1143000" y="3581280"/>
            <a:ext cx="99072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Perl5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990720" y="4137120"/>
            <a:ext cx="1600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python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2" name="Rectangle 18"/>
          <p:cNvSpPr/>
          <p:nvPr/>
        </p:nvSpPr>
        <p:spPr>
          <a:xfrm>
            <a:off x="1185840" y="4832280"/>
            <a:ext cx="1295280" cy="3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scripts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" name="Rectangle 19"/>
          <p:cNvSpPr/>
          <p:nvPr/>
        </p:nvSpPr>
        <p:spPr>
          <a:xfrm>
            <a:off x="1185840" y="5334120"/>
            <a:ext cx="129528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verilog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1523880" y="1828800"/>
            <a:ext cx="6477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common software and code for reference designs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1981080" y="2362320"/>
            <a:ext cx="6477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contains software for the graphical user interface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6" name="Text Box 22"/>
          <p:cNvSpPr/>
          <p:nvPr/>
        </p:nvSpPr>
        <p:spPr>
          <a:xfrm>
            <a:off x="2971800" y="2971800"/>
            <a:ext cx="5181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makefiles for simulation and synthesis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7" name="Text Box 23"/>
          <p:cNvSpPr/>
          <p:nvPr/>
        </p:nvSpPr>
        <p:spPr>
          <a:xfrm>
            <a:off x="2133720" y="3581280"/>
            <a:ext cx="64767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common libraries to interact with reference designs and aid in simulation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8" name="Text Box 24"/>
          <p:cNvSpPr/>
          <p:nvPr/>
        </p:nvSpPr>
        <p:spPr>
          <a:xfrm>
            <a:off x="2438280" y="4191120"/>
            <a:ext cx="6477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common libraries to aid in regression tests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9" name="Text Box 25"/>
          <p:cNvSpPr/>
          <p:nvPr/>
        </p:nvSpPr>
        <p:spPr>
          <a:xfrm>
            <a:off x="2514600" y="4784760"/>
            <a:ext cx="6477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scripts for common functions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Text Box 26"/>
          <p:cNvSpPr/>
          <p:nvPr/>
        </p:nvSpPr>
        <p:spPr>
          <a:xfrm>
            <a:off x="2514600" y="5334120"/>
            <a:ext cx="6477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modules and files that can be reused for design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Tree Structure (3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projects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03" name="Line 4"/>
          <p:cNvSpPr/>
          <p:nvPr/>
        </p:nvSpPr>
        <p:spPr>
          <a:xfrm>
            <a:off x="609480" y="14479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609480" y="1981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6094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60948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609480" y="5029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8" name="Line 9"/>
          <p:cNvSpPr/>
          <p:nvPr/>
        </p:nvSpPr>
        <p:spPr>
          <a:xfrm>
            <a:off x="609480" y="3200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9" name="Line 10"/>
          <p:cNvSpPr/>
          <p:nvPr/>
        </p:nvSpPr>
        <p:spPr>
          <a:xfrm>
            <a:off x="6094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0" name="Line 11"/>
          <p:cNvSpPr/>
          <p:nvPr/>
        </p:nvSpPr>
        <p:spPr>
          <a:xfrm>
            <a:off x="60948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1295280" y="1774800"/>
            <a:ext cx="38124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doc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1523880" y="2362320"/>
            <a:ext cx="68580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include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990720" y="2971800"/>
            <a:ext cx="182880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regress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990720" y="3581280"/>
            <a:ext cx="99036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src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5" name="Rectangle 16"/>
          <p:cNvSpPr/>
          <p:nvPr/>
        </p:nvSpPr>
        <p:spPr>
          <a:xfrm>
            <a:off x="685800" y="4137120"/>
            <a:ext cx="1600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sw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6" name="Rectangle 17"/>
          <p:cNvSpPr/>
          <p:nvPr/>
        </p:nvSpPr>
        <p:spPr>
          <a:xfrm>
            <a:off x="1066680" y="4832280"/>
            <a:ext cx="1295640" cy="3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synth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7" name="Rectangle 18"/>
          <p:cNvSpPr/>
          <p:nvPr/>
        </p:nvSpPr>
        <p:spPr>
          <a:xfrm>
            <a:off x="914400" y="5334120"/>
            <a:ext cx="129528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verif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1905120" y="1828800"/>
            <a:ext cx="6476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project specific documentation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2590920" y="2209680"/>
            <a:ext cx="64767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contains file to include verilog modules from lib, and creates project specific register defines files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2666880" y="2895480"/>
            <a:ext cx="51818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regression tests used to test generated bitfiles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1752480" y="3489480"/>
            <a:ext cx="64771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contains non-library verilog code used for synthesis and simulation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2" name="Text Box 23"/>
          <p:cNvSpPr/>
          <p:nvPr/>
        </p:nvSpPr>
        <p:spPr>
          <a:xfrm>
            <a:off x="1828800" y="4191120"/>
            <a:ext cx="6477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all software parts of the project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2286000" y="4648320"/>
            <a:ext cx="64771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contains user .xco files to generate cores and Makefile to implement the design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4" name="Text Box 25"/>
          <p:cNvSpPr/>
          <p:nvPr/>
        </p:nvSpPr>
        <p:spPr>
          <a:xfrm>
            <a:off x="2209680" y="5334120"/>
            <a:ext cx="6477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simulation tests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Cryptography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e72"/>
                </a:solidFill>
                <a:latin typeface="Arial"/>
              </a:rPr>
              <a:t>Simple cryptography – XOR</a:t>
            </a: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362320" y="1676520"/>
          <a:ext cx="4152960" cy="2895480"/>
        </p:xfrm>
        <a:graphic>
          <a:graphicData uri="http://schemas.openxmlformats.org/drawingml/2006/table">
            <a:tbl>
              <a:tblPr/>
              <a:tblGrid>
                <a:gridCol w="1384200"/>
                <a:gridCol w="1384200"/>
                <a:gridCol w="1384560"/>
              </a:tblGrid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^ B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Cryptography (cont.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e72"/>
                </a:solidFill>
                <a:latin typeface="Arial"/>
              </a:rPr>
              <a:t>Example:</a:t>
            </a: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e72"/>
                </a:solidFill>
                <a:latin typeface="Arial"/>
              </a:rPr>
              <a:t>Explanation:</a:t>
            </a: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^ A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M ^ K ^ K = M ^ 0 =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838080" y="1638360"/>
          <a:ext cx="5562720" cy="2552760"/>
        </p:xfrm>
        <a:graphic>
          <a:graphicData uri="http://schemas.openxmlformats.org/drawingml/2006/table">
            <a:tbl>
              <a:tblPr/>
              <a:tblGrid>
                <a:gridCol w="3862440"/>
                <a:gridCol w="1700280"/>
              </a:tblGrid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sage: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1011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: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10001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sage ^ Key: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1010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sage ^ Key ^ Key: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1011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Implementing a Crypto Module (1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What do we want to encrypt?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payload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Plaintext IP header allows routing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tent is hidden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rypt bytes 35 on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Bytes 1-14 – Ethernet header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Bytes 15-34 – IPv4 header (assume no options)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all packets are IPv4 for simpl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Implementing a Crypto Module (2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State machine (draw on next page):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e headers on each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path 64-bits w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34 / 8 is not an integer! </a:t>
            </a:r>
            <a:r>
              <a:rPr b="0" lang="en-US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Inside the crypto module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pic>
        <p:nvPicPr>
          <p:cNvPr id="135" name="Picture 4" descr="crypto_nic"/>
          <p:cNvPicPr/>
          <p:nvPr/>
        </p:nvPicPr>
        <p:blipFill>
          <a:blip r:embed="rId1"/>
          <a:stretch/>
        </p:blipFill>
        <p:spPr>
          <a:xfrm>
            <a:off x="723960" y="3429000"/>
            <a:ext cx="7696080" cy="2786040"/>
          </a:xfrm>
          <a:prstGeom prst="rect">
            <a:avLst/>
          </a:prstGeom>
          <a:ln w="25560">
            <a:solidFill>
              <a:srgbClr val="a50021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7T16:29:53Z</dcterms:created>
  <dc:creator>John W. Lockwood and others on the NetFPGA team</dc:creator>
  <dc:description>NetFPGA tutorial slides from Stanford University</dc:description>
  <cp:keywords>NetFPGA FPGA Network Tutorial</cp:keywords>
  <dc:language>en-US</dc:language>
  <cp:lastModifiedBy>Andrew W. Moore</cp:lastModifiedBy>
  <cp:lastPrinted>2000-09-28T21:24:59Z</cp:lastPrinted>
  <dcterms:modified xsi:type="dcterms:W3CDTF">2010-03-12T08:52:06Z</dcterms:modified>
  <cp:revision>1259</cp:revision>
  <dc:subject>NetFPGA</dc:subject>
  <dc:title>NetFPGA Tutorial Slides</dc:title>
</cp:coreProperties>
</file>