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move the slide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33960" cy="41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D9E90-BBAC-4ABF-8914-377A684D628B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33960" cy="41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言語自由、プロ参加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coder.c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44DD-FC2B-4C5D-8320-2330D0ED0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D2FD-83A8-460D-A3B3-A517987E6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2622-CF5D-4DE0-8F43-2EBC49EED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94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248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0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94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248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25E0-26EA-4C43-91A6-974CBA001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85C7B-BADA-4471-B5D9-22529A9F1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B4CBA-10E2-4970-9FED-CA772619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30A66-ED3C-4B3B-B816-0518F72FB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FD1BA-60DF-439F-A542-C9ACE7392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C0038-43FF-4270-AC2D-8C543F009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040" y="-3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6D092-67CC-4953-A484-952EDFE9E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1BA91-AC31-4964-BFC2-D4F1B79FC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A2A5-FAD6-47BE-B266-5AF241DF4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90222-6DAC-4BDA-9940-B1597C84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0EB9C-B208-4955-8879-1A4CA06A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5A363-09FE-4C53-9D31-8B39E519C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18C00-E504-4E58-88FF-9B2AA526A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194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48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0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194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48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C9B1A-E463-4E49-B48D-1689D2792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F655-B4B5-485F-BE27-B61206334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4AE6-B73B-43D7-8AF2-EFD239C00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0F47-0DE9-42CA-9456-3AA67D79C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-3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D3A6-A97D-4846-AE34-58DF664FA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5BD7-7203-4047-AC97-40F214C7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ABE9-ED45-46BA-B96B-FBDC2E66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FCA5-39B0-4729-AD26-3F2382E7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212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668520" indent="-257040">
              <a:spcBef>
                <a:spcPts val="799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econd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1028520" indent="-2055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Third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3" marL="1440000" indent="-205560">
              <a:spcBef>
                <a:spcPts val="799"/>
              </a:spcBef>
              <a:buClr>
                <a:srgbClr val="ffffeb"/>
              </a:buClr>
              <a:buSzPct val="80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Four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4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Fif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5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ix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6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even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6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7B9C5-49E9-413C-9198-280EDBE7555A}" type="slidenum">
              <a:rPr b="1" lang="ja-JP" sz="26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240" y="1295280"/>
            <a:ext cx="8686800" cy="319320"/>
            <a:chOff x="228240" y="1295280"/>
            <a:chExt cx="8686800" cy="319320"/>
          </a:xfrm>
        </p:grpSpPr>
        <p:sp>
          <p:nvSpPr>
            <p:cNvPr id="7" name=""/>
            <p:cNvSpPr/>
            <p:nvPr/>
          </p:nvSpPr>
          <p:spPr>
            <a:xfrm>
              <a:off x="676080" y="1295280"/>
              <a:ext cx="823896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227880" y="1295280"/>
              <a:ext cx="462600" cy="31932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8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6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97C15-62EB-4668-9EF1-FFA3156A8ACB}" type="slidenum">
              <a:rPr b="1" lang="ja-JP" sz="26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Second Outline Level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914400" algn="ctr"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HGS創英角ﾎﾟｯﾌﾟ体"/>
              </a:rPr>
              <a:t>Third Outline Level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3" marL="1371600" algn="ctr">
              <a:spcBef>
                <a:spcPts val="499"/>
              </a:spcBef>
              <a:buClr>
                <a:srgbClr val="ffffeb"/>
              </a:buClr>
              <a:buSzPct val="80000"/>
              <a:buFont typeface="HGS創英角ﾎﾟｯﾌﾟ体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HGS創英角ﾎﾟｯﾌﾟ体"/>
              </a:rPr>
              <a:t>Fourth Outline Level</a:t>
            </a:r>
            <a:endParaRPr b="0" lang="en-US" sz="20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4" marL="1828800" algn="ctr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HGS創英角ﾎﾟｯﾌﾟ体"/>
              </a:rPr>
              <a:t>Fifth Outline Level</a:t>
            </a:r>
            <a:endParaRPr b="0" lang="en-US" sz="20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5" marL="1828800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HGS創英角ﾎﾟｯﾌﾟ体"/>
              </a:rPr>
              <a:t>Sixth Outline Level</a:t>
            </a:r>
            <a:endParaRPr b="0" lang="en-US" sz="20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6" marL="1828800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HGS創英角ﾎﾟｯﾌﾟ体"/>
              </a:rPr>
              <a:t>Seventh Outline Level</a:t>
            </a:r>
            <a:endParaRPr b="0" lang="en-US" sz="2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fffeb"/>
                </a:solidFill>
                <a:latin typeface="HGS創英角ﾎﾟｯﾌﾟ体"/>
              </a:rPr>
              <a:t>美しい日本の</a:t>
            </a:r>
            <a:r>
              <a:rPr b="1" lang="en-US" sz="48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1" lang="ja-JP" sz="4800" spc="-1" strike="noStrike">
                <a:solidFill>
                  <a:srgbClr val="ffffeb"/>
                </a:solidFill>
                <a:latin typeface="HGS創英角ﾎﾟｯﾌﾟ体"/>
              </a:rPr>
              <a:t>コンパイラ</a:t>
            </a:r>
            <a:endParaRPr b="1" lang="en-US" sz="4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4704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eb"/>
                </a:solidFill>
                <a:latin typeface="HGS創英角ﾎﾟｯﾌﾟ体"/>
              </a:rPr>
              <a:t>開発代表者：</a:t>
            </a:r>
            <a:br>
              <a:rPr sz="3600"/>
            </a:br>
            <a:r>
              <a:rPr b="0" lang="ja-JP" sz="3600" spc="-1" strike="noStrike">
                <a:solidFill>
                  <a:srgbClr val="ffffeb"/>
                </a:solidFill>
                <a:latin typeface="HGS創英角ﾎﾟｯﾌﾟ体"/>
              </a:rPr>
              <a:t>住井 英二郎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HGS創英角ﾎﾟｯﾌﾟ体"/>
              </a:rPr>
              <a:t>University of Pennsylvania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プログラム例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urier New"/>
              </a:rPr>
              <a:t>let rec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gcd m n =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if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m = 0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then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n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else if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m &lt;= n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then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gcd m (n - m)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else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gcd n (m - n)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urier New"/>
              </a:rPr>
              <a:t>in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gcd 21600 337500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ルの例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let rec gcd 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=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if 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=0 then 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else if 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&lt;=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then gcd 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(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-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else gcd 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(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-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gcd.19: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cmp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Courier New"/>
              </a:rPr>
              <a:t>%i2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, 0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ne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e_else.45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mov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</a:rPr>
              <a:t>%i3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, %i2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retl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e_else.45: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cmp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Courier New"/>
              </a:rPr>
              <a:t>%i2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</a:rPr>
              <a:t>%i3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g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le_else.47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4" name=""/>
          <p:cNvSpPr/>
          <p:nvPr/>
        </p:nvSpPr>
        <p:spPr>
          <a:xfrm>
            <a:off x="4093560" y="4038480"/>
            <a:ext cx="472716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sub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  <a:ea typeface="HGS創英角ﾎﾟｯﾌﾟ体"/>
              </a:rPr>
              <a:t>%i3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</a:t>
            </a:r>
            <a:r>
              <a:rPr b="1" lang="en-US" sz="2400" spc="-1" strike="noStrike">
                <a:solidFill>
                  <a:srgbClr val="ffcc00"/>
                </a:solidFill>
                <a:latin typeface="Courier New"/>
                <a:ea typeface="HGS創英角ﾎﾟｯﾌﾟ体"/>
              </a:rPr>
              <a:t>%i2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%i3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b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gcd.19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ble_else.47: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sub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Courier New"/>
                <a:ea typeface="HGS創英角ﾎﾟｯﾌﾟ体"/>
              </a:rPr>
              <a:t>%i2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  <a:ea typeface="HGS創英角ﾎﾟｯﾌﾟ体"/>
              </a:rPr>
              <a:t>%i3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%o5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mov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  <a:ea typeface="HGS創英角ﾎﾟｯﾌﾟ体"/>
              </a:rPr>
              <a:t>%i3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%i2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mov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%o5, %i3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b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gcd.19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実装方針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ル　＝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ある言語を</a:t>
            </a: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low-level</a:t>
            </a: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な言語に</a:t>
            </a:r>
            <a:br>
              <a:rPr sz="4000"/>
            </a:b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変換すること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085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 u="sng">
                <a:solidFill>
                  <a:srgbClr val="ffcc00"/>
                </a:solidFill>
                <a:uFillTx/>
                <a:latin typeface="HGS創英角ﾎﾟｯﾌﾟ体"/>
              </a:rPr>
              <a:t>適切な中間言語</a:t>
            </a: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を設定すれば、</a:t>
            </a:r>
            <a:br>
              <a:rPr sz="4000"/>
            </a:br>
            <a:r>
              <a:rPr b="0" lang="ja-JP" sz="4000" spc="-1" strike="noStrike" u="sng">
                <a:solidFill>
                  <a:srgbClr val="ffcc00"/>
                </a:solidFill>
                <a:uFillTx/>
                <a:latin typeface="HGS創英角ﾎﾟｯﾌﾟ体"/>
              </a:rPr>
              <a:t>単純な変換</a:t>
            </a: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の連続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の構成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8" name=""/>
          <p:cNvSpPr/>
          <p:nvPr/>
        </p:nvSpPr>
        <p:spPr>
          <a:xfrm>
            <a:off x="5681880" y="2138400"/>
            <a:ext cx="729360" cy="459720"/>
          </a:xfrm>
          <a:prstGeom prst="rect">
            <a:avLst/>
          </a:prstGeom>
          <a:solidFill>
            <a:srgbClr val="c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型推論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34840" y="2138400"/>
            <a:ext cx="912240" cy="459720"/>
          </a:xfrm>
          <a:prstGeom prst="rect">
            <a:avLst/>
          </a:prstGeom>
          <a:solidFill>
            <a:srgbClr val="8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構文解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712640" y="3798720"/>
            <a:ext cx="77976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α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変換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46400" y="2138400"/>
            <a:ext cx="91224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Ｋ正規化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91920" y="3616200"/>
            <a:ext cx="91224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定数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畳み込み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08720" y="3616200"/>
            <a:ext cx="109512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インライン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展開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46320" y="5492880"/>
            <a:ext cx="1095120" cy="82548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クロージャ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変換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37760" y="3616200"/>
            <a:ext cx="91224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不要定義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除去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00160" y="5492880"/>
            <a:ext cx="912240" cy="82548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レジスタ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割り当て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52760" y="5492880"/>
            <a:ext cx="1095120" cy="82548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仮想マシン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コード生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64680" y="5492880"/>
            <a:ext cx="1095120" cy="82548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アセンブリ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生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328040" y="2138400"/>
            <a:ext cx="912240" cy="45972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字句解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29" idx="3"/>
            <a:endCxn id="128" idx="1"/>
          </p:cNvCxnSpPr>
          <p:nvPr/>
        </p:nvCxnSpPr>
        <p:spPr>
          <a:xfrm>
            <a:off x="4711680" y="2376000"/>
            <a:ext cx="7675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28" idx="3"/>
            <a:endCxn id="131" idx="1"/>
          </p:cNvCxnSpPr>
          <p:nvPr/>
        </p:nvCxnSpPr>
        <p:spPr>
          <a:xfrm>
            <a:off x="6615000" y="2376000"/>
            <a:ext cx="7675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31" idx="2"/>
            <a:endCxn id="130" idx="0"/>
          </p:cNvCxnSpPr>
          <p:nvPr/>
        </p:nvCxnSpPr>
        <p:spPr>
          <a:xfrm>
            <a:off x="8102160" y="2623680"/>
            <a:ext cx="1080" cy="116604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5" idx="2"/>
            <a:endCxn id="134" idx="0"/>
          </p:cNvCxnSpPr>
          <p:nvPr/>
        </p:nvCxnSpPr>
        <p:spPr>
          <a:xfrm>
            <a:off x="1793520" y="4467240"/>
            <a:ext cx="1080" cy="101664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9" idx="3"/>
            <a:endCxn id="129" idx="1"/>
          </p:cNvCxnSpPr>
          <p:nvPr/>
        </p:nvCxnSpPr>
        <p:spPr>
          <a:xfrm>
            <a:off x="2504880" y="2376000"/>
            <a:ext cx="7657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0" idx="1"/>
            <a:endCxn id="133" idx="3"/>
          </p:cNvCxnSpPr>
          <p:nvPr/>
        </p:nvCxnSpPr>
        <p:spPr>
          <a:xfrm flipH="1">
            <a:off x="6928560" y="4036680"/>
            <a:ext cx="60588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3" idx="1"/>
            <a:endCxn id="132" idx="3"/>
          </p:cNvCxnSpPr>
          <p:nvPr/>
        </p:nvCxnSpPr>
        <p:spPr>
          <a:xfrm flipH="1">
            <a:off x="4568040" y="4036680"/>
            <a:ext cx="61524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2" idx="1"/>
            <a:endCxn id="135" idx="3"/>
          </p:cNvCxnSpPr>
          <p:nvPr/>
        </p:nvCxnSpPr>
        <p:spPr>
          <a:xfrm flipH="1">
            <a:off x="2514240" y="4036680"/>
            <a:ext cx="61344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34" idx="3"/>
            <a:endCxn id="137" idx="1"/>
          </p:cNvCxnSpPr>
          <p:nvPr/>
        </p:nvCxnSpPr>
        <p:spPr>
          <a:xfrm>
            <a:off x="2666520" y="5913000"/>
            <a:ext cx="46116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37" idx="3"/>
            <a:endCxn id="136" idx="1"/>
          </p:cNvCxnSpPr>
          <p:nvPr/>
        </p:nvCxnSpPr>
        <p:spPr>
          <a:xfrm>
            <a:off x="4873320" y="5913000"/>
            <a:ext cx="46260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36" idx="3"/>
            <a:endCxn id="138" idx="1"/>
          </p:cNvCxnSpPr>
          <p:nvPr/>
        </p:nvCxnSpPr>
        <p:spPr>
          <a:xfrm>
            <a:off x="6776640" y="5913000"/>
            <a:ext cx="46260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35" idx="0"/>
            <a:endCxn id="133" idx="0"/>
          </p:cNvCxnSpPr>
          <p:nvPr/>
        </p:nvCxnSpPr>
        <p:spPr>
          <a:xfrm flipH="1" rot="16200000">
            <a:off x="3924360" y="1476000"/>
            <a:ext cx="2160" cy="4263120"/>
          </a:xfrm>
          <a:prstGeom prst="curvedConnector5">
            <a:avLst>
              <a:gd name="adj1" fmla="val -24200000"/>
              <a:gd name="adj2" fmla="val 49995"/>
              <a:gd name="adj3" fmla="val -24200000"/>
            </a:avLst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の構成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53" name=""/>
          <p:cNvSpPr/>
          <p:nvPr/>
        </p:nvSpPr>
        <p:spPr>
          <a:xfrm>
            <a:off x="5681880" y="2138400"/>
            <a:ext cx="729360" cy="459720"/>
          </a:xfrm>
          <a:prstGeom prst="rect">
            <a:avLst/>
          </a:prstGeom>
          <a:solidFill>
            <a:srgbClr val="c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型推論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34840" y="2138400"/>
            <a:ext cx="912240" cy="459720"/>
          </a:xfrm>
          <a:prstGeom prst="rect">
            <a:avLst/>
          </a:prstGeom>
          <a:solidFill>
            <a:srgbClr val="8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構文解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712640" y="3798720"/>
            <a:ext cx="77976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α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変換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46400" y="2138400"/>
            <a:ext cx="91224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Ｋ正規化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91920" y="3616200"/>
            <a:ext cx="91224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定数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畳み込み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08720" y="3616200"/>
            <a:ext cx="109512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インライン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展開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246320" y="5492880"/>
            <a:ext cx="1095120" cy="82548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クロージャ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変換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37760" y="3616200"/>
            <a:ext cx="91224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不要定義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除去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00160" y="5492880"/>
            <a:ext cx="912240" cy="82548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レジスタ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割り当て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52760" y="5492880"/>
            <a:ext cx="1095120" cy="82548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仮想マシン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コード生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64680" y="5492880"/>
            <a:ext cx="1095120" cy="82548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アセンブリ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生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28040" y="2138400"/>
            <a:ext cx="912240" cy="45972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字句解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65" name=""/>
          <p:cNvCxnSpPr>
            <a:stCxn id="154" idx="3"/>
            <a:endCxn id="153" idx="1"/>
          </p:cNvCxnSpPr>
          <p:nvPr/>
        </p:nvCxnSpPr>
        <p:spPr>
          <a:xfrm>
            <a:off x="4711680" y="2376000"/>
            <a:ext cx="7675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53" idx="3"/>
            <a:endCxn id="156" idx="1"/>
          </p:cNvCxnSpPr>
          <p:nvPr/>
        </p:nvCxnSpPr>
        <p:spPr>
          <a:xfrm>
            <a:off x="6615000" y="2376000"/>
            <a:ext cx="7675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56" idx="2"/>
            <a:endCxn id="155" idx="0"/>
          </p:cNvCxnSpPr>
          <p:nvPr/>
        </p:nvCxnSpPr>
        <p:spPr>
          <a:xfrm>
            <a:off x="8102160" y="2623680"/>
            <a:ext cx="1080" cy="116604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0" idx="2"/>
            <a:endCxn id="159" idx="0"/>
          </p:cNvCxnSpPr>
          <p:nvPr/>
        </p:nvCxnSpPr>
        <p:spPr>
          <a:xfrm>
            <a:off x="1793520" y="4467240"/>
            <a:ext cx="1080" cy="101664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4" idx="3"/>
            <a:endCxn id="154" idx="1"/>
          </p:cNvCxnSpPr>
          <p:nvPr/>
        </p:nvCxnSpPr>
        <p:spPr>
          <a:xfrm>
            <a:off x="2504880" y="2376000"/>
            <a:ext cx="7657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55" idx="1"/>
            <a:endCxn id="158" idx="3"/>
          </p:cNvCxnSpPr>
          <p:nvPr/>
        </p:nvCxnSpPr>
        <p:spPr>
          <a:xfrm flipH="1">
            <a:off x="6928560" y="4036680"/>
            <a:ext cx="60588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58" idx="1"/>
            <a:endCxn id="157" idx="3"/>
          </p:cNvCxnSpPr>
          <p:nvPr/>
        </p:nvCxnSpPr>
        <p:spPr>
          <a:xfrm flipH="1">
            <a:off x="4568040" y="4036680"/>
            <a:ext cx="61524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57" idx="1"/>
            <a:endCxn id="160" idx="3"/>
          </p:cNvCxnSpPr>
          <p:nvPr/>
        </p:nvCxnSpPr>
        <p:spPr>
          <a:xfrm flipH="1">
            <a:off x="2514240" y="4036680"/>
            <a:ext cx="61344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59" idx="3"/>
            <a:endCxn id="162" idx="1"/>
          </p:cNvCxnSpPr>
          <p:nvPr/>
        </p:nvCxnSpPr>
        <p:spPr>
          <a:xfrm>
            <a:off x="2666520" y="5913000"/>
            <a:ext cx="46116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62" idx="3"/>
            <a:endCxn id="161" idx="1"/>
          </p:cNvCxnSpPr>
          <p:nvPr/>
        </p:nvCxnSpPr>
        <p:spPr>
          <a:xfrm>
            <a:off x="4873320" y="5913000"/>
            <a:ext cx="46260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61" idx="3"/>
            <a:endCxn id="163" idx="1"/>
          </p:cNvCxnSpPr>
          <p:nvPr/>
        </p:nvCxnSpPr>
        <p:spPr>
          <a:xfrm>
            <a:off x="6776640" y="5913000"/>
            <a:ext cx="46260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60" idx="0"/>
            <a:endCxn id="158" idx="0"/>
          </p:cNvCxnSpPr>
          <p:nvPr/>
        </p:nvCxnSpPr>
        <p:spPr>
          <a:xfrm flipH="1" rot="16200000">
            <a:off x="3924360" y="1476000"/>
            <a:ext cx="2160" cy="4263120"/>
          </a:xfrm>
          <a:prstGeom prst="curvedConnector5">
            <a:avLst>
              <a:gd name="adj1" fmla="val -24200000"/>
              <a:gd name="adj2" fmla="val 49995"/>
              <a:gd name="adj3" fmla="val -24200000"/>
            </a:avLst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1968120" y="25909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102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177800" y="25909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175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82920" y="25909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175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122680" y="25909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203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308800" y="426708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52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527880" y="441972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46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165560" y="441972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50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08160" y="441972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39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96720" y="63244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133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30080" y="63244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212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235200" y="63244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313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122680" y="63244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263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補助モジュールも合計すると…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２千行で</a:t>
            </a:r>
            <a:r>
              <a:rPr b="0" lang="en-US" sz="40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サブセットの</a:t>
            </a:r>
            <a:br>
              <a:rPr sz="4000"/>
            </a:b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コンパイラができた！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1" name=""/>
          <p:cNvSpPr/>
          <p:nvPr/>
        </p:nvSpPr>
        <p:spPr>
          <a:xfrm>
            <a:off x="91440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&gt; wc -l *.ml{l,y,i,}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   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100 lexer.mll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    </a:t>
            </a:r>
            <a:r>
              <a:rPr b="1" lang="ja-JP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171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parser.mly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     </a:t>
            </a:r>
            <a:r>
              <a:rPr b="0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（</a:t>
            </a:r>
            <a:r>
              <a:rPr b="0" lang="ja-JP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中略）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   </a:t>
            </a:r>
            <a:r>
              <a:rPr b="1" lang="en-US" sz="4000" spc="-1" strike="noStrike">
                <a:solidFill>
                  <a:srgbClr val="ffcc00"/>
                </a:solidFill>
                <a:latin typeface="Courier New"/>
                <a:ea typeface="HGS創英角ﾎﾟｯﾌﾟ体"/>
              </a:rPr>
              <a:t>2262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 total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性能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典型的な関数型プログラム（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Ackermann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関数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OCamlOpt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0.9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未踏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コンパイラ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0.9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cc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6.8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cc -mflat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1.3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46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典型的な命令型プログラム（レイトレーシング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OCamlOpt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27.2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未踏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コンパイラ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14.1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cc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（参考）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7.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cc -mflat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（参考）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7.4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の詳細：Ｋ正規化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eb"/>
                </a:solidFill>
                <a:latin typeface="Courier New"/>
              </a:rPr>
              <a:t>(</a:t>
            </a: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a + b) - (c * d)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spcBef>
                <a:spcPts val="70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のようなネストした式に対し、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spcBef>
                <a:spcPts val="9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let tmp1 = a + b in</a:t>
            </a:r>
            <a:br>
              <a:rPr sz="3600"/>
            </a:b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let tmp2 = c * d in</a:t>
            </a:r>
            <a:br>
              <a:rPr sz="3600"/>
            </a:b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tmp1 - tmp2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spcBef>
                <a:spcPts val="70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のように中間値をすべて明示化する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70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とアセンブリのギャップ（の一つ）が埋まる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様々な最適化等が簡単になる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の詳細：最適化等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Ｋ正規化すれば非常に簡単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インライン展開 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inline.ml)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定数畳み込み 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onstFold.ml)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不要定義削除 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elim.ml)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HGS創英角ﾎﾟｯﾌﾟ体"/>
                <a:ea typeface="HGS創英角ﾎﾟｯﾌﾟ体"/>
              </a:rPr>
              <a:t>コンパイラは完成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アルゴリズム・ソースコードも「きれい」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テストプログラム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25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個が動作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レイトレーシングも動作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東大、お茶の水大、東工大、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JAIST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などで使用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成果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目的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短期的には…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「きれい」でわかりやすい</a:t>
            </a:r>
            <a:br>
              <a:rPr sz="4000"/>
            </a:b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を作る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中期的には…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自体の宣伝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長期的には…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cc00"/>
                </a:solidFill>
                <a:latin typeface="HGS創英角ﾎﾟｯﾌﾟ体"/>
              </a:rPr>
              <a:t>プログラミング言語研究の</a:t>
            </a:r>
            <a:br>
              <a:rPr sz="3600"/>
            </a:br>
            <a:r>
              <a:rPr b="0" lang="ja-JP" sz="3600" spc="-1" strike="noStrike">
                <a:solidFill>
                  <a:srgbClr val="ffcc00"/>
                </a:solidFill>
                <a:latin typeface="HGS創英角ﾎﾟｯﾌﾟ体"/>
              </a:rPr>
              <a:t>「技術移転」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今後の方向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HGS創英角ﾎﾟｯﾌﾟ体"/>
              </a:rPr>
              <a:t>ドキュメントの整備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チュートリアル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「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30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分でわかる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OCaml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」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も予定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IA-32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アセンブリを生成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-28584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SPARC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よりややこしい（２オペランドなど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サブセットの拡張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-28584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データ型、モジュール、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arbage Collection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など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040" y="759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蛇足：プログラミング言語研究の</a:t>
            </a:r>
            <a:br>
              <a:rPr sz="4000"/>
            </a:b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「技術移転」について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lvl="1" marL="557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85716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85716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85716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cc00"/>
                </a:solidFill>
                <a:latin typeface="HGS創英角ﾎﾟｯﾌﾟ体"/>
              </a:rPr>
              <a:t>時間がかかりすぎ！</a:t>
            </a:r>
            <a:br>
              <a:rPr sz="3600"/>
            </a:br>
            <a:r>
              <a:rPr b="0" lang="ja-JP" sz="3600" spc="-1" strike="noStrike">
                <a:solidFill>
                  <a:srgbClr val="ffcc00"/>
                </a:solidFill>
                <a:latin typeface="HGS創英角ﾎﾟｯﾌﾟ体"/>
              </a:rPr>
              <a:t>もっと短縮できないか？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4" name=""/>
          <p:cNvSpPr/>
          <p:nvPr/>
        </p:nvSpPr>
        <p:spPr>
          <a:xfrm>
            <a:off x="91440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Garbage Collection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研究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Lisp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6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年代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普及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Java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9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年代～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Parametric Polymorphis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研究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ML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7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年代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普及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C++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の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STL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9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年代～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HGS創英角ﾎﾟｯﾌﾟ体"/>
                <a:ea typeface="HGS創英角ﾎﾟｯﾌﾟ体"/>
              </a:rPr>
              <a:t>普及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C#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や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Java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の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Generics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つい最近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What is ML?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　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≠　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ailing List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-25704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　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≠　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arkup Language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　＝　</a:t>
            </a: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Meta Language</a:t>
            </a:r>
            <a:br>
              <a:rPr sz="4000"/>
            </a:b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単純で強力なプログラミング言語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-25704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主に関数型＋命令型、オブジェクトも有り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-21420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ilner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らにより設計・実装（チューリング賞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-21420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Appel, Leroy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らにより発展 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SML/NJ, OCaml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ACM ICFP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プログラミングコンテスト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-21420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プログラミング言語は自由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-214200">
              <a:spcBef>
                <a:spcPts val="601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プロも参加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</a:rPr>
              <a:t>（</a:t>
            </a:r>
            <a:r>
              <a:rPr b="0" lang="en-US" sz="2400" spc="-1" strike="noStrike">
                <a:solidFill>
                  <a:srgbClr val="ffffeb"/>
                </a:solidFill>
                <a:latin typeface="HGS創英角ﾎﾟｯﾌﾟ体"/>
              </a:rPr>
              <a:t>Leroy, Peyton Jones, topcoder, ...)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Computer Language Shootout (shootout.alioth.debian.org)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様々な言語のマイクロベンチマーク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どう「単純で強力」なのか？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219320" y="3505320"/>
          <a:ext cx="7619760" cy="1369800"/>
        </p:xfrm>
        <a:graphic>
          <a:graphicData uri="http://schemas.openxmlformats.org/drawingml/2006/table">
            <a:tbl>
              <a:tblPr/>
              <a:tblGrid>
                <a:gridCol w="838080"/>
                <a:gridCol w="1219320"/>
                <a:gridCol w="838080"/>
                <a:gridCol w="1066680"/>
                <a:gridCol w="990720"/>
                <a:gridCol w="1295280"/>
                <a:gridCol w="13716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１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２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３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４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５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６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性能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Intel C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gcc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MLton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lean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g++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行数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Perl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Ruby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Nice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S-Lang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SML/NJ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914400" y="1905120"/>
          <a:ext cx="8077320" cy="4566960"/>
        </p:xfrm>
        <a:graphic>
          <a:graphicData uri="http://schemas.openxmlformats.org/drawingml/2006/table">
            <a:tbl>
              <a:tblPr/>
              <a:tblGrid>
                <a:gridCol w="914400"/>
                <a:gridCol w="3048120"/>
                <a:gridCol w="2057400"/>
                <a:gridCol w="2057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年度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課題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1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位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2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位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98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○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×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ゲーム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並列</a:t>
                      </a: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99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DSL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最適化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0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レイトレーシング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1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TML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最適化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Dylan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2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荷物配送ゲーム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3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レーシング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++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++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4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アリ対戦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&amp; C++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ICFP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テスト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私の</a:t>
            </a: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宣伝活動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ACM ICFP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プログラミングコンテスト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49720" indent="-21132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200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年度優勝 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Penn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49720" indent="-21132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2002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年度優勝（東大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49720" indent="-21132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2004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年度主催 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Penn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プログラミング・コンパイラ授業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（東大理学部情報科学科）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[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PU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実験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]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Bioinformatics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に使用（東大医科研）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O'Reilly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の本を共同翻訳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HGS創英角ﾎﾟｯﾌﾟ体"/>
              </a:rPr>
              <a:t>自分近傍のプログラミングはすべて</a:t>
            </a:r>
            <a:r>
              <a:rPr b="0" lang="en-US" sz="32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2" name=""/>
          <p:cNvSpPr/>
          <p:nvPr/>
        </p:nvSpPr>
        <p:spPr>
          <a:xfrm>
            <a:off x="5105520" y="3886200"/>
            <a:ext cx="2057400" cy="60948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なぜ美しいコンパイラを作るのか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Symbol"/>
                <a:ea typeface="Symbol"/>
              </a:rPr>
              <a:t>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プログラマや学生にわかりやすい</a:t>
            </a:r>
            <a:br>
              <a:rPr sz="4000"/>
            </a:b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チュートリアルや実装や公開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（</a:t>
            </a:r>
            <a:r>
              <a:rPr b="0" lang="ja-JP" sz="4000" spc="-1" strike="noStrike" u="sng">
                <a:solidFill>
                  <a:srgbClr val="ffcc00"/>
                </a:solidFill>
                <a:uFillTx/>
                <a:latin typeface="HGS創英角ﾎﾟｯﾌﾟ体"/>
              </a:rPr>
              <a:t>短いほど良い</a:t>
            </a: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）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ML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が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"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Minor Language"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である原因：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「よく知らないから使わない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」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「仕組みがわからないから使わない」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対象とする</a:t>
            </a: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サブセット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(1/2)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425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::=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式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定数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op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算術演算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if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then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else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条件分岐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let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=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in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変数定義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変数読み出し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let rec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y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y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 =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in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関数定義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関数呼び出し</a:t>
            </a:r>
            <a:br>
              <a:rPr sz="3200"/>
            </a:br>
            <a:r>
              <a:rPr b="1" lang="ja-JP" sz="3200" spc="-1" strike="noStrike">
                <a:solidFill>
                  <a:srgbClr val="ffffeb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対象とする</a:t>
            </a: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サブセット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(2/2)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3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 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::=</a:t>
            </a:r>
            <a:br>
              <a:rPr sz="3200"/>
            </a:br>
            <a:r>
              <a:rPr b="1" lang="ja-JP" sz="3200" spc="-1" strike="noStrike">
                <a:solidFill>
                  <a:srgbClr val="ffffeb"/>
                </a:solidFill>
                <a:latin typeface="Arial"/>
              </a:rPr>
              <a:t>...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組を作る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let 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 =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in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組から読み出し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Array.create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配列を作る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.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配列から読み出し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.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 </a:t>
            </a:r>
            <a:r>
              <a:rPr b="1" lang="en-US" sz="3200" spc="-1" strike="noStrike">
                <a:solidFill>
                  <a:srgbClr val="ffffeb"/>
                </a:solidFill>
                <a:latin typeface="Symbol"/>
                <a:ea typeface="Symbol"/>
              </a:rPr>
              <a:t>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配列へ書き込み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19:02:24Z</dcterms:created>
  <dc:creator>住井 英二郎</dc:creator>
  <dc:description/>
  <dc:language>en-US</dc:language>
  <cp:lastModifiedBy>住井 英二郎</cp:lastModifiedBy>
  <dcterms:modified xsi:type="dcterms:W3CDTF">2005-02-11T07:05:46Z</dcterms:modified>
  <cp:revision>944</cp:revision>
  <dc:subject/>
  <dc:title>A Bisimulation for Type Abstraction and Recursion</dc:title>
</cp:coreProperties>
</file>