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998400" cy="928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965040" y="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965040" y="8820000"/>
            <a:ext cx="303228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F43F9-02EA-4D30-973B-4852EBF3E7EE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77920" y="696960"/>
            <a:ext cx="4641840" cy="34812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931680" y="4408560"/>
            <a:ext cx="5133960" cy="417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言語自由、プロ参加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pcoder.co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A71D-C679-49E4-BD22-8EBD4793F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2B916-4302-4E20-AF48-75630DF9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F41D0-97D9-49E5-85D5-32528D0F93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B96CD-8BEC-46D9-8116-BAF343D323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2F1A0-2B6C-4A4C-A549-FA3F70545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BBC01B-E9C3-448F-8E9A-CAD8C149E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33F88-30BC-469E-840E-42500349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EA77C-938C-4C42-A231-B674EE381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F0EC-AAE9-457F-B577-754D047A1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549D84-FB38-4A6C-98F5-7EAC52DC9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7607A-64B8-4E15-A695-C731F6C02F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CA1-1E3F-4B59-A554-9B86DA2EBA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C98A-2D4B-4665-8B0A-762BA4230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FD2E5-238C-4B79-A7E3-5922676FC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41C91-6915-4DAB-AF57-909FC4EEC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1EC3A-81B2-4943-8DCB-7933DFFB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2050F-6958-461C-914B-C8273E91BD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B68A0-655C-4C57-B67F-29FF81207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00050-DD81-4626-82F0-9AA36A641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5B688-FA0B-49E9-BF5E-AF7EC2CE0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-3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4FA55-FE57-41F1-9592-17F3FEFC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F919-1FB5-4AE1-AC3A-A64E679D9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63E20-6757-4E9C-A52B-18B2624A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24DD4-8C10-4B82-8773-84EA3A6D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A8329-8E49-43D3-99C1-4A7BA36D9C9C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ja-JP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97D90-FEFE-469F-A94D-8563545EB07B}" type="slidenum">
              <a:rPr b="1" lang="ja-JP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美しい日本の</a:t>
            </a:r>
            <a:r>
              <a:rPr b="1" lang="en-US" sz="4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800" spc="-1" strike="noStrike">
                <a:solidFill>
                  <a:srgbClr val="ffffeb"/>
                </a:solidFill>
                <a:latin typeface="HGS創英角ﾎﾟｯﾌﾟ体"/>
              </a:rPr>
              <a:t>コンパイラ</a:t>
            </a:r>
            <a:endParaRPr b="1" lang="en-US" sz="4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4704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開発代表者：</a:t>
            </a:r>
            <a:br>
              <a:rPr sz="3600"/>
            </a:br>
            <a:r>
              <a:rPr b="0" lang="ja-JP" sz="3600" spc="-1" strike="noStrike">
                <a:solidFill>
                  <a:srgbClr val="ffffeb"/>
                </a:solidFill>
                <a:latin typeface="HGS創英角ﾎﾟｯﾌﾟ体"/>
              </a:rPr>
              <a:t>住井 英二郎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University of Pennsylvania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プログラム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let rec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gcd m n =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= 0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 if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m &lt;= n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then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m (n - m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</a:t>
            </a:r>
            <a:r>
              <a:rPr b="1" lang="en-US" sz="4000" spc="-1" strike="noStrike">
                <a:solidFill>
                  <a:srgbClr val="99ff33"/>
                </a:solidFill>
                <a:latin typeface="Courier New"/>
              </a:rPr>
              <a:t>else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n (m - n)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cc00"/>
                </a:solidFill>
                <a:latin typeface="Courier New"/>
              </a:rPr>
              <a:t>in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</a:rPr>
              <a:t>gcd 21600 337500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の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let rec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=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=0 then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if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&lt;=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then gcd 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   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else gcd 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 (</a:t>
            </a:r>
            <a:r>
              <a:rPr b="1" lang="en-US" sz="2800" spc="-1" strike="noStrike">
                <a:solidFill>
                  <a:srgbClr val="ffcc00"/>
                </a:solidFill>
                <a:latin typeface="Courier New"/>
              </a:rPr>
              <a:t>m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-</a:t>
            </a:r>
            <a:r>
              <a:rPr b="1" lang="en-US" sz="2800" spc="-1" strike="noStrike">
                <a:solidFill>
                  <a:srgbClr val="99ff33"/>
                </a:solidFill>
                <a:latin typeface="Courier New"/>
              </a:rPr>
              <a:t>n</a:t>
            </a:r>
            <a:r>
              <a:rPr b="1" lang="en-US" sz="2800" spc="-1" strike="noStrike">
                <a:solidFill>
                  <a:srgbClr val="ffffeb"/>
                </a:solidFill>
                <a:latin typeface="Courier New"/>
              </a:rPr>
              <a:t>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gcd.19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0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ne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retl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e_else.45: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cmp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</a:rPr>
              <a:t>%i3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g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ble_else.47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lnSpc>
                <a:spcPct val="80000"/>
              </a:lnSpc>
              <a:buNone/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4" name=""/>
          <p:cNvSpPr/>
          <p:nvPr/>
        </p:nvSpPr>
        <p:spPr>
          <a:xfrm>
            <a:off x="4093560" y="4038480"/>
            <a:ext cx="4727160" cy="272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le_else.47: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su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%i2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o5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99ff33"/>
                </a:solidFill>
                <a:latin typeface="Courier New"/>
                <a:ea typeface="HGS創英角ﾎﾟｯﾌﾟ体"/>
              </a:rPr>
              <a:t>%i3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, %i2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mov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%o5, %i3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b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gcd.19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tabLst>
                <a:tab algn="l" pos="0"/>
                <a:tab algn="l" pos="1139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	</a:t>
            </a:r>
            <a:r>
              <a:rPr b="1" lang="en-US" sz="24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nop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実装方針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ル　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ある言語を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low-leve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な言語に</a:t>
            </a:r>
            <a:br>
              <a:rPr sz="4000"/>
            </a:b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変換すること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0852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適切な中間言語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を設定すれば、</a:t>
            </a:r>
            <a:br>
              <a:rPr sz="4000"/>
            </a:b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単純な変換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の連続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28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0" name=""/>
          <p:cNvCxnSpPr>
            <a:stCxn id="129" idx="3"/>
            <a:endCxn id="128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28" idx="3"/>
            <a:endCxn id="131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2" name=""/>
          <p:cNvCxnSpPr>
            <a:stCxn id="131" idx="2"/>
            <a:endCxn id="130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3" name=""/>
          <p:cNvCxnSpPr>
            <a:stCxn id="135" idx="2"/>
            <a:endCxn id="134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4" name=""/>
          <p:cNvCxnSpPr>
            <a:stCxn id="139" idx="3"/>
            <a:endCxn id="129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5" name=""/>
          <p:cNvCxnSpPr>
            <a:stCxn id="130" idx="1"/>
            <a:endCxn id="133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6" name=""/>
          <p:cNvCxnSpPr>
            <a:stCxn id="133" idx="1"/>
            <a:endCxn id="132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7" name=""/>
          <p:cNvCxnSpPr>
            <a:stCxn id="132" idx="1"/>
            <a:endCxn id="135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34" idx="3"/>
            <a:endCxn id="137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37" idx="3"/>
            <a:endCxn id="136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36" idx="3"/>
            <a:endCxn id="138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51" name=""/>
          <p:cNvCxnSpPr>
            <a:stCxn id="135" idx="0"/>
            <a:endCxn id="133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構成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53" name=""/>
          <p:cNvSpPr/>
          <p:nvPr/>
        </p:nvSpPr>
        <p:spPr>
          <a:xfrm>
            <a:off x="5681880" y="2138400"/>
            <a:ext cx="729360" cy="45972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型推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534840" y="2138400"/>
            <a:ext cx="912240" cy="45972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構文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7712640" y="3798720"/>
            <a:ext cx="77976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α</a:t>
            </a: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646400" y="2138400"/>
            <a:ext cx="91224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Ｋ正規化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39192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定数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畳み込み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508720" y="3616200"/>
            <a:ext cx="109512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インライ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展開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246320" y="5492880"/>
            <a:ext cx="1095120" cy="82548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クロージャ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変換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37760" y="3616200"/>
            <a:ext cx="912240" cy="82548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不要定義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除去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5600160" y="5492880"/>
            <a:ext cx="912240" cy="82548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レジスタ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割り当て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52760" y="5492880"/>
            <a:ext cx="1095120" cy="82548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仮想マシン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コード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564680" y="5492880"/>
            <a:ext cx="1095120" cy="82548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アセンブリ</a:t>
            </a:r>
            <a:br>
              <a:rPr sz="2400"/>
            </a:b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生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28040" y="2138400"/>
            <a:ext cx="912240" cy="45972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imes New Roman"/>
                <a:ea typeface="HGS創英角ﾎﾟｯﾌﾟ体"/>
              </a:rPr>
              <a:t>字句解析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65" name=""/>
          <p:cNvCxnSpPr>
            <a:stCxn id="154" idx="3"/>
            <a:endCxn id="153" idx="1"/>
          </p:cNvCxnSpPr>
          <p:nvPr/>
        </p:nvCxnSpPr>
        <p:spPr>
          <a:xfrm>
            <a:off x="471168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6" name=""/>
          <p:cNvCxnSpPr>
            <a:stCxn id="153" idx="3"/>
            <a:endCxn id="156" idx="1"/>
          </p:cNvCxnSpPr>
          <p:nvPr/>
        </p:nvCxnSpPr>
        <p:spPr>
          <a:xfrm>
            <a:off x="6615000" y="2376000"/>
            <a:ext cx="7675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7" name=""/>
          <p:cNvCxnSpPr>
            <a:stCxn id="156" idx="2"/>
            <a:endCxn id="155" idx="0"/>
          </p:cNvCxnSpPr>
          <p:nvPr/>
        </p:nvCxnSpPr>
        <p:spPr>
          <a:xfrm>
            <a:off x="8102160" y="2623680"/>
            <a:ext cx="1080" cy="11660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8" name=""/>
          <p:cNvCxnSpPr>
            <a:stCxn id="160" idx="2"/>
            <a:endCxn id="159" idx="0"/>
          </p:cNvCxnSpPr>
          <p:nvPr/>
        </p:nvCxnSpPr>
        <p:spPr>
          <a:xfrm>
            <a:off x="1793520" y="4467240"/>
            <a:ext cx="1080" cy="101664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69" name=""/>
          <p:cNvCxnSpPr>
            <a:stCxn id="164" idx="3"/>
            <a:endCxn id="154" idx="1"/>
          </p:cNvCxnSpPr>
          <p:nvPr/>
        </p:nvCxnSpPr>
        <p:spPr>
          <a:xfrm>
            <a:off x="2504880" y="2376000"/>
            <a:ext cx="76572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0" name=""/>
          <p:cNvCxnSpPr>
            <a:stCxn id="155" idx="1"/>
            <a:endCxn id="158" idx="3"/>
          </p:cNvCxnSpPr>
          <p:nvPr/>
        </p:nvCxnSpPr>
        <p:spPr>
          <a:xfrm flipH="1">
            <a:off x="6928560" y="4036680"/>
            <a:ext cx="60588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1" name=""/>
          <p:cNvCxnSpPr>
            <a:stCxn id="158" idx="1"/>
            <a:endCxn id="157" idx="3"/>
          </p:cNvCxnSpPr>
          <p:nvPr/>
        </p:nvCxnSpPr>
        <p:spPr>
          <a:xfrm flipH="1">
            <a:off x="4568040" y="4036680"/>
            <a:ext cx="6152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2" name=""/>
          <p:cNvCxnSpPr>
            <a:stCxn id="157" idx="1"/>
            <a:endCxn id="160" idx="3"/>
          </p:cNvCxnSpPr>
          <p:nvPr/>
        </p:nvCxnSpPr>
        <p:spPr>
          <a:xfrm flipH="1">
            <a:off x="2514240" y="4036680"/>
            <a:ext cx="61344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3" name=""/>
          <p:cNvCxnSpPr>
            <a:stCxn id="159" idx="3"/>
            <a:endCxn id="162" idx="1"/>
          </p:cNvCxnSpPr>
          <p:nvPr/>
        </p:nvCxnSpPr>
        <p:spPr>
          <a:xfrm>
            <a:off x="2666520" y="5913000"/>
            <a:ext cx="46116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62" idx="3"/>
            <a:endCxn id="161" idx="1"/>
          </p:cNvCxnSpPr>
          <p:nvPr/>
        </p:nvCxnSpPr>
        <p:spPr>
          <a:xfrm>
            <a:off x="487332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5" name=""/>
          <p:cNvCxnSpPr>
            <a:stCxn id="161" idx="3"/>
            <a:endCxn id="163" idx="1"/>
          </p:cNvCxnSpPr>
          <p:nvPr/>
        </p:nvCxnSpPr>
        <p:spPr>
          <a:xfrm>
            <a:off x="6776640" y="5913000"/>
            <a:ext cx="462600" cy="1080"/>
          </a:xfrm>
          <a:prstGeom prst="straightConnector1">
            <a:avLst/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cxnSp>
        <p:nvCxnSpPr>
          <p:cNvPr id="176" name=""/>
          <p:cNvCxnSpPr>
            <a:stCxn id="160" idx="0"/>
            <a:endCxn id="158" idx="0"/>
          </p:cNvCxnSpPr>
          <p:nvPr/>
        </p:nvCxnSpPr>
        <p:spPr>
          <a:xfrm flipH="1" rot="16200000">
            <a:off x="3924360" y="1476000"/>
            <a:ext cx="2160" cy="4263120"/>
          </a:xfrm>
          <a:prstGeom prst="curvedConnector5">
            <a:avLst>
              <a:gd name="adj1" fmla="val -24200000"/>
              <a:gd name="adj2" fmla="val 49995"/>
              <a:gd name="adj3" fmla="val -24200000"/>
            </a:avLst>
          </a:prstGeom>
          <a:ln w="19080">
            <a:solidFill>
              <a:srgbClr val="ffffeb"/>
            </a:solidFill>
            <a:miter/>
            <a:tail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19681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0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17780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08292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75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22680" y="259092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0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308800" y="426708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52788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46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1655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50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108160" y="4419720"/>
            <a:ext cx="78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9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19672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13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3300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12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623520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31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8122680" y="6324480"/>
            <a:ext cx="95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63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行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補助モジュールも合計すると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２千行で</a:t>
            </a:r>
            <a:r>
              <a:rPr b="0" lang="en-US" sz="40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サブセットの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コンパイラができた！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1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&gt; wc -l *.ml{l,y,i,}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00 lexer.ml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</a:t>
            </a:r>
            <a:r>
              <a:rPr b="1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171 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parser.mly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     </a:t>
            </a:r>
            <a:r>
              <a:rPr b="0" lang="en-US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（</a:t>
            </a:r>
            <a:r>
              <a:rPr b="0" lang="ja-JP" sz="4000" spc="-1" strike="noStrike">
                <a:solidFill>
                  <a:srgbClr val="ffffeb"/>
                </a:solidFill>
                <a:latin typeface="Courier New"/>
                <a:ea typeface="ＭＳ Ｐゴシック"/>
              </a:rPr>
              <a:t>中略）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  </a:t>
            </a:r>
            <a:r>
              <a:rPr b="1" lang="en-US" sz="4000" spc="-1" strike="noStrike">
                <a:solidFill>
                  <a:srgbClr val="ffcc00"/>
                </a:solidFill>
                <a:latin typeface="Courier New"/>
                <a:ea typeface="HGS創英角ﾎﾟｯﾌﾟ体"/>
              </a:rPr>
              <a:t>2262</a:t>
            </a:r>
            <a:r>
              <a:rPr b="1" lang="en-US" sz="4000" spc="-1" strike="noStrike">
                <a:solidFill>
                  <a:srgbClr val="ffffeb"/>
                </a:solidFill>
                <a:latin typeface="Courier New"/>
                <a:ea typeface="HGS創英角ﾎﾟｯﾌﾟ体"/>
              </a:rPr>
              <a:t> total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性能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関数型プログラム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ckerman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関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0.9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6.8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1.3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46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典型的な命令型プログラム（レイトレーシング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OCamlOpt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27.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未踏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コンパイラ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14.1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34960" indent="0">
              <a:spcBef>
                <a:spcPts val="700"/>
              </a:spcBef>
              <a:buNone/>
              <a:tabLst>
                <a:tab algn="l" pos="0"/>
                <a:tab algn="l" pos="38098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cc -mflat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（参考）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7.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秒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Ｋ正規化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eb"/>
                </a:solidFill>
                <a:latin typeface="Courier New"/>
              </a:rPr>
              <a:t>(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a + b) - (c * d)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なネストした式に対し、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901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1 = a + b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let tmp2 = c * d in</a:t>
            </a:r>
            <a:br>
              <a:rPr sz="3600"/>
            </a:b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	</a:t>
            </a:r>
            <a:r>
              <a:rPr b="1" lang="en-US" sz="3600" spc="-1" strike="noStrike">
                <a:solidFill>
                  <a:srgbClr val="ffffeb"/>
                </a:solidFill>
                <a:latin typeface="Courier New"/>
              </a:rPr>
              <a:t>tmp1 - tmp2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のように中間値をすべて明示化す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700"/>
              </a:spcBef>
              <a:buNone/>
              <a:tabLst>
                <a:tab algn="l" pos="0"/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とアセンブリのギャップ（の一つ）が埋ま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00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11430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様々な最適化等が簡単になる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の詳細：最適化等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Ｋ正規化すれば非常に簡単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インライン展開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nline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定数畳み込み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onstFold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不要定義削除 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elim.ml)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  <a:ea typeface="HGS創英角ﾎﾟｯﾌﾟ体"/>
              </a:rPr>
              <a:t>コンパイラは完成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アルゴリズム・ソースコードも「きれ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テストプログラム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25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個が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レイトレーシングも動作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東大、お茶の水大、東工大、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IST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などで使用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成果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目的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「きれい」でわかりやすい</a:t>
            </a:r>
            <a:br>
              <a:rPr sz="4000"/>
            </a:b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コンパイラを作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中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S創英角ﾎﾟｯﾌﾟ体"/>
              </a:rPr>
              <a:t>自体の宣伝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長期的には…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020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プログラミング言語研究の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「技術移転」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今後の方向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ドキュメントの整備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チュートリアル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「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30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分でわかる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OCaml</a:t>
            </a:r>
            <a:r>
              <a:rPr b="0" lang="en-US" sz="2800" spc="-1" strike="noStrike">
                <a:solidFill>
                  <a:srgbClr val="ffcc00"/>
                </a:solidFill>
                <a:latin typeface="HGS創英角ﾎﾟｯﾌﾟ体"/>
              </a:rPr>
              <a:t>」</a:t>
            </a:r>
            <a:r>
              <a:rPr b="0" lang="ja-JP" sz="2800" spc="-1" strike="noStrike">
                <a:solidFill>
                  <a:srgbClr val="ffcc00"/>
                </a:solidFill>
                <a:latin typeface="HGS創英角ﾎﾟｯﾌﾟ体"/>
              </a:rPr>
              <a:t>も予定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IA-32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アセンブリを生成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PARC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よりややこしい（２オペランドなど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サブセットの拡張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データ型、モジュール、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Garbage Collection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など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040" y="759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4308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蛇足：プログラミング言語研究の</a:t>
            </a:r>
            <a:br>
              <a:rPr sz="4000"/>
            </a:b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	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「技術移転」について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857160" indent="0" algn="ctr">
              <a:spcBef>
                <a:spcPts val="7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時間がかかりすぎ！</a:t>
            </a:r>
            <a:br>
              <a:rPr sz="3600"/>
            </a:br>
            <a:r>
              <a:rPr b="0" lang="ja-JP" sz="3600" spc="-1" strike="noStrike">
                <a:solidFill>
                  <a:srgbClr val="ffcc00"/>
                </a:solidFill>
                <a:latin typeface="HGS創英角ﾎﾟｯﾌﾟ体"/>
              </a:rPr>
              <a:t>もっと短縮できないか？</a:t>
            </a:r>
            <a:endParaRPr b="0" lang="en-US" sz="36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4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Lisp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6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Parametric Polymorphis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研究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7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++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STL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9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年代～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  <a:p>
            <a:pPr lvl="1" marL="735480" indent="-2829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3366"/>
                </a:solidFill>
                <a:latin typeface="HGS創英角ﾎﾟｯﾌﾟ体"/>
                <a:ea typeface="HGS創英角ﾎﾟｯﾌﾟ体"/>
              </a:rPr>
              <a:t>普及：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#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や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Java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の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Generics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（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つい最近）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What is ML?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iling List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　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≠　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arkup Language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　＝　</a:t>
            </a:r>
            <a:r>
              <a:rPr b="0" lang="en-US" sz="4000" spc="-1" strike="noStrike">
                <a:solidFill>
                  <a:srgbClr val="ffffeb"/>
                </a:solidFill>
                <a:latin typeface="HGS創英角ﾎﾟｯﾌﾟ体"/>
              </a:rPr>
              <a:t>Meta Language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単純で強力なプログラミング言語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主に関数型＋命令型、オブジェクトも有り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Milner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設計・実装（チューリング賞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Appel, Leroy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らにより発展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SML/NJ, OCaml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グラミング言語は自由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57280" indent="-214200">
              <a:spcBef>
                <a:spcPts val="601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プロも参加</a:t>
            </a:r>
            <a:r>
              <a:rPr b="0" lang="ja-JP" sz="2400" spc="-1" strike="noStrike">
                <a:solidFill>
                  <a:srgbClr val="ffffeb"/>
                </a:solidFill>
                <a:latin typeface="HGS創英角ﾎﾟｯﾌﾟ体"/>
              </a:rPr>
              <a:t>（</a:t>
            </a:r>
            <a:r>
              <a:rPr b="0" lang="en-US" sz="2400" spc="-1" strike="noStrike">
                <a:solidFill>
                  <a:srgbClr val="ffffeb"/>
                </a:solidFill>
                <a:latin typeface="HGS創英角ﾎﾟｯﾌﾟ体"/>
              </a:rPr>
              <a:t>Leroy, Peyton Jones, topcoder, ...)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05" name=""/>
          <p:cNvSpPr/>
          <p:nvPr/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Computer Language Shootout (shootout.alioth.debian.org)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様々な言語のマイクロベンチマーク</a:t>
            </a:r>
            <a:endParaRPr b="0" lang="en-US" sz="2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どう「単純で強力」なのか？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1219320" y="3505320"/>
          <a:ext cx="7619760" cy="1369800"/>
        </p:xfrm>
        <a:graphic>
          <a:graphicData uri="http://schemas.openxmlformats.org/drawingml/2006/table">
            <a:tbl>
              <a:tblPr/>
              <a:tblGrid>
                <a:gridCol w="838080"/>
                <a:gridCol w="1219320"/>
                <a:gridCol w="838080"/>
                <a:gridCol w="1066680"/>
                <a:gridCol w="990720"/>
                <a:gridCol w="1295280"/>
                <a:gridCol w="13716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１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２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３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４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５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６位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性能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Intel 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cc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MLto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lean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g++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行数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Perl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Ruby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Nice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S-Lang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SML/NJ</a:t>
                      </a:r>
                      <a:endParaRPr b="0" lang="en-US" sz="24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8" name=""/>
          <p:cNvGraphicFramePr/>
          <p:nvPr/>
        </p:nvGraphicFramePr>
        <p:xfrm>
          <a:off x="914400" y="1905120"/>
          <a:ext cx="8077320" cy="4566960"/>
        </p:xfrm>
        <a:graphic>
          <a:graphicData uri="http://schemas.openxmlformats.org/drawingml/2006/table">
            <a:tbl>
              <a:tblPr/>
              <a:tblGrid>
                <a:gridCol w="914400"/>
                <a:gridCol w="3048120"/>
                <a:gridCol w="2057400"/>
                <a:gridCol w="2057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年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課題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1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2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位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8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○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×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並列</a:t>
                      </a: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1368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99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S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0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イト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1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TML</a:t>
                      </a: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最適化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Dylan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2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荷物配送ゲーム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cc00"/>
                          </a:solidFill>
                          <a:latin typeface="HGS創英角ﾎﾟｯﾌﾟ体"/>
                          <a:ea typeface="HGS創英角ﾎﾟｯﾌﾟ体"/>
                        </a:rPr>
                        <a:t>OCam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3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レーシング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5760">
                      <a:solidFill>
                        <a:srgbClr val="ffffeb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04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アリ対戦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br>
                        <a:rPr sz="2800"/>
                      </a:b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&amp; C++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576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eb"/>
                          </a:solidFill>
                          <a:latin typeface="HGS創英角ﾎﾟｯﾌﾟ体"/>
                          <a:ea typeface="HGS創英角ﾎﾟｯﾌﾟ体"/>
                        </a:rPr>
                        <a:t>Haskell</a:t>
                      </a:r>
                      <a:endParaRPr b="0" lang="en-US" sz="2800" spc="-1" strike="noStrike">
                        <a:solidFill>
                          <a:srgbClr val="ffffeb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eb"/>
                      </a:solidFill>
                    </a:lnL>
                    <a:lnR w="13680">
                      <a:solidFill>
                        <a:srgbClr val="ffffeb"/>
                      </a:solidFill>
                    </a:lnR>
                    <a:lnT w="5760">
                      <a:solidFill>
                        <a:srgbClr val="ffffeb"/>
                      </a:solidFill>
                    </a:lnT>
                    <a:lnB w="13680">
                      <a:solidFill>
                        <a:srgbClr val="ffffeb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ICFP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コンテスト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私の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宣伝活動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ACM ICFP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コンテスト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0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2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優勝（東大）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549720" indent="-211320">
              <a:spcBef>
                <a:spcPts val="700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2004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年度主催 </a:t>
            </a:r>
            <a:r>
              <a:rPr b="0" lang="ja-JP" sz="2800" spc="-1" strike="noStrike">
                <a:solidFill>
                  <a:srgbClr val="ffffeb"/>
                </a:solidFill>
                <a:latin typeface="HGS創英角ﾎﾟｯﾌﾟ体"/>
              </a:rPr>
              <a:t>(</a:t>
            </a:r>
            <a:r>
              <a:rPr b="0" lang="en-US" sz="2800" spc="-1" strike="noStrike">
                <a:solidFill>
                  <a:srgbClr val="ffffeb"/>
                </a:solidFill>
                <a:latin typeface="HGS創英角ﾎﾟｯﾌﾟ体"/>
              </a:rPr>
              <a:t>Penn)</a:t>
            </a:r>
            <a:endParaRPr b="0" lang="en-US" sz="28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プログラミング・コンパイラ授業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（東大理学部情報科学科）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[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PU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実験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Bioinformatics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に使用（東大医科研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O'Reilly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</a:rPr>
              <a:t>の本を共同翻訳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-253800">
              <a:spcBef>
                <a:spcPts val="799"/>
              </a:spcBef>
              <a:buClr>
                <a:srgbClr val="ffcc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S創英角ﾎﾟｯﾌﾟ体"/>
              </a:rPr>
              <a:t>自分近傍のプログラミングはすべて</a:t>
            </a:r>
            <a:r>
              <a:rPr b="0" lang="en-US" sz="3200" spc="-1" strike="noStrike">
                <a:solidFill>
                  <a:srgbClr val="ffcc00"/>
                </a:solidFill>
                <a:latin typeface="HGS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2" name=""/>
          <p:cNvSpPr/>
          <p:nvPr/>
        </p:nvSpPr>
        <p:spPr>
          <a:xfrm>
            <a:off x="5105520" y="3886200"/>
            <a:ext cx="2057400" cy="609480"/>
          </a:xfrm>
          <a:prstGeom prst="rect">
            <a:avLst/>
          </a:prstGeom>
          <a:noFill/>
          <a:ln w="38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なぜ美しいコンパイラを作るのか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Symbol"/>
                <a:ea typeface="Symbol"/>
              </a:rPr>
              <a:t>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プログラマや学生にわかりやすい</a:t>
            </a:r>
            <a:br>
              <a:rPr sz="4000"/>
            </a:b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チュートリアルや実装や公開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5380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（</a:t>
            </a:r>
            <a:r>
              <a:rPr b="0" lang="ja-JP" sz="4000" spc="-1" strike="noStrike" u="sng">
                <a:solidFill>
                  <a:srgbClr val="ffcc00"/>
                </a:solidFill>
                <a:uFillTx/>
                <a:latin typeface="HGS創英角ﾎﾟｯﾌﾟ体"/>
              </a:rPr>
              <a:t>短いほど良い</a:t>
            </a:r>
            <a:r>
              <a:rPr b="0" lang="ja-JP" sz="4000" spc="-1" strike="noStrike">
                <a:solidFill>
                  <a:srgbClr val="ffcc00"/>
                </a:solidFill>
                <a:latin typeface="HGS創英角ﾎﾟｯﾌﾟ体"/>
              </a:rPr>
              <a:t>）</a:t>
            </a:r>
            <a:endParaRPr b="0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5" name=""/>
          <p:cNvSpPr/>
          <p:nvPr/>
        </p:nvSpPr>
        <p:spPr>
          <a:xfrm>
            <a:off x="91440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L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が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"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Minor Language"</a:t>
            </a: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である原因：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よく知らないから使わない</a:t>
            </a: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S創英角ﾎﾟｯﾌﾟ体"/>
                <a:ea typeface="HGS創英角ﾎﾟｯﾌﾟ体"/>
              </a:rPr>
              <a:t>「仕組みがわからないから使わない」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1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400" y="1752480"/>
            <a:ext cx="8229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42592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::=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式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c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定数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op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算術演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if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the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els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条件分岐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変数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rec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y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定義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関数呼び出し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-3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対象とする</a:t>
            </a: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ML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サブセット</a:t>
            </a:r>
            <a:r>
              <a:rPr b="1" lang="ja-JP" sz="4000" spc="-1" strike="noStrike">
                <a:solidFill>
                  <a:srgbClr val="ffffeb"/>
                </a:solidFill>
                <a:latin typeface="HGS創英角ﾎﾟｯﾌﾟ体"/>
              </a:rPr>
              <a:t>(2/2)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7372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 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::=</a:t>
            </a:r>
            <a:br>
              <a:rPr sz="3200"/>
            </a:br>
            <a:r>
              <a:rPr b="1" lang="ja-JP" sz="3200" spc="-1" strike="noStrike">
                <a:solidFill>
                  <a:srgbClr val="ffffeb"/>
                </a:solidFill>
                <a:latin typeface="Arial"/>
              </a:rPr>
              <a:t>...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を作る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let 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,...,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x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=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in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組から読み出し</a:t>
            </a:r>
            <a:br>
              <a:rPr sz="3200"/>
            </a:b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Array.create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0" lang="en-US" sz="3200" spc="-1" strike="noStrike" baseline="-25000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を作る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N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から読み出し</a:t>
            </a:r>
            <a:br>
              <a:rPr sz="3200"/>
            </a:b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1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.(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2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) </a:t>
            </a:r>
            <a:r>
              <a:rPr b="1" lang="en-US" sz="3200" spc="-1" strike="noStrike">
                <a:solidFill>
                  <a:srgbClr val="ffffeb"/>
                </a:solidFill>
                <a:latin typeface="Symbol"/>
                <a:ea typeface="Symbol"/>
              </a:rPr>
              <a:t></a:t>
            </a:r>
            <a:r>
              <a:rPr b="1" lang="en-US" sz="3200" spc="-1" strike="noStrike">
                <a:solidFill>
                  <a:srgbClr val="ffffeb"/>
                </a:solidFill>
                <a:latin typeface="Arial"/>
              </a:rPr>
              <a:t> </a:t>
            </a:r>
            <a:r>
              <a:rPr b="1" i="1" lang="en-US" sz="3200" spc="-1" strike="noStrike">
                <a:solidFill>
                  <a:srgbClr val="ffffeb"/>
                </a:solidFill>
                <a:latin typeface="Arial"/>
              </a:rPr>
              <a:t>M</a:t>
            </a:r>
            <a:r>
              <a:rPr b="1" i="1" lang="en-US" sz="3200" spc="-1" strike="noStrike" baseline="-25000">
                <a:solidFill>
                  <a:srgbClr val="ffffeb"/>
                </a:solidFill>
                <a:latin typeface="Arial"/>
              </a:rPr>
              <a:t>3</a:t>
            </a:r>
            <a:r>
              <a:rPr b="0" lang="en-US" sz="3200" spc="-1" strike="noStrike">
                <a:solidFill>
                  <a:srgbClr val="ffffeb"/>
                </a:solidFill>
                <a:latin typeface="Arial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Arial"/>
              </a:rPr>
              <a:t>配列へ書き込み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dcterms:modified xsi:type="dcterms:W3CDTF">2005-02-11T07:05:46Z</dcterms:modified>
  <cp:revision>944</cp:revision>
  <dc:subject/>
  <dc:title>A Bisimulation for Type Abstraction and Recursion</dc:title>
</cp:coreProperties>
</file>