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7A0CB-B707-4261-87E8-5BA5BE3D8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4759F-A331-4D92-8100-503FFD36D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5ABE5-CF56-4891-BEE1-6FE1539DA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0CC62-E889-4960-9941-4DC404303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DA67F-975D-4DE5-9B5F-A71A7C91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79A3A-D408-4E23-AD12-EC88EB0C8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6DC74-9B6C-4CA7-BFFD-CC3A3B4BF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6365-7AE8-4E26-B93D-F0F78862D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6A6FB-B21D-4FA1-A71A-64F452CED1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AC220-6D81-4CE3-9F17-0CD0FDA8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D82C7-869B-4B08-9369-3D6A45214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5449C-EC68-49AF-B2E4-8E11E8B7FC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C347C-2157-42A8-9B31-BFDF7FA9E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C0DF8-FECD-47F3-8153-BD9D2D908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29A99-2F87-4A1D-9DA7-0440AA8E4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63877E-8148-45A8-9BEF-0FCC76883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165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156720" y="175248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763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165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156720" y="3702960"/>
            <a:ext cx="289512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80523-67D8-4614-B26E-51EA78CC2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362D-27B1-42E9-8382-B846E9B23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ABA22-8C41-40FF-846B-74160C1AB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4903-8A58-4635-AB6B-3A313BD24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76320" y="75960"/>
            <a:ext cx="89913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6CA6-F62E-45BA-B76A-2A41FEC31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93AC9-2B88-4EC0-AB46-8746158443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83600" y="370296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85CA4-E7E6-457F-BF22-2643BE4C8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7632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83600" y="1752480"/>
            <a:ext cx="438768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76320" y="3702960"/>
            <a:ext cx="8991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A33EC-F154-487A-BB7B-4094C5AC7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320" y="75960"/>
            <a:ext cx="8991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HGS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HGS創英角ﾎﾟｯﾌﾟ体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eb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BBC980-BBB8-4A01-99CD-B3D1129D066C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28240" y="1295280"/>
            <a:ext cx="8686800" cy="319320"/>
            <a:chOff x="228240" y="1295280"/>
            <a:chExt cx="8686800" cy="319320"/>
          </a:xfrm>
        </p:grpSpPr>
        <p:sp>
          <p:nvSpPr>
            <p:cNvPr id="6" name=""/>
            <p:cNvSpPr/>
            <p:nvPr/>
          </p:nvSpPr>
          <p:spPr>
            <a:xfrm>
              <a:off x="676080" y="129528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>
              <a:off x="227880" y="129528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7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D5A84-DE75-4899-A635-33A75AABDEDD}" type="slidenum">
              <a:rPr b="1" lang="en-US" sz="2600" spc="-1" strike="noStrike">
                <a:solidFill>
                  <a:srgbClr val="003366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HGS創英角ﾎﾟｯﾌﾟ体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6320" y="1752480"/>
            <a:ext cx="899136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背景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単純で強力なプログラミング言語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C++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の性能、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Java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や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Ruby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以上の簡単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639000" indent="-24552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HGP創英角ﾎﾟｯﾌﾟ体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国際プログラミングコンテストやベンチマークで実証ずみ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-294840">
              <a:lnSpc>
                <a:spcPct val="100000"/>
              </a:lnSpc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学界では有名だが、一般には無名　⇒　</a:t>
            </a:r>
            <a:r>
              <a:rPr b="0" lang="en-US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宣伝活動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今回の目標：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「きれい」で「わかりやすい」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コンパイラ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⇒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　「</a:t>
            </a:r>
            <a:r>
              <a:rPr b="0" lang="en-US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はよくわからないから使わない」を打ち破る</a:t>
            </a:r>
            <a:endParaRPr b="0" lang="en-US" sz="24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29484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成果： 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わずか２千行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で有名コンパイラ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(</a:t>
            </a:r>
            <a:r>
              <a:rPr b="0" lang="en-US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OCaml, GCC)</a:t>
            </a: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と同等以上の性能を達成、東大などで教育利用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2004</a:t>
            </a:r>
            <a:r>
              <a:rPr b="0" lang="ja-JP" sz="16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年度未踏ソフトウェア創造事業</a:t>
            </a:r>
            <a:endParaRPr b="0" lang="en-US" sz="1600" spc="-1" strike="noStrike">
              <a:solidFill>
                <a:srgbClr val="ffffeb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「美しい日本の</a:t>
            </a:r>
            <a:r>
              <a:rPr b="0" lang="en-US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ML</a:t>
            </a:r>
            <a:r>
              <a:rPr b="0" lang="ja-JP" sz="40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コンパイラ」</a:t>
            </a:r>
            <a:endParaRPr b="0" lang="en-US" sz="4000" spc="-1" strike="noStrike">
              <a:solidFill>
                <a:srgbClr val="ffffeb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開発代表者： 住井英二郎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066680" y="4343400"/>
            <a:ext cx="7010640" cy="53352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76320" y="76320"/>
            <a:ext cx="8991360" cy="67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行数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&gt;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wc -l *.ml*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52 alpha.m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     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2 alpha.mli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urier New"/>
              </a:rPr>
              <a:t>（中略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   </a:t>
            </a:r>
            <a:r>
              <a:rPr b="1" lang="ja-JP" sz="3200" spc="-1" strike="noStrike">
                <a:solidFill>
                  <a:srgbClr val="ffcc00"/>
                </a:solidFill>
                <a:latin typeface="Courier New"/>
              </a:rPr>
              <a:t>2241 </a:t>
            </a:r>
            <a:r>
              <a:rPr b="1" lang="en-US" sz="3200" spc="-1" strike="noStrike">
                <a:solidFill>
                  <a:srgbClr val="ffcc00"/>
                </a:solidFill>
                <a:latin typeface="Courier New"/>
              </a:rPr>
              <a:t>total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性能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関数型プログラム（アッカーマン関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6.8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0.9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HGP創英角ﾎﾟｯﾌﾟ体"/>
                <a:ea typeface="HGP創英角ﾎﾟｯﾌﾟ体"/>
              </a:rPr>
              <a:t>典型的な命令型プログラム（レイトレーシング）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  <a:p>
            <a:pPr lvl="1" marL="743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GCC 14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OCaml 36.7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　未踏</a:t>
            </a:r>
            <a:r>
              <a:rPr b="0" lang="en-US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ML 17.0</a:t>
            </a:r>
            <a:r>
              <a:rPr b="0" lang="ja-JP" sz="3200" spc="-1" strike="noStrike">
                <a:solidFill>
                  <a:srgbClr val="ffcc00"/>
                </a:solidFill>
                <a:latin typeface="HGP創英角ﾎﾟｯﾌﾟ体"/>
                <a:ea typeface="HGP創英角ﾎﾟｯﾌﾟ体"/>
              </a:rPr>
              <a:t>秒</a:t>
            </a:r>
            <a:endParaRPr b="0" lang="en-US" sz="3200" spc="-1" strike="noStrike">
              <a:solidFill>
                <a:srgbClr val="ffffeb"/>
              </a:solidFill>
              <a:latin typeface="HGS創英角ﾎﾟｯﾌﾟ体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2666880"/>
            <a:ext cx="2514600" cy="45720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867280" y="4419720"/>
            <a:ext cx="2667240" cy="53316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943600" y="5562720"/>
            <a:ext cx="2895480" cy="609480"/>
          </a:xfrm>
          <a:prstGeom prst="rect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05T19:02:24Z</dcterms:created>
  <dc:creator>住井 英二郎</dc:creator>
  <dc:description/>
  <dc:language>en-US</dc:language>
  <cp:lastModifiedBy>住井 英二郎</cp:lastModifiedBy>
  <cp:lastPrinted>2009-04-22T19:24:48Z</cp:lastPrinted>
  <dcterms:modified xsi:type="dcterms:W3CDTF">2005-02-25T05:26:45Z</dcterms:modified>
  <cp:revision>999</cp:revision>
  <dc:subject/>
  <dc:title>A Bisimulation for Type Abstraction and Recursion</dc:title>
</cp:coreProperties>
</file>