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2BC84-E048-41D7-8CB5-96A210F730DF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Eijiro Sumii from Tohok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m going to talk abou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_very_ simple _and_ efficient compil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a small but non-trivial functional langu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was developed in year 2001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I took over the compiler lab clas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lass, MinCaml is used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are given high-level descriptions of Min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Japanese prose and mathematical pseudo-cod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’ll give examples of the pseudo-code la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descriptions, each _group_ is required t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 the compiler for their own CP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every _student_ is required to solve small exercise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hand compilation of tiny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use of MinCaml in Tokyo has been successfu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sense that students like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of them implemented polymorphism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means of code duplication like MLt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, inter-procedural register allo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 on _even though_ I didn’t tell them to do so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thers started a portal site in Japanese for OCaml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ranslated its manuals, again without being tol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also been used by outsid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body anonymous published a nice commentary about MinCaml on the Web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lementing my own tutorial, but I _really_ don’t know the auth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so, according to their blogs, some Ruby hacker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ld a seminar to read the source code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Prof. Asai, sitting there, is using MinCaml for some research and educa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chanomizu Univers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K, that’s enough pedagogy;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move on to technical detai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mpiler for the class had to be as simple as possibl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cause the students are undergraduate.</a:t>
            </a:r>
            <a:br>
              <a:rPr sz="1200"/>
            </a:b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the same time, it had to be efficient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least for one application: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iven these requirements, I designed the source language of our compiler clas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 of all, it is a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eaning no destructive update of variab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it is _definitely_ not C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other words, it is a kind of static single assignment form in the first pla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higher-order, call-by-value, impure for I/O and destructive update of _arrays_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the efficiency of floating-point number computations in ray trac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implicitly typed but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language is named MinCaml, because its syntax is a minimal subset of Objective 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the syntax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constants, primitives for arithmetic, conditional branche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variable definitions, reading from variables, recursive function defini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function application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don’t support partial function applica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it is easy to implement by a type-based transform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also have tuple creations, reading from tupl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rray creations, reading from arrays, writing to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un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reading from tuples is a pattern matching form instead of a projection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o avoid the flex record problem in type inference like Standard 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syntax is literally implemented as an ML data type Syntax.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is _intended_ to be a minimal functional languag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_everything_ else is o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example, we _don’t_ have array boundary check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ough this one is easy to implement; we don’t hav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arbage collection; we don’t have data types or pattern match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olymorphism, exceptions, or objects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mplementation of these features is optional homework: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ast, some students did implement a few of them;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lained that the lab is too easy!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rom this year, it becomes compulsory to implement at least tw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verall structure of the MinCaml compiler look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t is a sequence of transformations from the source language to SPARC assemb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numbers are the code lines of each module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lexing, parsing, type inference,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 am not going to lecture a full compiler cours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let’s have a short look at each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compiler is as simple as only 2000 lines of O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yet, it is almost as efficient as OCamlOpt and even GC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or several applications such as ray tracing and Huffman enco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OCamlOpt compiles O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GCC compiles C, 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compiles a small functional languag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are comparing _different_ implementations of the same application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the optimal style of each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inCaml has been used in an undergraduate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CS major in the University of Tokyo since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the way, I myself am no longer in Tokyo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I moved to Pennsylvania and then to Tohoku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MinCaml is still used in Tokyo by my successo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exing and parsing are totally standard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re just given by the instructor in OCamlLex and OCamlYacc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algorithms for lexing and parsing are already covered in the previous compiler l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lternatively, we could use simpler algorithms like packrat pars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ut we haven’t yet implemented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monomorpihc type inference is also very standard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using ML references for unification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lso easy because students have already implement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even polymorphic type inference in a previous lab on programming langu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nly non-standard point is that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types of free variables are automatically inferred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external functions or array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don’t have to declare their types by hand.</a:t>
            </a:r>
            <a:br>
              <a:rPr sz="1200"/>
            </a:b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principal typing is possible because our types are monomorphi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ith ML-polymorphism, this is known to be impossi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outline of this talk is like th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First, I talk about the pedagogical backgroud of MinCaml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the computer science major curriculum in Toky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we look at a little details of MinCaml itself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experiments to see the efficiency of MinCam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okyo, _all_ undergraduate students first study liberal arts for 1.5 year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English, a second foreign language, mathematic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ogic (including topics like Goedel’s incompleteness theorem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physics, chemistry and so 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all of them take a computer literacy cours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(this is almost equivalent to how to use UNIX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ecause everybody knows how to use Windows already)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study introductory computer science, Java programming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data structures such as lists and tre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about 30 of them choose the computer science majo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 standard CS courses such as algorithms, operating systems, and architectu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ticular, they learn programming languages inclu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PARC assembly, ..., and Prolo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se imperative languages are mainly used in operating system and architectur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ile these more declarative languages are mainly used in programming language class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programming language class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first learn basic programming in Scheme, OCaml, and Prolog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study how these languages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by implementing min-interpret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also write realistic applica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Othello or Reversi program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ompeting with each oth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parallel, they take classes on compilers and programming language theories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uch as parsing, register allocation, garbage collection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lambda-calculus and type the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addition, we have very interesting laboratory work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called CPU lab and compiler lab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group work; each group consists of 5 to 6 stud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design and implement an original CPU using a programmable L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ypically, their CPUs are about 2 or 3 times slower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an real CPUs such as UltraSPAR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n, they develop a compiler for the original CPU;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where MinCaml is us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In the end of the semester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y compete by the speed of ray tracing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ritten in MinCaml and run on their CP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Just for fun, this is how the hardware looks lik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e have the programmable LSI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me RAMs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 USB port her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some LEDs here for debugg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tudents may also add some hardware onto this extension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is an example of a scene rendered by the ray trac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is “tron” car is made of intersections and differences of ellipsoid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The surface of this ball is a mirr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his wall is a mirror, to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Here is another example, made by a friend of mine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when we took a previous version of this class 9 years ag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s you can see, this scene is full of reflections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and takes a lot of time to rend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Of course, MinCaml didn’t exist at that time,</a:t>
            </a:r>
            <a:br>
              <a:rPr sz="1200"/>
            </a:b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so we ported GCC to our CPU, which was a pa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EF383-1D4F-4F8E-BEB1-F19DD549B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D9E1E-D62A-4EE0-9097-277A2789C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1E8F6-C31E-41EE-9086-BE2BE9DCF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7B7E6-3331-44D0-B1E5-5E38D145C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E10C1-3E4D-406F-ABC8-976A1E40B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4E87D0-70E9-4ADE-A21D-08C63DCE9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E1E0C-EDA4-4176-942D-15F487D1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74B4A-946F-44EC-95F1-2AE6E0BFC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D1E38-D988-4BAF-8C05-AEDDA4CAC1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D61961-F82B-4D3C-9DCA-F10DFFA66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8A95D-D447-4A04-AA13-951CA57A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950F-6015-4A8F-BEF1-608246007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317A8-D513-4532-A25B-66FC8A1E9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945AA-C21E-4820-A2D6-BA6C11BAE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33044-9C63-4019-A3D9-93310839B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070F17-B41E-418F-83A7-F6210434D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6194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324840" y="175248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9140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6194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324840" y="3702960"/>
            <a:ext cx="25761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0AE22F-0B53-432C-92FF-A1FD986B4C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1FF3B-96CC-49C5-A7E0-6369EE8F4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C5A2D-0E51-4F4E-837D-6856446B8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3A9BA-49C6-49FB-BB7C-F890A0ADF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14040" y="19800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18E0F-7808-45CC-8938-E048E2A22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8E1B1-0E77-4EFD-9026-25D1D0D6C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3720" y="370296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221FB-9810-4775-A827-4D72FA555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3720" y="1752480"/>
            <a:ext cx="39042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914040" y="3702960"/>
            <a:ext cx="80010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28176-55D3-4D52-9A00-1A4A804D8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76212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99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2" marL="1028520" indent="-2055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3" marL="1440000" indent="-205560">
              <a:spcBef>
                <a:spcPts val="7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4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5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6" marL="1851480" indent="-205560">
              <a:spcBef>
                <a:spcPts val="7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83880" y="5946840"/>
            <a:ext cx="58716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53668-6033-46EE-A2FE-3CF08BE7A96E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228240" y="1380960"/>
            <a:ext cx="8686800" cy="319320"/>
            <a:chOff x="228240" y="1380960"/>
            <a:chExt cx="8686800" cy="319320"/>
          </a:xfrm>
        </p:grpSpPr>
        <p:sp>
          <p:nvSpPr>
            <p:cNvPr id="7" name=""/>
            <p:cNvSpPr/>
            <p:nvPr/>
          </p:nvSpPr>
          <p:spPr>
            <a:xfrm>
              <a:off x="676080" y="1380960"/>
              <a:ext cx="823896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>
              <a:off x="227880" y="1380960"/>
              <a:ext cx="462600" cy="31932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8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eb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e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eb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6"/>
          </p:nvPr>
        </p:nvSpPr>
        <p:spPr>
          <a:xfrm>
            <a:off x="9360" y="5962320"/>
            <a:ext cx="587520" cy="88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33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F449B-0F96-4320-A8A6-E0070A85FF29}" type="slidenum">
              <a:rPr b="1" lang="en-US" sz="2600" spc="-1" strike="noStrike">
                <a:solidFill>
                  <a:srgbClr val="0033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econd Outline Level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2" marL="914400" algn="ctr">
              <a:spcBef>
                <a:spcPts val="601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eb"/>
                </a:solidFill>
                <a:latin typeface="Comic Sans MS"/>
              </a:rPr>
              <a:t>Third Outline Level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3" marL="1371600" algn="ctr">
              <a:spcBef>
                <a:spcPts val="499"/>
              </a:spcBef>
              <a:buClr>
                <a:srgbClr val="ffffeb"/>
              </a:buClr>
              <a:buSzPct val="80000"/>
              <a:buFont typeface="Comic Sans MS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our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4" marL="1828800" algn="ctr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Fif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5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ix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  <a:p>
            <a:pPr lvl="6" marL="1828800">
              <a:spcBef>
                <a:spcPts val="499"/>
              </a:spcBef>
              <a:buClr>
                <a:srgbClr val="ffffeb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eb"/>
                </a:solidFill>
                <a:latin typeface="Comic Sans MS"/>
              </a:rPr>
              <a:t>Seventh Outline Level</a:t>
            </a:r>
            <a:endParaRPr b="0" lang="en-US" sz="20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71640" y="1341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MinCaml: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A Simple and Efficient Compiler</a:t>
            </a:r>
            <a:br>
              <a:rPr sz="3600"/>
            </a:br>
            <a:r>
              <a:rPr b="1" lang="ja-JP" sz="3600" spc="-1" strike="noStrike">
                <a:solidFill>
                  <a:srgbClr val="ffffeb"/>
                </a:solidFill>
                <a:latin typeface="Comic Sans MS"/>
              </a:rPr>
              <a:t>for a Minimal Functional Language </a:t>
            </a:r>
            <a:endParaRPr b="1" lang="en-US" sz="36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365760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ijiro Sumii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hok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97000" y="5373720"/>
            <a:ext cx="3051000" cy="115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How is MinCaml Used?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are given high-level descriptions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 Japanese and pseudo-cod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Each grou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s required to implement the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8520" indent="-308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very stud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s required to solve small exercis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68520" indent="-2570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uch as hand compila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udents liked ML!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polymorphism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like MLton), garbage collec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ter-procedural register allocation, etc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tarted a portal site (www.ocaml.jp) with Japanese translations of the OCaml manual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without being tol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come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lvl="1" marL="5572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Outsiders" are also using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omebody anonymous wrote a comprehensive commentary on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uby hackers organized an independent seminar to study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rof. Asai is using MinCaml in Ochanomizu Universit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Goal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s simple as possibl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bu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ble to </a:t>
            </a: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ly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execute</a:t>
            </a:r>
            <a:br>
              <a:rPr sz="3200"/>
            </a:br>
            <a:r>
              <a:rPr b="0" lang="en-US" sz="3200" spc="-1" strike="noStrike" u="sng">
                <a:solidFill>
                  <a:srgbClr val="ffffeb"/>
                </a:solidFill>
                <a:uFillTx/>
                <a:latin typeface="Comic Sans MS"/>
              </a:rPr>
              <a:t>non-trivial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 applications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(such as ray tracing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Languag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unctional: no destructive update of </a:t>
            </a:r>
            <a:r>
              <a:rPr b="0" lang="ja-JP" sz="3200" spc="-1" strike="noStrike" u="sng">
                <a:solidFill>
                  <a:srgbClr val="ffcc00"/>
                </a:solidFill>
                <a:uFillTx/>
                <a:latin typeface="Comic Sans MS"/>
              </a:rPr>
              <a:t>variables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(cf. SSA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Higher-ord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all-by-valu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ur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Input/outpu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tructive update of </a:t>
            </a:r>
            <a:r>
              <a:rPr b="0" lang="ja-JP" sz="2800" spc="-1" strike="noStrike" u="sng">
                <a:solidFill>
                  <a:srgbClr val="ffffeb"/>
                </a:solidFill>
                <a:uFillTx/>
                <a:latin typeface="Comic Sans MS"/>
              </a:rPr>
              <a:t>array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icitly type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onomorphi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1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64627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no partial application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ont.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(2/2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 (expressions)  ::=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= M in N       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cf.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#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i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rray.create M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.(N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.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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terally implemented as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L data type Syntax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verything else is omitted!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6000"/>
          </a:bodyPr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Array boundary checking (easy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Garbage collec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Data types and pattern match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Polymorphis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xcep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-2606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Objects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lnSpc>
                <a:spcPct val="50000"/>
              </a:lnSpc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0640" indent="0" algn="ctr">
              <a:spcBef>
                <a:spcPts val="799"/>
              </a:spcBef>
              <a:buNone/>
              <a:tabLst>
                <a:tab algn="l" pos="0"/>
                <a:tab algn="l" pos="681984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Optional homework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(</a:t>
            </a:r>
            <a:r>
              <a:rPr b="0" lang="en-US" sz="3200" spc="-1" strike="noStrike">
                <a:solidFill>
                  <a:srgbClr val="ffcc00"/>
                </a:solidFill>
                <a:latin typeface="Symbol"/>
                <a:ea typeface="Symbol"/>
              </a:rPr>
              <a:t></a:t>
            </a: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 2 compulsory from this yea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4" name=""/>
          <p:cNvSpPr/>
          <p:nvPr/>
        </p:nvSpPr>
        <p:spPr>
          <a:xfrm>
            <a:off x="2050920" y="5516640"/>
            <a:ext cx="6121440" cy="1081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3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c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8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00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48" name=""/>
          <p:cNvCxnSpPr>
            <a:stCxn id="137" idx="3"/>
            <a:endCxn id="13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49" name=""/>
          <p:cNvCxnSpPr>
            <a:stCxn id="136" idx="3"/>
            <a:endCxn id="13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0" name=""/>
          <p:cNvCxnSpPr>
            <a:stCxn id="139" idx="3"/>
            <a:endCxn id="13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1" name=""/>
          <p:cNvCxnSpPr>
            <a:stCxn id="143" idx="2"/>
            <a:endCxn id="14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2" name=""/>
          <p:cNvCxnSpPr>
            <a:stCxn id="147" idx="3"/>
            <a:endCxn id="13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3" name=""/>
          <p:cNvCxnSpPr>
            <a:stCxn id="138" idx="2"/>
            <a:endCxn id="15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5" name=""/>
          <p:cNvCxnSpPr>
            <a:stCxn id="141" idx="1"/>
            <a:endCxn id="14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6" name=""/>
          <p:cNvCxnSpPr>
            <a:stCxn id="140" idx="1"/>
            <a:endCxn id="14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7" name=""/>
          <p:cNvCxnSpPr>
            <a:stCxn id="142" idx="3"/>
            <a:endCxn id="14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8" name=""/>
          <p:cNvCxnSpPr>
            <a:stCxn id="145" idx="3"/>
            <a:endCxn id="14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59" name=""/>
          <p:cNvCxnSpPr>
            <a:stCxn id="144" idx="3"/>
            <a:endCxn id="16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61" name=""/>
          <p:cNvCxnSpPr>
            <a:stCxn id="143" idx="0"/>
            <a:endCxn id="15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6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5" name=""/>
          <p:cNvCxnSpPr>
            <a:stCxn id="154" idx="1"/>
            <a:endCxn id="17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76" name=""/>
          <p:cNvCxnSpPr>
            <a:stCxn id="174" idx="1"/>
            <a:endCxn id="14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7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60" idx="3"/>
            <a:endCxn id="14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18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Highligh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7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Simpl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nd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efficien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compiler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Only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2000 lin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of O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 comparable to OCamlOpt and GCC for several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Ray tracing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 Huffman encoding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Used for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undergraduate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n Tokyo since 2001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Lexing and Pars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Written in OCamlLex and OCamlYac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iven by the instructer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-285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Algorithms are out of scop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packrat parsing [Ford 2002]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Type Inference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ased on standard unification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using ML referenc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Let-polymorphic version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lready taught in PL lab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ree variables are treated as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external functions (or arrays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94360" indent="-2286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"Principal typing" [Jim 96] is</a:t>
            </a:r>
            <a:br>
              <a:rPr sz="2800"/>
            </a:b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utomatically inferred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86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198" name=""/>
          <p:cNvCxnSpPr>
            <a:stCxn id="187" idx="3"/>
            <a:endCxn id="186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199" name=""/>
          <p:cNvCxnSpPr>
            <a:stCxn id="186" idx="3"/>
            <a:endCxn id="189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0" name=""/>
          <p:cNvCxnSpPr>
            <a:stCxn id="189" idx="3"/>
            <a:endCxn id="188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1" name=""/>
          <p:cNvCxnSpPr>
            <a:stCxn id="193" idx="2"/>
            <a:endCxn id="192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2" name=""/>
          <p:cNvCxnSpPr>
            <a:stCxn id="197" idx="3"/>
            <a:endCxn id="187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3" name=""/>
          <p:cNvCxnSpPr>
            <a:stCxn id="188" idx="2"/>
            <a:endCxn id="204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5" name=""/>
          <p:cNvCxnSpPr>
            <a:stCxn id="191" idx="1"/>
            <a:endCxn id="190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6" name=""/>
          <p:cNvCxnSpPr>
            <a:stCxn id="190" idx="1"/>
            <a:endCxn id="193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7" name=""/>
          <p:cNvCxnSpPr>
            <a:stCxn id="192" idx="3"/>
            <a:endCxn id="195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8" name=""/>
          <p:cNvCxnSpPr>
            <a:stCxn id="195" idx="3"/>
            <a:endCxn id="194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09" name=""/>
          <p:cNvCxnSpPr>
            <a:stCxn id="194" idx="3"/>
            <a:endCxn id="210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11" name=""/>
          <p:cNvCxnSpPr>
            <a:stCxn id="193" idx="0"/>
            <a:endCxn id="204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12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5" name=""/>
          <p:cNvCxnSpPr>
            <a:stCxn id="204" idx="1"/>
            <a:endCxn id="224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26" name=""/>
          <p:cNvCxnSpPr>
            <a:stCxn id="224" idx="1"/>
            <a:endCxn id="191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27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29" name=""/>
          <p:cNvCxnSpPr>
            <a:stCxn id="210" idx="3"/>
            <a:endCxn id="196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30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K-Normal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 + b + c * 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1 = a + b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tmp2 = c * d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mp1 + tmp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Nesting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is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allowed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(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-21420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implifies the normalization and inlin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Cf. A-normalization by CP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3" name=""/>
          <p:cNvSpPr/>
          <p:nvPr/>
        </p:nvSpPr>
        <p:spPr>
          <a:xfrm>
            <a:off x="3059280" y="1773360"/>
            <a:ext cx="3673440" cy="2735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yntax of K-Normal Form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, N ::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 in 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... y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..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mplemented as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lgorithm of K-Normalization: Pseudo-Code Given to Student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 : Syntax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op(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M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... let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= K(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op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then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else K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K(M) in K(N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buNone/>
              <a:tabLst>
                <a:tab algn="l" pos="0"/>
                <a:tab algn="l" pos="717552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Conversion (Anothe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of Pseudo-Code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: KNormal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Id.t Map.t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KNormal.t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spcBef>
                <a:spcPts val="799"/>
              </a:spcBef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op(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, ..., x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op(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, ...,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if x then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66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 the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let x = M in N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x' fresh)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' =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M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N)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x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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x'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>
              <a:lnSpc>
                <a:spcPct val="100000"/>
              </a:lnSpc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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</a:t>
            </a:r>
            <a:r>
              <a:rPr b="0" lang="ja-JP" sz="3200" spc="-1" strike="noStrike">
                <a:solidFill>
                  <a:srgbClr val="ff6600"/>
                </a:solidFill>
                <a:latin typeface="Comic Sans MS"/>
              </a:rPr>
              <a:t>x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=  </a:t>
            </a:r>
            <a:r>
              <a:rPr b="0" lang="ja-JP" sz="3200" spc="-1" strike="noStrike">
                <a:solidFill>
                  <a:srgbClr val="ffcc00"/>
                </a:solidFill>
                <a:latin typeface="Symbol"/>
                <a:ea typeface="Symbol"/>
              </a:rPr>
              <a:t>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x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40120" indent="0" algn="r">
              <a:buNone/>
              <a:tabLst>
                <a:tab algn="l" pos="0"/>
                <a:tab algn="l" pos="57405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tc.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41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53" name=""/>
          <p:cNvCxnSpPr>
            <a:stCxn id="242" idx="3"/>
            <a:endCxn id="241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4" name=""/>
          <p:cNvCxnSpPr>
            <a:stCxn id="241" idx="3"/>
            <a:endCxn id="244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5" name=""/>
          <p:cNvCxnSpPr>
            <a:stCxn id="244" idx="3"/>
            <a:endCxn id="243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6" name=""/>
          <p:cNvCxnSpPr>
            <a:stCxn id="248" idx="2"/>
            <a:endCxn id="247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7" name=""/>
          <p:cNvCxnSpPr>
            <a:stCxn id="252" idx="3"/>
            <a:endCxn id="242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58" name=""/>
          <p:cNvCxnSpPr>
            <a:stCxn id="243" idx="2"/>
            <a:endCxn id="259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0" name=""/>
          <p:cNvCxnSpPr>
            <a:stCxn id="246" idx="1"/>
            <a:endCxn id="245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1" name=""/>
          <p:cNvCxnSpPr>
            <a:stCxn id="245" idx="1"/>
            <a:endCxn id="248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2" name=""/>
          <p:cNvCxnSpPr>
            <a:stCxn id="247" idx="3"/>
            <a:endCxn id="250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3" name=""/>
          <p:cNvCxnSpPr>
            <a:stCxn id="250" idx="3"/>
            <a:endCxn id="249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4" name=""/>
          <p:cNvCxnSpPr>
            <a:stCxn id="249" idx="3"/>
            <a:endCxn id="265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66" name=""/>
          <p:cNvCxnSpPr>
            <a:stCxn id="248" idx="0"/>
            <a:endCxn id="259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67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0" name=""/>
          <p:cNvCxnSpPr>
            <a:stCxn id="259" idx="1"/>
            <a:endCxn id="279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281" name=""/>
          <p:cNvCxnSpPr>
            <a:stCxn id="279" idx="1"/>
            <a:endCxn id="246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2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284" name=""/>
          <p:cNvCxnSpPr>
            <a:stCxn id="265" idx="3"/>
            <a:endCxn id="251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285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Symbol"/>
                <a:ea typeface="Symbol"/>
              </a:rPr>
              <a:t></a:t>
            </a: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-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y in M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[y/x]M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seudo-code (similar to previous examples) is left as an exercis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88" name=""/>
          <p:cNvSpPr/>
          <p:nvPr/>
        </p:nvSpPr>
        <p:spPr>
          <a:xfrm>
            <a:off x="2340000" y="2276640"/>
            <a:ext cx="5184720" cy="72072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Nested "Let" Reduc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y = (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)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let y =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in M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-23652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sembles A-normalization,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ut does </a:t>
            </a:r>
            <a:r>
              <a:rPr b="0" lang="ja-JP" sz="3200" spc="-1" strike="noStrike" u="sng">
                <a:solidFill>
                  <a:srgbClr val="ffffeb"/>
                </a:solidFill>
                <a:uFillTx/>
                <a:latin typeface="Comic Sans MS"/>
              </a:rPr>
              <a:t>no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expand "if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36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M then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   </a:t>
            </a: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 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 x then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else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[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N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1" name=""/>
          <p:cNvSpPr/>
          <p:nvPr/>
        </p:nvSpPr>
        <p:spPr>
          <a:xfrm>
            <a:off x="2050920" y="2276640"/>
            <a:ext cx="5761080" cy="18730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Inlining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nlines all "small" func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cludes recursive on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"Small" = less than a constant siz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nline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Repeat for a constant number of tim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User-specified by "-iter" op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nstant Folding and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Variabl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x + 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 let y = 7 in 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1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Effective after inlin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6" name=""/>
          <p:cNvSpPr/>
          <p:nvPr/>
        </p:nvSpPr>
        <p:spPr>
          <a:xfrm>
            <a:off x="2268360" y="2276640"/>
            <a:ext cx="5328000" cy="302400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298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c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10" name=""/>
          <p:cNvCxnSpPr>
            <a:stCxn id="299" idx="3"/>
            <a:endCxn id="298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1" name=""/>
          <p:cNvCxnSpPr>
            <a:stCxn id="298" idx="3"/>
            <a:endCxn id="301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2" name=""/>
          <p:cNvCxnSpPr>
            <a:stCxn id="301" idx="3"/>
            <a:endCxn id="300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3" name=""/>
          <p:cNvCxnSpPr>
            <a:stCxn id="305" idx="2"/>
            <a:endCxn id="304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4" name=""/>
          <p:cNvCxnSpPr>
            <a:stCxn id="309" idx="3"/>
            <a:endCxn id="299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5" name=""/>
          <p:cNvCxnSpPr>
            <a:stCxn id="300" idx="2"/>
            <a:endCxn id="316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7" name=""/>
          <p:cNvCxnSpPr>
            <a:stCxn id="303" idx="1"/>
            <a:endCxn id="302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8" name=""/>
          <p:cNvCxnSpPr>
            <a:stCxn id="302" idx="1"/>
            <a:endCxn id="305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19" name=""/>
          <p:cNvCxnSpPr>
            <a:stCxn id="304" idx="3"/>
            <a:endCxn id="307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0" name=""/>
          <p:cNvCxnSpPr>
            <a:stCxn id="307" idx="3"/>
            <a:endCxn id="306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1" name=""/>
          <p:cNvCxnSpPr>
            <a:stCxn id="306" idx="3"/>
            <a:endCxn id="322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23" name=""/>
          <p:cNvCxnSpPr>
            <a:stCxn id="305" idx="0"/>
            <a:endCxn id="316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24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37" name=""/>
          <p:cNvCxnSpPr>
            <a:stCxn id="316" idx="1"/>
            <a:endCxn id="336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38" name=""/>
          <p:cNvCxnSpPr>
            <a:stCxn id="336" idx="1"/>
            <a:endCxn id="303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39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41" name=""/>
          <p:cNvCxnSpPr>
            <a:stCxn id="322" idx="3"/>
            <a:endCxn id="308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42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onvers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cal function defini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   function applica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lnSpc>
                <a:spcPct val="50000"/>
              </a:lnSpc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 algn="ctr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+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cre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losure applicat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812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400" spc="-1" strike="noStrike">
                <a:solidFill>
                  <a:srgbClr val="ffffeb"/>
                </a:solidFill>
                <a:latin typeface="Wingdings"/>
                <a:ea typeface="Wingdings"/>
              </a:rPr>
              <a:t>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Known function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1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losure Creation/Appli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y = x + y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x] y = x + y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x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closure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2: Known Function Call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f 7)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948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make_closure f = (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, [])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(f, apply_direct f 7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xample 3: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used Closure Elimin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 x = x + 3 in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let rec f</a:t>
            </a:r>
            <a:r>
              <a:rPr b="0" lang="ja-JP" sz="3200" spc="-1" strike="noStrike" baseline="-25000">
                <a:solidFill>
                  <a:srgbClr val="ffcc00"/>
                </a:solidFill>
                <a:latin typeface="Comic Sans MS"/>
              </a:rPr>
              <a:t>top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 [] x = x + 3 ;;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pply_direct f 7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ffffeb"/>
                </a:solidFill>
                <a:latin typeface="Comic Sans MS"/>
              </a:rPr>
              <a:t>MinCaml: The Compiler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52" name=""/>
          <p:cNvSpPr/>
          <p:nvPr/>
        </p:nvSpPr>
        <p:spPr>
          <a:xfrm>
            <a:off x="3741840" y="2206800"/>
            <a:ext cx="1469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Typing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965600" y="2205000"/>
            <a:ext cx="141660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Pars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738200" y="2205000"/>
            <a:ext cx="1276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ph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535360" y="2205000"/>
            <a:ext cx="18709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KNorm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2063880" y="3618000"/>
            <a:ext cx="1278000" cy="106884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onst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Fold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980160" y="3860640"/>
            <a:ext cx="126288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Inlin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28880" y="5473800"/>
            <a:ext cx="16347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Closure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46400" y="3860640"/>
            <a:ext cx="9975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lim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163400" y="5229360"/>
            <a:ext cx="1093680" cy="1068840"/>
          </a:xfrm>
          <a:prstGeom prst="rect">
            <a:avLst/>
          </a:prstGeom>
          <a:solidFill>
            <a:srgbClr val="ff4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Reg</a:t>
            </a:r>
            <a:br>
              <a:rPr sz="3200"/>
            </a:b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ll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2227320" y="5473800"/>
            <a:ext cx="1428840" cy="581400"/>
          </a:xfrm>
          <a:prstGeom prst="rect">
            <a:avLst/>
          </a:prstGeom>
          <a:solidFill>
            <a:srgbClr val="ff8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Virtual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857720" y="5473800"/>
            <a:ext cx="103860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Emit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26880" y="2205000"/>
            <a:ext cx="123696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Lexer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64" name=""/>
          <p:cNvCxnSpPr>
            <a:stCxn id="353" idx="3"/>
            <a:endCxn id="352" idx="1"/>
          </p:cNvCxnSpPr>
          <p:nvPr/>
        </p:nvCxnSpPr>
        <p:spPr>
          <a:xfrm>
            <a:off x="3400560" y="2505240"/>
            <a:ext cx="3420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5" name=""/>
          <p:cNvCxnSpPr>
            <a:stCxn id="352" idx="3"/>
            <a:endCxn id="355" idx="1"/>
          </p:cNvCxnSpPr>
          <p:nvPr/>
        </p:nvCxnSpPr>
        <p:spPr>
          <a:xfrm flipV="1">
            <a:off x="5211720" y="2504880"/>
            <a:ext cx="34020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6" name=""/>
          <p:cNvCxnSpPr>
            <a:stCxn id="355" idx="3"/>
            <a:endCxn id="354" idx="1"/>
          </p:cNvCxnSpPr>
          <p:nvPr/>
        </p:nvCxnSpPr>
        <p:spPr>
          <a:xfrm>
            <a:off x="7389720" y="2504880"/>
            <a:ext cx="3420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7" name=""/>
          <p:cNvCxnSpPr>
            <a:stCxn id="359" idx="2"/>
            <a:endCxn id="358" idx="0"/>
          </p:cNvCxnSpPr>
          <p:nvPr/>
        </p:nvCxnSpPr>
        <p:spPr>
          <a:xfrm>
            <a:off x="945720" y="4468320"/>
            <a:ext cx="1080" cy="99612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8" name=""/>
          <p:cNvCxnSpPr>
            <a:stCxn id="363" idx="3"/>
            <a:endCxn id="353" idx="1"/>
          </p:cNvCxnSpPr>
          <p:nvPr/>
        </p:nvCxnSpPr>
        <p:spPr>
          <a:xfrm>
            <a:off x="1608120" y="2504880"/>
            <a:ext cx="34020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69" name=""/>
          <p:cNvCxnSpPr>
            <a:stCxn id="354" idx="2"/>
            <a:endCxn id="370" idx="0"/>
          </p:cNvCxnSpPr>
          <p:nvPr/>
        </p:nvCxnSpPr>
        <p:spPr>
          <a:xfrm>
            <a:off x="8376840" y="2813040"/>
            <a:ext cx="1080" cy="103860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1" name=""/>
          <p:cNvCxnSpPr>
            <a:stCxn id="357" idx="1"/>
            <a:endCxn id="356" idx="3"/>
          </p:cNvCxnSpPr>
          <p:nvPr/>
        </p:nvCxnSpPr>
        <p:spPr>
          <a:xfrm flipH="1">
            <a:off x="33440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2" name=""/>
          <p:cNvCxnSpPr>
            <a:stCxn id="356" idx="1"/>
            <a:endCxn id="359" idx="3"/>
          </p:cNvCxnSpPr>
          <p:nvPr/>
        </p:nvCxnSpPr>
        <p:spPr>
          <a:xfrm flipH="1">
            <a:off x="1453320" y="4160520"/>
            <a:ext cx="60732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3" name=""/>
          <p:cNvCxnSpPr>
            <a:stCxn id="358" idx="3"/>
            <a:endCxn id="361" idx="1"/>
          </p:cNvCxnSpPr>
          <p:nvPr/>
        </p:nvCxnSpPr>
        <p:spPr>
          <a:xfrm>
            <a:off x="175572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4" name=""/>
          <p:cNvCxnSpPr>
            <a:stCxn id="361" idx="3"/>
            <a:endCxn id="360" idx="1"/>
          </p:cNvCxnSpPr>
          <p:nvPr/>
        </p:nvCxnSpPr>
        <p:spPr>
          <a:xfrm flipV="1">
            <a:off x="3700440" y="577188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5" name=""/>
          <p:cNvCxnSpPr>
            <a:stCxn id="360" idx="3"/>
            <a:endCxn id="376" idx="1"/>
          </p:cNvCxnSpPr>
          <p:nvPr/>
        </p:nvCxnSpPr>
        <p:spPr>
          <a:xfrm>
            <a:off x="5292720" y="5772240"/>
            <a:ext cx="427680" cy="216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77" name=""/>
          <p:cNvCxnSpPr>
            <a:stCxn id="359" idx="0"/>
            <a:endCxn id="370" idx="0"/>
          </p:cNvCxnSpPr>
          <p:nvPr/>
        </p:nvCxnSpPr>
        <p:spPr>
          <a:xfrm flipH="1" rot="16200000">
            <a:off x="4660920" y="136080"/>
            <a:ext cx="2160" cy="7431840"/>
          </a:xfrm>
          <a:prstGeom prst="curvedConnector5">
            <a:avLst>
              <a:gd name="adj1" fmla="val -31100000"/>
              <a:gd name="adj2" fmla="val 49997"/>
              <a:gd name="adj3" fmla="val -31100000"/>
            </a:avLst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78" name=""/>
          <p:cNvSpPr/>
          <p:nvPr/>
        </p:nvSpPr>
        <p:spPr>
          <a:xfrm>
            <a:off x="110700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0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29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7073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5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06960" y="278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1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8480880" y="278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94856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003840" y="4608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13220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32300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04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3267720" y="602604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6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882680" y="627840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6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8240400" y="6021360"/>
            <a:ext cx="88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256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850880" y="3860640"/>
            <a:ext cx="105084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Beta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911920" y="3860640"/>
            <a:ext cx="1273320" cy="581400"/>
          </a:xfrm>
          <a:prstGeom prst="rect">
            <a:avLst/>
          </a:prstGeom>
          <a:solidFill>
            <a:srgbClr val="ffffff">
              <a:alpha val="50000"/>
            </a:srgbClr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Assoc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1" name=""/>
          <p:cNvCxnSpPr>
            <a:stCxn id="370" idx="1"/>
            <a:endCxn id="390" idx="3"/>
          </p:cNvCxnSpPr>
          <p:nvPr/>
        </p:nvCxnSpPr>
        <p:spPr>
          <a:xfrm flipH="1">
            <a:off x="721764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cxnSp>
        <p:nvCxnSpPr>
          <p:cNvPr id="392" name=""/>
          <p:cNvCxnSpPr>
            <a:stCxn id="390" idx="1"/>
            <a:endCxn id="357" idx="3"/>
          </p:cNvCxnSpPr>
          <p:nvPr/>
        </p:nvCxnSpPr>
        <p:spPr>
          <a:xfrm flipH="1">
            <a:off x="5269680" y="4160520"/>
            <a:ext cx="60876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3" name=""/>
          <p:cNvSpPr/>
          <p:nvPr/>
        </p:nvSpPr>
        <p:spPr>
          <a:xfrm>
            <a:off x="848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3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860880" y="44337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18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691600" y="5473800"/>
            <a:ext cx="1738080" cy="581400"/>
          </a:xfrm>
          <a:prstGeom prst="rect">
            <a:avLst/>
          </a:prstGeom>
          <a:solidFill>
            <a:srgbClr val="ff0000"/>
          </a:solidFill>
          <a:ln w="19080">
            <a:solidFill>
              <a:srgbClr val="ffff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  <a:ea typeface="HGS創英角ﾎﾟｯﾌﾟ体"/>
              </a:rPr>
              <a:t>Simm13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  <p:cxnSp>
        <p:nvCxnSpPr>
          <p:cNvPr id="395" name=""/>
          <p:cNvCxnSpPr>
            <a:stCxn id="376" idx="3"/>
            <a:endCxn id="362" idx="1"/>
          </p:cNvCxnSpPr>
          <p:nvPr/>
        </p:nvCxnSpPr>
        <p:spPr>
          <a:xfrm>
            <a:off x="7400880" y="5773320"/>
            <a:ext cx="427680" cy="1080"/>
          </a:xfrm>
          <a:prstGeom prst="straightConnector1">
            <a:avLst/>
          </a:prstGeom>
          <a:ln w="38160">
            <a:solidFill>
              <a:srgbClr val="ffffeb"/>
            </a:solidFill>
            <a:miter/>
            <a:tailEnd len="lg" type="triangle" w="lg"/>
          </a:ln>
        </p:spPr>
      </p:cxnSp>
      <p:sp>
        <p:nvSpPr>
          <p:cNvPr id="396" name=""/>
          <p:cNvSpPr/>
          <p:nvPr/>
        </p:nvSpPr>
        <p:spPr>
          <a:xfrm>
            <a:off x="7036200" y="6021360"/>
            <a:ext cx="646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  <a:ea typeface="HGS創英角ﾎﾟｯﾌﾟ体"/>
              </a:rPr>
              <a:t>42</a:t>
            </a:r>
            <a:endParaRPr b="0" lang="en-US" sz="32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Virtual Machine Code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ARC assembly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finite number of registers/variable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Top-level function definitions and call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closure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, 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all_direct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-2538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nditional expressions (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if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38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Tuple creations/accesses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nd closure creations are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xpanded to stores and loads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Register Alloc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rmAutofit fontScale="75000"/>
          </a:bodyPr>
          <a:p>
            <a:pPr marL="257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Greedy algorithm with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ook-ahead for target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 let y = 7 in f y x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 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7 in f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7040" indent="-25704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Backtracking for "early sav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x = 3 in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...; f (); ...; x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let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= 3 i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572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ave(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1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, x); ...; f (); ...; restore(x,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); r</a:t>
            </a:r>
            <a:r>
              <a:rPr b="0" lang="ja-JP" sz="2800" spc="-1" strike="noStrike" baseline="-25000">
                <a:solidFill>
                  <a:srgbClr val="ffcc00"/>
                </a:solidFill>
                <a:latin typeface="Comic Sans MS"/>
              </a:rPr>
              <a:t>2</a:t>
            </a: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 + 7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1" name=""/>
          <p:cNvSpPr/>
          <p:nvPr/>
        </p:nvSpPr>
        <p:spPr>
          <a:xfrm>
            <a:off x="1835280" y="6021360"/>
            <a:ext cx="194472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omputer Science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Undergraduates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Liberal arts (1.5 y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English, German/Chinese/French/Spanish, mathematics, logic, physics, chemist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Computer literacy, CS introduction,</a:t>
            </a:r>
            <a:br>
              <a:rPr sz="2800"/>
            </a:b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Java programming, data structur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301680" indent="-3016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S major (2.5 yr) [~30 students/yr]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Algorithms, OS, architecture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653760" indent="-25128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SPARC assembly, C, C++, Scheme, OCaml, Prolo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13-Bit Immediate Optimiz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Specific to SPARC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-274320">
              <a:lnSpc>
                <a:spcPct val="90000"/>
              </a:lnSpc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“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Inlining” or "constant folding"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for integers from -4096 to 4095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set 123, %r1</a:t>
            </a:r>
            <a:br>
              <a:rPr sz="3200"/>
            </a:b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1, %r2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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743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21589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	</a:t>
            </a: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add %r2, 123, %r3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4" name=""/>
          <p:cNvSpPr/>
          <p:nvPr/>
        </p:nvSpPr>
        <p:spPr>
          <a:xfrm>
            <a:off x="4932360" y="5734080"/>
            <a:ext cx="792000" cy="50328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ssembly Generation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Lengthy (256 lines)</a:t>
            </a:r>
            <a:br>
              <a:rPr sz="3200"/>
            </a:b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but eas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Tail call optimiz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Stack map comput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81160" indent="-28116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gister shuffling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609120" indent="-2343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Somewhat tricky but short (11 lines)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Outline of This Talk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edagogical background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Design and implementation of MinCam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Efficiency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Environment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Machine: Sun Fire V880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4 Ultra SPARC III 1.2GHz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8 GB main memory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Solaris 9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ilers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MinCaml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iter 1000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CamlOpt 3.08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, -unsafe -inline 100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4.0.0 20050319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and 64 bit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601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GCC 3.4.3</a:t>
            </a: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 (32 bit "flat model", -O3)</a:t>
            </a:r>
            <a:endParaRPr b="0" lang="en-US" sz="24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Applications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nctional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Ackerman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Fibonacc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akeuchi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erative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Ray trac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armonic function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Mandelbrot set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Huffman encoding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3" name=""/>
          <p:cNvGraphicFramePr/>
          <p:nvPr/>
        </p:nvGraphicFramePr>
        <p:xfrm>
          <a:off x="179280" y="43020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3020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5" name=""/>
          <p:cNvGraphicFramePr/>
          <p:nvPr/>
        </p:nvGraphicFramePr>
        <p:xfrm>
          <a:off x="179280" y="428760"/>
          <a:ext cx="8785440" cy="59990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428760"/>
                    <a:ext cx="8785440" cy="599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Summary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263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"Simple and efficient compiler</a:t>
            </a:r>
            <a:br>
              <a:rPr sz="3200"/>
            </a:br>
            <a:r>
              <a:rPr b="0" lang="en-US" sz="3200" spc="-1" strike="noStrike">
                <a:solidFill>
                  <a:srgbClr val="ffcc00"/>
                </a:solidFill>
                <a:latin typeface="Comic Sans MS"/>
              </a:rPr>
              <a:t>for a minimal functional language"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Future work: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Improve the register allocation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eb"/>
                </a:solidFill>
                <a:uFillTx/>
                <a:latin typeface="Comic Sans MS"/>
              </a:rPr>
              <a:t>By far</a:t>
            </a: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 more complex than other module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Too slow at compile time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3880" indent="-2638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eb"/>
                </a:solidFill>
                <a:latin typeface="Comic Sans MS"/>
              </a:rPr>
              <a:t>Retarget to IA-32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2040" indent="-21996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eb"/>
                </a:solidFill>
                <a:latin typeface="Comic Sans MS"/>
              </a:rPr>
              <a:t>2-operand instructions (which are "destructive" by definition) and FPU stack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9" name="" descr=""/>
          <p:cNvPicPr/>
          <p:nvPr/>
        </p:nvPicPr>
        <p:blipFill>
          <a:blip r:embed="rId1"/>
          <a:stretch/>
        </p:blipFill>
        <p:spPr>
          <a:xfrm>
            <a:off x="3046320" y="3968640"/>
            <a:ext cx="3051360" cy="11588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057760" y="2421000"/>
            <a:ext cx="502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ffcc00"/>
                </a:solidFill>
                <a:latin typeface="Comic Sans MS"/>
              </a:rPr>
              <a:t>http://min-caml.sf.net/</a:t>
            </a:r>
            <a:endParaRPr b="0" lang="en-US" sz="36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Programming Languages for</a:t>
            </a:r>
            <a:br>
              <a:rPr sz="4000"/>
            </a:b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S Major in Tokyo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labs (63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Scheme interpreter in Scheme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i-ML interpreter in OCaml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,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Othello/Reversi competition in OCaml, etc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ecture (21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Parsing, intermediate representations, register allocation, garbage collection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67480" indent="-26748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PL theory lectures (42 hr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79240" indent="-222840">
              <a:lnSpc>
                <a:spcPct val="100000"/>
              </a:lnSpc>
              <a:spcBef>
                <a:spcPts val="700"/>
              </a:spcBef>
              <a:buClr>
                <a:srgbClr val="ffffeb"/>
              </a:buClr>
              <a:buSzPct val="75000"/>
              <a:buFont typeface="Symbol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Symbol"/>
                <a:ea typeface="Symbol"/>
              </a:rPr>
              <a:t></a:t>
            </a: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-calculus, semantics, type theory, ...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19800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eb"/>
                </a:solidFill>
                <a:latin typeface="Comic Sans MS"/>
              </a:rPr>
              <a:t>CPU/Compiler Labs (126 hr)</a:t>
            </a:r>
            <a:endParaRPr b="1" lang="en-US" sz="40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80010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3000"/>
          </a:bodyPr>
          <a:p>
            <a:pPr marL="250200" indent="0">
              <a:lnSpc>
                <a:spcPct val="5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PU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eb"/>
                </a:solidFill>
                <a:latin typeface="Comic Sans MS"/>
              </a:rPr>
              <a:t>Design and implement original CPUs by using VHDL and FPGA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-250200">
              <a:spcBef>
                <a:spcPts val="799"/>
              </a:spcBef>
              <a:buClr>
                <a:srgbClr val="ffffeb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cc00"/>
                </a:solidFill>
                <a:latin typeface="Comic Sans MS"/>
              </a:rPr>
              <a:t>Compiler lab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Develop compilers for the original CPUs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lvl="1" marL="542160" indent="-208440">
              <a:spcBef>
                <a:spcPts val="700"/>
              </a:spcBef>
              <a:buClr>
                <a:srgbClr val="ffffeb"/>
              </a:buClr>
              <a:buSzPct val="7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cc00"/>
                </a:solidFill>
                <a:latin typeface="Comic Sans MS"/>
              </a:rPr>
              <a:t>MinCaml is used here!</a:t>
            </a:r>
            <a:endParaRPr b="0" lang="en-US" sz="28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  <a:p>
            <a:pPr marL="25020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eb"/>
                </a:solidFill>
                <a:latin typeface="Symbol"/>
                <a:ea typeface="Symbol"/>
              </a:rPr>
              <a:t>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 </a:t>
            </a: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Compete by the speed of ray tracing</a:t>
            </a:r>
            <a:br>
              <a:rPr sz="3200"/>
            </a:br>
            <a:r>
              <a:rPr b="0" lang="ja-JP" sz="3200" spc="-1" strike="noStrike">
                <a:solidFill>
                  <a:srgbClr val="ffffeb"/>
                </a:solidFill>
                <a:latin typeface="Comic Sans MS"/>
              </a:rPr>
              <a:t>(5-6 students per group)</a:t>
            </a:r>
            <a:endParaRPr b="0" lang="en-US" sz="3200" spc="-1" strike="noStrike">
              <a:solidFill>
                <a:srgbClr val="ffffeb"/>
              </a:solidFill>
              <a:latin typeface="Comic Sans MS"/>
            </a:endParaRPr>
          </a:p>
        </p:txBody>
      </p:sp>
      <p:sp>
        <p:nvSpPr>
          <p:cNvPr id="111" name=""/>
          <p:cNvSpPr/>
          <p:nvPr/>
        </p:nvSpPr>
        <p:spPr>
          <a:xfrm>
            <a:off x="1258920" y="3645000"/>
            <a:ext cx="7200720" cy="158436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179280" y="133200"/>
            <a:ext cx="8785440" cy="656928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001400" y="6400800"/>
            <a:ext cx="5101560" cy="459720"/>
          </a:xfrm>
          <a:prstGeom prst="rect">
            <a:avLst/>
          </a:prstGeom>
          <a:solidFill>
            <a:srgbClr val="0033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eb"/>
                </a:solidFill>
                <a:latin typeface="Comic Sans MS"/>
              </a:rPr>
              <a:t>Special thanks to Hiraki laboratory</a:t>
            </a:r>
            <a:endParaRPr b="0" lang="en-US" sz="2400" spc="-1" strike="noStrike">
              <a:solidFill>
                <a:srgbClr val="ffffeb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2222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33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224000" y="71280"/>
            <a:ext cx="6697800" cy="669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7T00:14:59Z</dcterms:created>
  <dc:creator>Eijiro Sumii</dc:creator>
  <dc:description/>
  <dc:language>en-US</dc:language>
  <cp:lastModifiedBy>小林研究室</cp:lastModifiedBy>
  <dcterms:modified xsi:type="dcterms:W3CDTF">2005-09-25T11:54:52Z</dcterms:modified>
  <cp:revision>260</cp:revision>
  <dc:subject/>
  <dc:title>MinCaml: A Simple and Efficient Compiler for a Minimal Functional Language </dc:title>
</cp:coreProperties>
</file>