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4051-7C74-4CEA-9CBE-68B448F07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not going to lecture a full compiler cours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EF35-905E-4E47-8DCE-248476E7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C7C-19CF-446F-94B5-75FD83C2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578-4602-430D-8487-13336179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841-8DF6-4EFC-BC99-0001FA5A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328-33B0-4109-B585-D00140A7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8AA-3AE2-4EF3-AB16-55485C98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A74D-A1D7-4544-A410-3345DAF3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29D-C6E7-4335-9F0F-67C86194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497-9DF6-457F-8050-8FD68872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E89-A0F6-46A1-95E9-4A0CAE1A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923F-F1F2-47E5-9116-D90A80AC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0FA-03DF-4C1D-A1BC-5A6D60F5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671B-4986-4F7C-A1B8-57D79FAAA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1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gister Machines and th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in-Caml Middle-End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AFD5-AEAD-4778-B45F-1092106610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129680" y="565200"/>
            <a:ext cx="548424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8200" y="3263760"/>
            <a:ext cx="740448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601-28A8-42EA-AC08-5D3DCE1CFB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630360" y="103032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23880" y="110016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84840" y="1076400"/>
            <a:ext cx="3762000" cy="4662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240" y="6083280"/>
            <a:ext cx="694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Knormal.f : Syntax.t -&gt; Knormal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68360" y="123516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89B-0B45-48A0-98BD-487375CBC2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-Reduction, Nested "Let" Reduc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536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y in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[y/x]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39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y = (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2120" y="3365640"/>
            <a:ext cx="862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803D-6603-4611-87F3-920AD3438A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Inlin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lines all "small"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s recursive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mall" = less than a consta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nline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 for a constant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ter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C73-6F69-49D8-90F7-8068B12690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Constant Folding an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Variable Elimin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x +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effective after inli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E37-8877-47FD-B07E-02E2828A43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plific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81040"/>
            <a:ext cx="6200280" cy="26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1280" y="340668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5153-E804-490A-97EA-62AA5BA73C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unction defini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  functi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-level function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cre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applic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n function call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961-DF84-4677-A202-E93E3C23AE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1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reation/Appl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y = x + y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x] y = x + y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x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7E6-D5ED-48F4-AAFB-22553C610C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2: Known Function Ca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f 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apply_direct f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1BA-E54E-4778-A07C-9559660059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3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Closure Elimin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CF6-A9EC-4689-A156-C6449664D6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Register Machine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asic (Abstract) Opera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932040" y="433692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4280" y="1324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8760" y="13762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L to register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26002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47840" y="26668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 to memory location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0520" y="4213080"/>
            <a:ext cx="541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 operation op in values in registers R2 and R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store the result in register R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0320" y="180648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R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9360" y="1752480"/>
            <a:ext cx="458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register 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58240" y="317196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2]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46040" y="3129120"/>
            <a:ext cx="47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1 to memory lo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DF6-B3FB-45FC-A50A-2701EB76E8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7280" y="378000"/>
            <a:ext cx="2511360" cy="110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2182680"/>
            <a:ext cx="0" cy="118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0" y="20016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EAC-2A67-4EEE-995A-11D8020EB1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36600" y="1006560"/>
            <a:ext cx="37620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1200" y="6059520"/>
            <a:ext cx="767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Closure.f : Knormal.t -&gt; Closure.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8640" y="109368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84600" y="12207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16400" y="1878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34040" y="1017720"/>
            <a:ext cx="429552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closure = { entry : Id.l; actual_fv : Id.t lis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MakeCls of (Id.t * Type.t) * closure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Cls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Dir of Id.l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fundef = { name : Id.l * Type.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formal_fv : (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    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prog = Prog of fundef lis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68800" y="1744560"/>
            <a:ext cx="1569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ure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D80-ACF7-4FCF-90CB-D9D21D7F1E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6600" y="0"/>
            <a:ext cx="852804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small steps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1000" y="884160"/>
            <a:ext cx="493560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1684440"/>
            <a:ext cx="12600" cy="177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585800"/>
            <a:ext cx="261288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-norm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ure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14C-8D64-4C9A-B22A-1A871FE719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F330-4869-462F-9283-2738660F33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Example: ack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1854000" y="1179360"/>
            <a:ext cx="5057640" cy="2040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x y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12840" y="4095720"/>
            <a:ext cx="639864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 : (int, int) -&gt; int x : int y : int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7200" y="3013200"/>
            <a:ext cx="691920" cy="831600"/>
          </a:xfrm>
          <a:prstGeom prst="downArrow">
            <a:avLst>
              <a:gd name="adj1" fmla="val 50000"/>
              <a:gd name="adj2" fmla="val 3004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6400" y="34480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E5F-8A32-42C9-9F84-CF53B01984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1806480" y="13273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4720" y="1619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7480" y="10987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7480" y="2220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5320" y="1569960"/>
            <a:ext cx="8318880" cy="4474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  : (int, int) -&gt; int x :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 &lt;= Ti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 + Ti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 &lt;= Ti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  : int = let Ti7  : int = 1 in (x - Ti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  : int = 1 in (ack Ti8 Ti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  : int = let Ti10  : int = 1 in (x - Ti1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  : int =  let Ti13  : int =  (let Ti12  : int = 1 in (y - Ti12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    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x Ti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Ti11 Ti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  : int = let Ti1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  : int = 10 in (ack Ti1 Ti2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XTERN(print_int Ti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59EA-CB61-42C6-91CA-9939C11ADA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fter Simplif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4760" y="1057320"/>
            <a:ext cx="539280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 y.17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EXTERN(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A0E-0841-4F40-9132-61FA38C77B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403560" y="1017720"/>
            <a:ext cx="621576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, y.17 : int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APPLY_DIRECT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APPLY_DIRECT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min_caml_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EFC-661C-4C04-8CAD-FE0A1787CDE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Yet another example : funcomp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741240" y="2031840"/>
            <a:ext cx="749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 f g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d x = g (f x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compos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bl x = x + x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inc x = x +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ec x = x -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h = compose inc (compose dbl dec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_int (h 1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BEB-5075-43C8-B715-9EC6E8DC5D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Machine to Register Mach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323640" y="1206360"/>
            <a:ext cx="49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imple translation that produces terrible co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6400" y="2433600"/>
            <a:ext cx="1119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1520" y="2278080"/>
            <a:ext cx="1414800" cy="70812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60000" y="3664080"/>
            <a:ext cx="1922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7960" y="4098960"/>
            <a:ext cx="12675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[SP]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70440" y="4595760"/>
            <a:ext cx="151272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31920" y="27273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3200" y="320040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3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1120" y="225756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2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03480" y="17985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000" y="5656320"/>
            <a:ext cx="31968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is assumes that stack 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pwards, and SP always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o the next free s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7000" y="4352760"/>
            <a:ext cx="465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this defeats the whole point of registers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are FAST local memory that shou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used to reduce CPU to memory traff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C93-81E4-433C-BEA0-98E627B5C4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Better wa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402120" y="2322360"/>
            <a:ext cx="14274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rogram 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13120" y="251136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32400" y="257004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8840" y="2039760"/>
            <a:ext cx="142740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ive explic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ames to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51560" y="2135160"/>
            <a:ext cx="246528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enerat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an abstr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chine with an infin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mber of regist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62880" y="3236760"/>
            <a:ext cx="10800" cy="90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48040" y="4143240"/>
            <a:ext cx="3252960" cy="1554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erform “Register Allocation”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p abstract register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tual machine regist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illing” registers into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nly when you run out of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regi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91080" y="4908600"/>
            <a:ext cx="816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38960" y="4745160"/>
            <a:ext cx="16484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mit asse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0675-A33F-4527-A936-1C1CCCE195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98600" y="644400"/>
            <a:ext cx="7580520" cy="5685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11560" y="633420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t’s look at the MinCaml Middle-End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5604120" y="117648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7640" y="124632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B55-1905-496D-B594-793FE86B71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 Compiler Road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1" idx="3"/>
            <a:endCxn id="90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3" name=""/>
          <p:cNvCxnSpPr>
            <a:stCxn id="90" idx="3"/>
            <a:endCxn id="93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4" name=""/>
          <p:cNvCxnSpPr>
            <a:stCxn id="93" idx="3"/>
            <a:endCxn id="92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5" name=""/>
          <p:cNvCxnSpPr>
            <a:stCxn id="97" idx="2"/>
            <a:endCxn id="96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6" name=""/>
          <p:cNvCxnSpPr>
            <a:stCxn id="101" idx="3"/>
            <a:endCxn id="91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7" name=""/>
          <p:cNvCxnSpPr/>
          <p:nvPr/>
        </p:nvCxnSpPr>
        <p:spPr>
          <a:xfrm>
            <a:off x="8494200" y="2813040"/>
            <a:ext cx="1080" cy="103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8" name=""/>
          <p:cNvCxnSpPr>
            <a:stCxn id="95" idx="1"/>
            <a:endCxn id="94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9" name=""/>
          <p:cNvCxnSpPr>
            <a:stCxn id="94" idx="1"/>
            <a:endCxn id="97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0" name=""/>
          <p:cNvCxnSpPr>
            <a:stCxn id="96" idx="3"/>
            <a:endCxn id="99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1" name=""/>
          <p:cNvCxnSpPr>
            <a:stCxn id="99" idx="3"/>
            <a:endCxn id="98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2" name=""/>
          <p:cNvCxnSpPr>
            <a:stCxn id="98" idx="3"/>
            <a:endCxn id="113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" name=""/>
          <p:cNvCxnSpPr>
            <a:stCxn id="97" idx="0"/>
            <a:endCxn id="115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27700000"/>
              <a:gd name="adj2" fmla="val 49997"/>
              <a:gd name="adj3" fmla="val -27700000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6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5" idx="1"/>
            <a:endCxn id="128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1"/>
            <a:endCxn id="95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13" idx="3"/>
            <a:endCxn id="100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4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4800" y="1230480"/>
            <a:ext cx="3373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ges, with lines of ocaml cod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D8D7-F2FB-46F1-BBD2-082CEA8748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utting it all together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84040" y="1047600"/>
            <a:ext cx="8379000" cy="4717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iter n e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n = 0 then e 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e' = Elim.f (ConstFold.f (Inline.f (Assoc.f (Beta.f e))))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e = e' then e else iter (n - 1) e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lexbuf outchan l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d.counter :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yping.extenv := M.emp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mit.f outc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RegAlloc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Simm13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Virtu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Closure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iter !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Alpha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KNorm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Typing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Parser.exp Lexer.token l))))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40600" y="3211560"/>
            <a:ext cx="24681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rom min-caml/main.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94440" y="6105600"/>
            <a:ext cx="199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ean code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C60-4F0B-41F5-99D3-AF194B8BEB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K-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 + b + c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1 = a + b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2 = c * d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mp1 + tmp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st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llow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(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52B-5D96-49B9-AEE1-07E4C2006D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xample.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863720" y="617400"/>
            <a:ext cx="5727960" cy="286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78480" y="3652920"/>
            <a:ext cx="6368040" cy="26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6840" y="297504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880" y="3436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765-20F8-4457-B23C-869CFE614B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5T20:28:48Z</dcterms:modified>
  <cp:revision>295</cp:revision>
  <dc:subject/>
  <dc:title>Slide 1</dc:title>
</cp:coreProperties>
</file>