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978D-F952-40AF-90D1-5BA78BA2B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B909-7375-41D5-8EC7-786D3E3EB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212-EB74-4C6B-A2B9-3A022001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63A1-B68B-4E80-9855-5DCD5693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DBE-B182-477B-8C7B-397B459C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5BB-81EE-4E05-BFD4-55D1329E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71B-62A3-4374-827C-C9E52DCB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18B-C111-4359-8116-E0AE1B17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A22-1D60-4E55-A93A-C61F61B0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569-0001-4A72-9C20-6B471CA5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BF9-DB34-4C4D-B5D8-7AE3D7AB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441-A0AB-41C7-BD54-7BFE6540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251-3079-4E28-9C3C-320C44B8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B52-1F8B-4EFF-8591-B20C2707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8DAF-F06A-43D9-8F41-DFB09E0C1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640"/>
            <a:ext cx="7772400" cy="2291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3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ext Free Gramma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edictive Parsing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845-8759-481F-A188-AB4F46EB70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write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1488960" y="1371600"/>
            <a:ext cx="5050080" cy="1580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WE | N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|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blah-blah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 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720" y="48006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53520" y="48006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55120" y="48006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1722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640" y="61722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93200" y="61722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4184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26760" y="61722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56080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343040" y="43434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486040" y="43434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486400" y="43434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257800" y="44197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010280" y="56386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010280" y="56386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7009920" y="56386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57150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34120" y="56386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095880" y="57150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31800" y="32767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57800" y="36576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39360" y="4038480"/>
            <a:ext cx="480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81680" y="50292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6040" y="4724280"/>
            <a:ext cx="30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62880" y="5334120"/>
            <a:ext cx="52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440" y="3200400"/>
            <a:ext cx="35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w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as a unique deriv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9280" y="601992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3) = L(G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9AA-037D-43A9-A7A2-CCD07D5D3D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un Fac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7600" y="3274920"/>
                <a:ext cx="8534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13920" y="1447920"/>
            <a:ext cx="548424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e Hopcroft and Ullman, “Introduction to Autom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ory, Languages, and Comput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7360" y="2209680"/>
            <a:ext cx="70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ome context free languages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herently ambigu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free grammar will be ambiguous.  For 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5720" y="4483080"/>
            <a:ext cx="59688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2) Checking for ambiguity in an arbitrary context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 is not decidabl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32760" y="5614920"/>
            <a:ext cx="66668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3) Given two grammars G1 and G2, checking L(G1) = L(G2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 decida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F09-98A9-40C2-BAF2-D551F161D8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on vs.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-Free Grammars (CFGs) and languag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riva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inverse of gener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n an input string, is it in the language generated by a CF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so, construct a derivation tree (normally called a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arse tre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p-down pa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BA8-6047-4548-973A-CE8F1698CB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edictive (Recursive Descent) Parsing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430920" y="1905120"/>
            <a:ext cx="2472840" cy="28371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; S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53480" y="1905120"/>
            <a:ext cx="5392800" cy="39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t tok = getToke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advance() {tok = getToken();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at (int t) {if (tok == t) advance(); else error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S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IF:    eat(IF); E(); eat(TH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(); eat(ELSE); S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BEGIN: eat(BEGIN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PRINT: eat(PRINT); E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L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END:  eat(END); 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SEMI: eat(SEMI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() {eat(NUM) ; eat(EQ); eat(NUM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0560" y="6568920"/>
            <a:ext cx="53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95200" y="5791320"/>
            <a:ext cx="4531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corresponds to a 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ed in a “top-down”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B0B-FB57-487A-A40B-40E65EE9F8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n we automate this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683360" y="1447920"/>
            <a:ext cx="5494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gin strings derived from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mediately follow X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= true of X can derive the empty st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3960" y="874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X we need to 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48600" y="4495680"/>
            <a:ext cx="72612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Z] = false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Y1 Y2 … Yk] = nullable[Y1] and … nullable[Yk], for Y(i) in N union 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996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92840" y="5334120"/>
            <a:ext cx="6041880" cy="1310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Z] = {Z}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 FIRST[X] if not nullable[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FIRST[X] union FIRST[Y1 … Yk] other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4F5-A5EE-47FC-BB1B-D2CB9F6995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uting First, Follow, and nullabl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838800" y="1143000"/>
            <a:ext cx="661212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erminal symbol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Z] := {Z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Z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symbo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:= FOLLOW[X] := {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roduction 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1 Y2 … 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, … Yk are all nullable, or k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nullable[X] :=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 from 1 to k, each j from i + I to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 … Y(i-1) are all nullable or 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 FIRST[X] := FIRST[X] union FIRST[Y(i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k are all nullable or if i 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OLLOW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(j-1) are all nullable or i+1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IRST[Y(j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re is 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547-7C38-4DD8-9DEB-4D543982C2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liminating Left Recu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594000" y="236232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47280" y="1143000"/>
            <a:ext cx="36936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cause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FIRST(T) will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IRST(E + T) ---- so how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cide which p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 based on next tok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eliminate “left recursion”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5943600"/>
            <a:ext cx="4419720" cy="533520"/>
          </a:xfrm>
          <a:prstGeom prst="rightArrow">
            <a:avLst>
              <a:gd name="adj1" fmla="val 50000"/>
              <a:gd name="adj2" fmla="val 20710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iminate left recu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1740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rot="2332800">
            <a:off x="10186560" y="213948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61B-6843-40CB-80C2-924E762B33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1.57361 -0.32176 E">
                                      <p:cBhvr>
                                        <p:cTn id="41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irst, Follow, nullable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2286000"/>
            <a:ext cx="6095880" cy="342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480" y="2406600"/>
            <a:ext cx="40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6960" y="186516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          FIRST            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45160" y="2438280"/>
            <a:ext cx="73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7600" y="2438280"/>
            <a:ext cx="1541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+, -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*, 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5480" y="2438280"/>
            <a:ext cx="166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*, /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2196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968-32A9-4D4F-A1DB-BB5C7BF209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edictive Parsing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124080"/>
            <a:ext cx="8610480" cy="243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4680" y="3124080"/>
            <a:ext cx="35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35400" y="266688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+                *                 (                 )            ID           NUM     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840" y="3124080"/>
            <a:ext cx="1020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20320" y="3124080"/>
            <a:ext cx="1055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* F T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99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87160" y="312408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85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74720" y="3124080"/>
            <a:ext cx="99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87560" y="320040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880" y="114300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[ X, T ] = Set of produ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1760" y="1523880"/>
            <a:ext cx="53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Y1…Yk   in Table[ X, T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in FIRST[Y1 … Y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f (T in FOLLOW[X] and nullable[Y1 … Yk]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02680" y="1219320"/>
            <a:ext cx="2059920" cy="100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NOTE: this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lead to more th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ne entry! If so,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f luck --- can’t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recursive descent pars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33880" y="60562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ries for /, - are similar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851-E205-40CA-B9CF-DBFF53A4AA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ft-most derivation is constructe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y recursive descen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2738520" y="144792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028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8360" y="990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60560" y="1332000"/>
            <a:ext cx="22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T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l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1F8-5D07-44EB-9C1A-A9C63FDFA1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44480" y="1371600"/>
            <a:ext cx="1284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/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–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09480" y="5791320"/>
            <a:ext cx="5807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 NUM | 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7120" y="5410080"/>
            <a:ext cx="27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will write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6560" y="2057400"/>
            <a:ext cx="40377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is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non-terminal symbol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and NUM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lexica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*, (, ), +, and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rminal symbol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::= E + E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production ru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E6F-E1C3-4CFC-9151-2A236860A9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s a stack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605160" y="115560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9240" y="1197000"/>
            <a:ext cx="272592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   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   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   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                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            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   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5D8-1A18-4A5E-8B1F-9371BF0AAB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Deriva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264320" y="76212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320" y="403848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+ E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256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774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980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16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56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8856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7892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4068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7508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920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24852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1992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006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148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0292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774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954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1972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944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086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6230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692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980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148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0292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006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976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918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7086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6230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44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91080" y="3809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2480" y="373392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625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913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818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121932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E –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1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+ 4 ) * ( 2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1960" y="537840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Derivation Tre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17 + 4 ) * (2 – 1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95800" y="1295280"/>
            <a:ext cx="1409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igh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0200" y="4191120"/>
            <a:ext cx="1270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ef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8B1-72A7-4B85-9ABA-0126841393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ore formally,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 CFG is a quadruple 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non-terminal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terminal symbols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N and T dis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 is the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T)*  is a set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xample: The grammar of nested parenthese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= {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={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={ (S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, (S, SS), (S, ) }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4040" y="5715000"/>
            <a:ext cx="2183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 ::= (S) | SS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3040" y="575136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normally write R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A01-7EDD-4362-AF66-03FB78AFB9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rivations, more formall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art from start symbol 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ductions are used to derive a sequence of tokens from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arbitrary strings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comprised of both terminal and non-terminal symbols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 a production A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single step of derivation is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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.e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substitute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 an occurrence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0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1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E47-A9E0-49F4-81F2-98D912AFB5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(G) = The Language Generated by Grammar 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95280" y="2971800"/>
                <a:ext cx="5791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⇒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01600" y="1905120"/>
            <a:ext cx="67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language generated by G is the set of all terminal str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rivable from the start symbol 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6760" y="441972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or any subset W of T*, if there exists a CFG G s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at L(G) = W, then W is called a Context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anguage (CFL) over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474-0DAE-48B2-B7AA-0ABA7474D2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77848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332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916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572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6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544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123720" y="2133720"/>
            <a:ext cx="99396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89548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7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735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360" y="274320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67652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80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4680" y="30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67080" y="28191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380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448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67600" y="2438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690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09720" y="2133720"/>
            <a:ext cx="8384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62940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18148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540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219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07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10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698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86600" y="274320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8001000" y="274284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77240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6320" y="29718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7631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10520" y="4038480"/>
            <a:ext cx="5735880" cy="1130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derivation trees correspond to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6200" y="5562720"/>
            <a:ext cx="64612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his type of ambiguity will cause problems when we tr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o from strings to derivation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2040" y="106668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CAF-2AE3-4D84-A2EC-63E6611DBB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: Modify the Grammar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89440" y="175248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6760" y="1676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780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24600" y="228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240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43400" y="205740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562720" y="205740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057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1480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36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36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73960" y="2819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00240" y="281952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9560" y="266688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933960" y="266652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0572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79280" y="2895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672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60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71440" y="342900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867280" y="3809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4876920"/>
            <a:ext cx="3568680" cy="1435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is is the </a:t>
            </a:r>
            <a:r>
              <a:rPr b="0" i="1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unique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 for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1920" y="617868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1) = L(G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5720" y="2590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re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4280" y="3733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8320" y="480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12960" y="19414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rt, $ = E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7480" y="1066680"/>
            <a:ext cx="30564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334120" y="14475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886-E424-41BC-907D-39CD76EFE7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amously Ambiguou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1168200" y="1447920"/>
            <a:ext cx="64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G3)  S ::= if E then S else S  |   if E then S |  blah-bl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21200" y="2209680"/>
            <a:ext cx="400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at d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e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1700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20" y="487692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38720" y="4876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40320" y="487692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1240" y="48769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1664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084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7840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270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11960" y="57150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8240" y="441972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371240" y="441972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371600" y="441972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4300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895480" y="51814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51814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120" y="51814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666880" y="52578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19320" y="51814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81080" y="52578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5112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6520" y="495288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10720" y="4952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8280" y="495288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3692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1840" y="495288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5624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705720" y="4419360"/>
            <a:ext cx="45720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705360" y="4419360"/>
            <a:ext cx="106668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705720" y="4419360"/>
            <a:ext cx="167616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47712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9200" y="441972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791320" y="4495680"/>
            <a:ext cx="53316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352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632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792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88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225840" y="52578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368840" y="52578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369200" y="52578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140600" y="53341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72240" y="400680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86A-54F5-4E82-96DE-12F4007E38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6T10:43:48Z</dcterms:modified>
  <cp:revision>269</cp:revision>
  <dc:subject/>
  <dc:title>Slide 1</dc:title>
</cp:coreProperties>
</file>