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6EC3-8577-4C68-AA73-AE80746FB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CCE3-554E-47E8-ADB5-03BE7EBCA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60A-CDC9-417E-B3D4-B9984E30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ADB-1F0A-4384-A3BD-A52FDE64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E76-A245-4206-9F54-89421D8D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946-31D5-4003-9252-5520181B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9FA-56FA-496E-9355-ACAFBDB1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722-3A95-4124-B190-E8C7625E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2CC-28DC-4FA6-81F3-7E26FCFF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864-EC0A-42FB-9A7C-E9745BA2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1B0-EA05-4605-8711-902A50E6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016-D75E-433C-97E5-CB5E9DCA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049-2AAF-4C9B-842A-0A82C20D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A60-2A0B-4D6D-8AE1-4E878C3E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A2C3-2D8F-4AF1-9DB7-F33929CF4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ava Virtual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E97-AB3A-48BE-8B2E-7BD6D3C0F8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838080"/>
            <a:ext cx="2743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3920" y="0"/>
            <a:ext cx="7772400" cy="55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ganization of JV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44792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666880"/>
            <a:ext cx="259056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38080"/>
            <a:ext cx="106704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838080"/>
            <a:ext cx="10666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838080"/>
            <a:ext cx="121896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22860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343400"/>
            <a:ext cx="16761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486400"/>
            <a:ext cx="1904760" cy="990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0" y="3581280"/>
            <a:ext cx="228600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19051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, FP,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31400">
            <a:off x="1988640" y="461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781400">
            <a:off x="1990800" y="51433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505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638680"/>
            <a:ext cx="1676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ACD-4221-4B37-8CC6-F9FB8FFEEE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Load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4880" y="99036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ing and importing the binary data for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suring the correctness of the imported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e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cating memory for class variables and initializing the memory to default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ing symbolic references from the type into direct re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king Java code that initializes class variables to their proper star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B05-B19D-4693-A592-00061DD713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File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3581280" cy="490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 of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superclas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,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field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type/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 (private, public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code fo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3320" y="1353960"/>
            <a:ext cx="6198840" cy="486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Fi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4 mag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in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aj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constant_pool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p_info constant_pool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constant_pool_count-1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ccess_fla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this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super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[interface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fiel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eld_info fields[fiel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etho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_info methods[metho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ttribut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tribute_info attributes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attributes_coun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143-C0A1-4E35-9F45-FF304DC152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04840"/>
            <a:ext cx="4191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5400" y="90972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9520" y="3114720"/>
            <a:ext cx="11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0040" y="55641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1880" y="159084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ECD-ED81-4D74-AFFF-C1E7DDE3E8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– Each Thread Has its own Stack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838080"/>
            <a:ext cx="80773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0773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447920"/>
            <a:ext cx="1600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876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590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733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733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739-8C60-411D-838C-BD42E9B99A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ava objects are allocated in the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ications cannot explicitly fre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rbage Coll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oked from time to time automatically to reclaim the objects that are no longer need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p is shared by all Java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44B-61C4-49B6-B09A-35F3AFBFB4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Objects in the 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F47-DC83-4CE1-ADFB-0F508657D6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ytecode Interpret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1417680"/>
            <a:ext cx="518796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8040" y="2071800"/>
            <a:ext cx="340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lower than execution of nativ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3F4-4A7C-46C0-81F9-2E8AE41FDE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ust-In-Tim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3000" y="649080"/>
            <a:ext cx="8381880" cy="212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compiles bytecode into native code at runtime, usually in meth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native code is much faster than interpretation of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is time consuming and may slow down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execution time and compi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575784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3640" y="469116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34718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" y="2987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8640" y="433692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570852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0520" y="395604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51560" y="27860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1800" y="372744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2840" y="471816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0840" y="3024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9D9-7B6F-4177-967D-C4CB13FA8E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daptiv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F9E-037C-469A-AFB0-C1C76C8DDC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system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9280" y="1428840"/>
            <a:ext cx="5260680" cy="43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65160" y="3608280"/>
            <a:ext cx="409608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632040"/>
            <a:ext cx="22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VM do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depend o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indepen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C99-5E57-4A14-9C86-9887EF3A02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Adaptive Compiler Work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ree thresholds T1, T2 (T1&lt;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thod has a counter that is initialized to 0. Whenever the method is invoked, increase its counter b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ith counter lower than T1 are executed using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1, compile this method with simpl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2, recompile this method with advanced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435-8A55-4CA9-86C1-172E817DF7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in the JVM Spec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343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s – the instruction set for 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ile Format – The platform independent representation of Java 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Rules – the algorithm for identifying programs that cannot compromise the integrity of the J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5080" y="5397480"/>
            <a:ext cx="6974640" cy="1068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VM Specification does not specif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 JVM i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303-96D8-4011-A809-F7DE84790B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: typed instructions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974880"/>
            <a:ext cx="89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are explicitly typed: different opCodes for instructions for integers, floats, arrays and referen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reflected by a naming convention in the first letter of the opCode mne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7040" y="29368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7800" y="2968560"/>
            <a:ext cx="29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oa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-typ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DD7-4478-4435-8526-E03440FE0F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 set: kinds of operan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19556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have three kinds of oper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top of the oper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bytes following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art of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 instructions may have different “forms” supporting different kinds of ope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7800" y="37987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4960" y="34988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0000" y="34876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nary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44800" y="383076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3832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8800" y="4213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4594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0" y="4975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8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480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1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4120" y="54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800" y="532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4920" y="61308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oad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ush the n-th local var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554-137F-44A8-A6B8-65ECB228E7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examp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39068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add, ladd, fadd, d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ub, lsub, fsub, d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ul, lmul, fmul, d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9144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hmet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" y="2608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880" y="316872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2l, i2f, i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f, l2d, f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i, d2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147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stack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, pop2, dup, dup2, dup_x1, swa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onditiona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, goto_w, jsr, r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eq, iflt, ifg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734-8DF8-438C-9FA1-6588E45D28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58920"/>
            <a:ext cx="8686800" cy="311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inv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: usual instruction for calling a method on an o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used when the called method is declared in an interface. (requires different kind of method loo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alling things such as constructors. These are not dynamically dispatched (this instruction is also known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non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alling methods that have the “static” modifier (these methods “belong” to a class, rather an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from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, ireturn, lreturn, areturn, f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10240"/>
            <a:ext cx="86868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class instance (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reating arrays of primitiv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ewarray, multia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arrays of referenc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638-802F-49AB-A945-DD8433F500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oto instruction – 3 and 5 byte vers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3960" y="33512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8)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1231920"/>
            <a:ext cx="1279440" cy="13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8120" y="168264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208296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840" y="1278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61960"/>
            <a:ext cx="8287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2000" y="13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55080" y="1714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51840" y="21366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1600" y="3309840"/>
            <a:ext cx="33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24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16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 8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0840" y="1203480"/>
            <a:ext cx="12798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30840" y="165420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0560" y="205416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9560" y="124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1433520"/>
            <a:ext cx="828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5440" y="127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0280" y="2806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68200" y="209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6160" y="244152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9252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06360" y="2452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7560" y="1716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6160" y="4254480"/>
            <a:ext cx="40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igned 2’s compliment represent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779200" y="2498400"/>
            <a:ext cx="341280" cy="3024360"/>
          </a:xfrm>
          <a:custGeom>
            <a:avLst/>
            <a:gdLst>
              <a:gd name="textAreaLeft" fmla="*/ 0 w 341280"/>
              <a:gd name="textAreaRight" fmla="*/ 123120 w 341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95120" y="48481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263000" y="3629520"/>
            <a:ext cx="341280" cy="1901880"/>
          </a:xfrm>
          <a:custGeom>
            <a:avLst/>
            <a:gdLst>
              <a:gd name="textAreaLeft" fmla="*/ 0 w 341280"/>
              <a:gd name="textAreaRight" fmla="*/ 123120 w 341280"/>
              <a:gd name="textAreaTop" fmla="*/ 49320 h 1901880"/>
              <a:gd name="textAreaBottom" fmla="*/ 1852560 h 19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9640" y="5530680"/>
            <a:ext cx="3841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target address must be tha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code of an instruction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thod that cont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(or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 i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EFC-B891-49CE-B134-EDDCAFCBE2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4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Fibonacci Forev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838440" y="358920"/>
            <a:ext cx="761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www.artima.com/insidejvm/applets/FibonacciFore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60" y="1636560"/>
            <a:ext cx="31068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Fibonacci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tic void calcSequence(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fiboNum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or (;;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6760" y="79380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 1, 2, 3, 5, 8, 13, 21, 34, 55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760" y="1428840"/>
            <a:ext cx="59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0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 lstore_0  % Pop long into local vars 0 &amp; 1: 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2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3 lstore_2  % Pop long into local vars 2 &amp; 3: 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4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5 lstore 4  % Pop long into local vars 4 &amp; 5: long fiboNum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7 lload_0   % Push long from local vars 0 &amp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8 lload_2 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9 ladd      % Pop two longs, add them, push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0 lstore 4 % Pop long into local vars 4 &amp; 5: 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2 lload_2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3 lstore_0 % Pop long into local vars 0 &amp; 1: 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4 lload 4  % Push long from local vars 4 &amp;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6 lstore_2 % Pop long into local vars 2 &amp; 3: 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7 goto 7   % Jump back to offset 7: for (;;) {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2280" y="49417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a 3f 0a 41 0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20 6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3f 16 04 4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7 ff f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840" y="4948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C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6680" y="5257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9200" y="5256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6360" y="5254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ot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55166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“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embles” t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goto -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B0D-80A2-42C1-8E51-5BA5C4D242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8Z</dcterms:modified>
  <cp:revision>288</cp:revision>
  <dc:subject/>
  <dc:title>Slide 1</dc:title>
</cp:coreProperties>
</file>