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BFDF0-AD08-48E1-8CA9-0DEF866449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EDE5A-36FA-4920-A55F-0A2D283C4F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4440" y="689040"/>
            <a:ext cx="4565880" cy="34243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although m4 is redefined in E, it still requires a pointer to 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41F7-A2D3-42E9-AB0F-0B477E975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7065-AE4A-41DC-8E55-DC00DE0F1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477F-0D21-43A2-B7AE-630445470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6551-26AA-4B85-B273-F11B1B1AE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0E68-98BF-4DA0-BD47-0BAC87384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EA9A-8FF5-40C8-8AC7-71CCEFF94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8B70-3357-4A53-93D7-EB1F11190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725C-035D-4692-94DA-88FB69898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AF7D-CF12-4200-966C-49514380A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976D-F5FE-4C5F-A59E-6E5AD136B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1A4D-691C-4711-8787-0790EFB28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2E60-3624-4F68-8BAD-66CEC6FE4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88BF2-FE47-4C13-B515-7806D34D58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92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 15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Object Orientation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06440" y="25542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4987800"/>
            <a:ext cx="7010640" cy="27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of the slides in this lecture are by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Koen Langendoe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Delft University of Technology The Netherl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4884-6613-40E9-B77D-F31AA4DC890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 Black"/>
              </a:rPr>
              <a:t>Dynamic dispatch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lementation: dispatch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025720" y="2666880"/>
            <a:ext cx="20872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tr to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also a ptr to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58920" y="3063960"/>
            <a:ext cx="2387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4564080" y="3063960"/>
            <a:ext cx="1209600" cy="1554120"/>
            <a:chOff x="4564080" y="3063960"/>
            <a:chExt cx="1209600" cy="1554120"/>
          </a:xfrm>
        </p:grpSpPr>
        <p:sp>
          <p:nvSpPr>
            <p:cNvPr id="148" name=""/>
            <p:cNvSpPr/>
            <p:nvPr/>
          </p:nvSpPr>
          <p:spPr>
            <a:xfrm>
              <a:off x="4564080" y="3063960"/>
              <a:ext cx="1209600" cy="395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564080" y="345924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564080" y="385452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564080" y="424980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969240" y="3063960"/>
            <a:ext cx="1209600" cy="1158840"/>
            <a:chOff x="6969240" y="3063960"/>
            <a:chExt cx="1209600" cy="1158840"/>
          </a:xfrm>
        </p:grpSpPr>
        <p:sp>
          <p:nvSpPr>
            <p:cNvPr id="153" name=""/>
            <p:cNvSpPr/>
            <p:nvPr/>
          </p:nvSpPr>
          <p:spPr>
            <a:xfrm>
              <a:off x="6969240" y="306396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m1_A_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969240" y="345924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m2_A_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969240" y="385452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m3_C_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5130720" y="3276720"/>
            <a:ext cx="1838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3340080" y="5353200"/>
            <a:ext cx="5184720" cy="395280"/>
            <a:chOff x="3340080" y="5353200"/>
            <a:chExt cx="5184720" cy="395280"/>
          </a:xfrm>
        </p:grpSpPr>
        <p:sp>
          <p:nvSpPr>
            <p:cNvPr id="158" name=""/>
            <p:cNvSpPr/>
            <p:nvPr/>
          </p:nvSpPr>
          <p:spPr>
            <a:xfrm>
              <a:off x="4029120" y="5353200"/>
              <a:ext cx="44956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*(a-&gt;dispatch_table[1])(a, 3)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340080" y="5367600"/>
              <a:ext cx="457200" cy="380880"/>
            </a:xfrm>
            <a:prstGeom prst="rightArrow">
              <a:avLst>
                <a:gd name="adj1" fmla="val 50000"/>
                <a:gd name="adj2" fmla="val 30009"/>
              </a:avLst>
            </a:prstGeom>
            <a:solidFill>
              <a:srgbClr val="ffffff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696240" y="5105520"/>
            <a:ext cx="2512440" cy="136296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C *c = ...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A *a =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-&gt;m2(3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B168-2907-464C-9218-170036304684}" type="slidenum">
              <a:t>10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 Black"/>
              </a:rPr>
              <a:t>Dynamic typing:implementation </a:t>
            </a:r>
            <a:br>
              <a:rPr sz="2400"/>
            </a:br>
            <a:r>
              <a:rPr b="0" lang="en-GB" sz="2400" spc="-1" strike="noStrike">
                <a:solidFill>
                  <a:srgbClr val="333399"/>
                </a:solidFill>
                <a:latin typeface="Arial Black"/>
              </a:rPr>
              <a:t>requires </a:t>
            </a:r>
            <a:r>
              <a:rPr b="0" lang="en-GB" sz="2400" spc="-1" strike="noStrike">
                <a:solidFill>
                  <a:srgbClr val="0033cc"/>
                </a:solidFill>
                <a:latin typeface="Arial Black"/>
              </a:rPr>
              <a:t>pointer subtyping</a:t>
            </a:r>
            <a:r>
              <a:rPr b="0" lang="en-GB" sz="24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2" name=""/>
          <p:cNvSpPr/>
          <p:nvPr/>
        </p:nvSpPr>
        <p:spPr>
          <a:xfrm>
            <a:off x="876240" y="3814920"/>
            <a:ext cx="6829560" cy="169452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2_A_C(class_A *this_A, int i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_C *this = </a:t>
            </a:r>
            <a:r>
              <a:rPr b="1" lang="en-GB" sz="1800" spc="-1" strike="noStrike">
                <a:solidFill>
                  <a:srgbClr val="0033cc"/>
                </a:solidFill>
                <a:latin typeface="Courier New"/>
              </a:rPr>
              <a:t>convert_ptrA_to_ptrC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this_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his-&gt;a2 = this-&gt;c1 + 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85040" y="1714680"/>
            <a:ext cx="2649600" cy="103140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2(int i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2 = c1 + 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340160" y="2048040"/>
            <a:ext cx="938160" cy="1122120"/>
          </a:xfrm>
          <a:prstGeom prst="downArrow">
            <a:avLst>
              <a:gd name="adj1" fmla="val 50000"/>
              <a:gd name="adj2" fmla="val 299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C104-4536-458B-9D36-0EC8159CF58C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 Black"/>
              </a:rPr>
              <a:t>Multiple inheritanc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6" name=""/>
          <p:cNvSpPr/>
          <p:nvPr/>
        </p:nvSpPr>
        <p:spPr>
          <a:xfrm>
            <a:off x="1383480" y="1612800"/>
            <a:ext cx="2649600" cy="20260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C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c1, c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1() {...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2() {...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99480" y="3867120"/>
            <a:ext cx="3335400" cy="235764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E : public C, D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e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2() {...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4() {...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5() {...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53400" y="1612800"/>
            <a:ext cx="2649600" cy="20260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D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d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3() {...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4() {...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952B-DE29-438C-A6C7-426FFC6B5A2B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860400" y="6056280"/>
            <a:ext cx="6829560" cy="699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onvert_ptrC_to_ptrE(c) </a:t>
            </a:r>
            <a:r>
              <a:rPr b="1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onvert_ptrD_to_ptrE(d) </a:t>
            </a:r>
            <a:r>
              <a:rPr b="1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d - sizeof(Class_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60400" y="6056280"/>
            <a:ext cx="6829560" cy="699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onvert_ptrC_to_ptrE(c) 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onvert_ptrD_to_ptrE(d) 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d - sizeof(Class_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87400" y="4770360"/>
            <a:ext cx="6829560" cy="699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onvert_ptrE_to_ptrC(e) </a:t>
            </a:r>
            <a:r>
              <a:rPr b="1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onvert_ptrE_to_ptrD(e) </a:t>
            </a:r>
            <a:r>
              <a:rPr b="1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e + sizeof(Class_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87400" y="4770360"/>
            <a:ext cx="6829560" cy="699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onvert_ptrE_to_ptrC(e) 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onvert_ptrE_to_ptrD(e) 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e + sizeof(Class_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 Black"/>
              </a:rPr>
              <a:t>Multiple inheritanc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2285640" y="1600200"/>
            <a:ext cx="6561360" cy="3050280"/>
            <a:chOff x="2285640" y="1600200"/>
            <a:chExt cx="6561360" cy="3050280"/>
          </a:xfrm>
        </p:grpSpPr>
        <p:sp>
          <p:nvSpPr>
            <p:cNvPr id="175" name=""/>
            <p:cNvSpPr/>
            <p:nvPr/>
          </p:nvSpPr>
          <p:spPr>
            <a:xfrm>
              <a:off x="4351320" y="1733760"/>
              <a:ext cx="2057400" cy="2914560"/>
            </a:xfrm>
            <a:prstGeom prst="rect">
              <a:avLst/>
            </a:prstGeom>
            <a:noFill/>
            <a:ln w="284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21480" y="4251600"/>
              <a:ext cx="111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Arial"/>
                </a:rPr>
                <a:t>E-obje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789600" y="1733760"/>
              <a:ext cx="2057400" cy="2914560"/>
            </a:xfrm>
            <a:prstGeom prst="rect">
              <a:avLst/>
            </a:prstGeom>
            <a:noFill/>
            <a:ln w="284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308720" y="4251600"/>
              <a:ext cx="1017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Arial"/>
                </a:rPr>
                <a:t>E-clas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285640" y="1600200"/>
              <a:ext cx="1989720" cy="7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tr to 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tr to C inside 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70240" y="1997280"/>
              <a:ext cx="2387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775040" y="1857600"/>
              <a:ext cx="1209960" cy="395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75040" y="2252880"/>
              <a:ext cx="120996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775040" y="2648160"/>
              <a:ext cx="120996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775040" y="3043440"/>
              <a:ext cx="1209960" cy="395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180200" y="185760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m1_C_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80200" y="225288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m2_C_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180200" y="264816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m3_D_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342040" y="2070360"/>
              <a:ext cx="1838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75040" y="3438720"/>
              <a:ext cx="120996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d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775040" y="3834000"/>
              <a:ext cx="120996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e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285640" y="2816280"/>
              <a:ext cx="198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tr to D inside 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370240" y="3213360"/>
              <a:ext cx="2387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180200" y="304344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m4_D_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180200" y="343872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m5_E_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42040" y="2816280"/>
              <a:ext cx="1838160" cy="399960"/>
            </a:xfrm>
            <a:custGeom>
              <a:avLst/>
              <a:gdLst/>
              <a:ahLst/>
              <a:rect l="l" t="t" r="r" b="b"/>
              <a:pathLst>
                <a:path w="1158" h="252">
                  <a:moveTo>
                    <a:pt x="0" y="250"/>
                  </a:moveTo>
                  <a:lnTo>
                    <a:pt x="787" y="252"/>
                  </a:lnTo>
                  <a:lnTo>
                    <a:pt x="787" y="2"/>
                  </a:lnTo>
                  <a:lnTo>
                    <a:pt x="1158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628200" y="429084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erty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2880" y="5653080"/>
            <a:ext cx="105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ty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AF32-207F-475F-9B0B-F029597F01CD}" type="slidenum">
              <a:t>13</a:t>
            </a:fld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given an object </a:t>
            </a:r>
            <a:r>
              <a:rPr b="1" lang="en-US" sz="3200" spc="-1" strike="noStrike">
                <a:solidFill>
                  <a:srgbClr val="0033cc"/>
                </a:solidFill>
                <a:latin typeface="Courier New"/>
              </a:rPr>
              <a:t>e</a:t>
            </a: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 of class </a:t>
            </a:r>
            <a:r>
              <a:rPr b="1" lang="en-US" sz="3200" spc="-1" strike="noStrike">
                <a:solidFill>
                  <a:srgbClr val="0033cc"/>
                </a:solidFill>
                <a:latin typeface="Courier New"/>
              </a:rPr>
              <a:t>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06440" y="2362320"/>
          <a:ext cx="8508960" cy="3319200"/>
        </p:xfrm>
        <a:graphic>
          <a:graphicData uri="http://schemas.openxmlformats.org/drawingml/2006/table">
            <a:tbl>
              <a:tblPr/>
              <a:tblGrid>
                <a:gridCol w="1346040"/>
                <a:gridCol w="7162920"/>
              </a:tblGrid>
              <a:tr h="110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e.m1(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*(e-&gt;dispatch_table[0]))((Class_C *) 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e.m3(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*(e-&gt;dispatch_table[2]))(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class_D *)((char *)e + sizeof(Class_C))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e.m4(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*(e-&gt;dispatch_table[3]))(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class_D *)((char *)e + sizeof(Class_C))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ACAF-2678-42A9-8881-7B39EC6426A8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nother OO Featur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ction mech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encapsulate local state within an object, Java has “private” “protected” and “public” qualif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vate methods/fields can’t be called/used outside of the class in which they are def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is is really a scope/visibility issue!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ont-end during semantic analysis (type checking and so on), the compiler maintains this information in the symbol table for each class and enforces visibility r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FBA0-DE1C-4079-8CB4-0ACACF27AEA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Objects (with single inheritance)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2" name=""/>
          <p:cNvSpPr/>
          <p:nvPr/>
        </p:nvSpPr>
        <p:spPr>
          <a:xfrm>
            <a:off x="226440" y="982800"/>
            <a:ext cx="594144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start :=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lass Vehicle extends Object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var position := star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method move(int x) = {position := position + x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lass Car extends Vehicl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var passengers :=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method await(v : Vehicle) 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f (v.position &lt; posi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n v.move(position – v.position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else self.move(10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lass Truck extends Vehicl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method move(int x) 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f x &lt;= 55 then position := position +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var t := new Tru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var c := new Ca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var v : Vehicle :=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.passengers := 2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.move(6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v.move(7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.await(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e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9600" y="4014720"/>
            <a:ext cx="202176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ethod overr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46800" y="5259240"/>
            <a:ext cx="3592800" cy="1008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ubtyping allows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ruck or Car to be viewed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used as a Vehi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1804680" y="6087960"/>
            <a:ext cx="3647880" cy="1857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503160" y="4105080"/>
            <a:ext cx="3103560" cy="442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2855880" y="5217840"/>
            <a:ext cx="2604960" cy="3682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E635-F085-44C7-AC0B-FA69E4FE045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Object Implementation?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how do we access object fiel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both inherited fields and fields for the current objec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how do we access method co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if the current class does not define a particular method, where do we go to get the inherited method co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how do we handle method overri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How do we implement subtyping (“object polymorphism”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If B is derived from A, then need to be able to treat a pointer to a B-object as if it were an A-ob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3081-843F-44CF-89B5-B57B00A9A54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tatic &amp; Dynamic Method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sult of compiling a method is some machine code located at a particular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a method invocation point, we need to figure out what code location to jump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 has static &amp; dynamic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resolve static method calls, we look at the static type of the calling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resolve dynamic method calls, we need the dynamic type of the calling obje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7C45-7629-4CF3-B645-E2C9BFC5401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 Black"/>
              </a:rPr>
              <a:t>Object representat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3" name=""/>
          <p:cNvSpPr/>
          <p:nvPr/>
        </p:nvSpPr>
        <p:spPr>
          <a:xfrm>
            <a:off x="597240" y="1752480"/>
            <a:ext cx="2786760" cy="349956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A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a1, a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1(int i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1 = 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2(int i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2 = a1 + 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21160" y="1752480"/>
            <a:ext cx="756720" cy="45972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46400" y="2482920"/>
            <a:ext cx="16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ject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5165640" y="2354400"/>
            <a:ext cx="1209600" cy="763560"/>
            <a:chOff x="5165640" y="2354400"/>
            <a:chExt cx="1209600" cy="763560"/>
          </a:xfrm>
        </p:grpSpPr>
        <p:sp>
          <p:nvSpPr>
            <p:cNvPr id="67" name=""/>
            <p:cNvSpPr/>
            <p:nvPr/>
          </p:nvSpPr>
          <p:spPr>
            <a:xfrm>
              <a:off x="5165640" y="235440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65640" y="274968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5165640" y="4138560"/>
            <a:ext cx="1209600" cy="763560"/>
            <a:chOff x="5165640" y="4138560"/>
            <a:chExt cx="1209600" cy="763560"/>
          </a:xfrm>
        </p:grpSpPr>
        <p:sp>
          <p:nvSpPr>
            <p:cNvPr id="70" name=""/>
            <p:cNvSpPr/>
            <p:nvPr/>
          </p:nvSpPr>
          <p:spPr>
            <a:xfrm>
              <a:off x="5165640" y="413856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m1_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165640" y="453384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m2_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6673320" y="4157640"/>
            <a:ext cx="194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thod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62400" y="1955880"/>
            <a:ext cx="1209960" cy="39528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186080" y="2151000"/>
            <a:ext cx="1312920" cy="1994040"/>
          </a:xfrm>
          <a:custGeom>
            <a:avLst/>
            <a:gdLst/>
            <a:ahLst/>
            <a:rect l="l" t="t" r="r" b="b"/>
            <a:pathLst>
              <a:path w="827" h="1256">
                <a:moveTo>
                  <a:pt x="773" y="20"/>
                </a:moveTo>
                <a:cubicBezTo>
                  <a:pt x="800" y="10"/>
                  <a:pt x="827" y="0"/>
                  <a:pt x="727" y="20"/>
                </a:cubicBezTo>
                <a:cubicBezTo>
                  <a:pt x="627" y="40"/>
                  <a:pt x="284" y="9"/>
                  <a:pt x="174" y="143"/>
                </a:cubicBezTo>
                <a:cubicBezTo>
                  <a:pt x="64" y="277"/>
                  <a:pt x="0" y="641"/>
                  <a:pt x="66" y="826"/>
                </a:cubicBezTo>
                <a:cubicBezTo>
                  <a:pt x="132" y="1011"/>
                  <a:pt x="352" y="1133"/>
                  <a:pt x="573" y="1256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6377040" y="1573200"/>
            <a:ext cx="706320" cy="35244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120080" y="1320840"/>
            <a:ext cx="182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 A ob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FEFF-E538-4571-8A18-A9A9D738CC2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 Black"/>
              </a:rPr>
              <a:t>Inheritance (“pointer polymorphism”)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8" name=""/>
          <p:cNvSpPr/>
          <p:nvPr/>
        </p:nvSpPr>
        <p:spPr>
          <a:xfrm>
            <a:off x="6604920" y="2751120"/>
            <a:ext cx="16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ject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805280" y="4200480"/>
            <a:ext cx="1209600" cy="36828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1_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805280" y="4595760"/>
            <a:ext cx="1209600" cy="36828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2_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180840" y="4033800"/>
            <a:ext cx="2262600" cy="15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thod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code ent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ints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mory loc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805280" y="2416320"/>
            <a:ext cx="1209600" cy="1158840"/>
            <a:chOff x="4805280" y="2416320"/>
            <a:chExt cx="1209600" cy="1158840"/>
          </a:xfrm>
        </p:grpSpPr>
        <p:sp>
          <p:nvSpPr>
            <p:cNvPr id="83" name=""/>
            <p:cNvSpPr/>
            <p:nvPr/>
          </p:nvSpPr>
          <p:spPr>
            <a:xfrm>
              <a:off x="4805280" y="241632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05280" y="281160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05280" y="320688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4805280" y="4991040"/>
            <a:ext cx="1209600" cy="36828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3_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00040" y="1289160"/>
            <a:ext cx="2923920" cy="268920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B : public A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b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3(void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b1 = a1 + a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95920" y="2028960"/>
            <a:ext cx="1209600" cy="39528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19600" y="2224080"/>
            <a:ext cx="1312920" cy="1994040"/>
          </a:xfrm>
          <a:custGeom>
            <a:avLst/>
            <a:gdLst/>
            <a:ahLst/>
            <a:rect l="l" t="t" r="r" b="b"/>
            <a:pathLst>
              <a:path w="827" h="1256">
                <a:moveTo>
                  <a:pt x="773" y="20"/>
                </a:moveTo>
                <a:cubicBezTo>
                  <a:pt x="800" y="10"/>
                  <a:pt x="827" y="0"/>
                  <a:pt x="727" y="20"/>
                </a:cubicBezTo>
                <a:cubicBezTo>
                  <a:pt x="627" y="40"/>
                  <a:pt x="284" y="9"/>
                  <a:pt x="174" y="143"/>
                </a:cubicBezTo>
                <a:cubicBezTo>
                  <a:pt x="64" y="277"/>
                  <a:pt x="0" y="641"/>
                  <a:pt x="66" y="826"/>
                </a:cubicBezTo>
                <a:cubicBezTo>
                  <a:pt x="132" y="1011"/>
                  <a:pt x="352" y="1133"/>
                  <a:pt x="573" y="1256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009840" y="1646280"/>
            <a:ext cx="706680" cy="35244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37120" y="1393920"/>
            <a:ext cx="165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B ob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18360" y="5888160"/>
            <a:ext cx="6964200" cy="8254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 that a pointer to a B object c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 treated as if it were a pointer to an A objec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A730-BAE9-4919-B416-7FF8B4F0541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 Black"/>
              </a:rPr>
              <a:t>Method overriding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4" name=""/>
          <p:cNvSpPr/>
          <p:nvPr/>
        </p:nvSpPr>
        <p:spPr>
          <a:xfrm>
            <a:off x="6287400" y="2652840"/>
            <a:ext cx="16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ject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92680" y="4162320"/>
            <a:ext cx="1209600" cy="36828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1_A_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792680" y="4557600"/>
            <a:ext cx="1209600" cy="36828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2_A_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190560" y="4132440"/>
            <a:ext cx="194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thod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4780080" y="2427120"/>
            <a:ext cx="1209600" cy="1158840"/>
            <a:chOff x="4780080" y="2427120"/>
            <a:chExt cx="1209600" cy="1158840"/>
          </a:xfrm>
        </p:grpSpPr>
        <p:sp>
          <p:nvSpPr>
            <p:cNvPr id="99" name=""/>
            <p:cNvSpPr/>
            <p:nvPr/>
          </p:nvSpPr>
          <p:spPr>
            <a:xfrm>
              <a:off x="4780080" y="242712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780080" y="282240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780080" y="321768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4792680" y="4952880"/>
            <a:ext cx="1209600" cy="36828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3_C_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96880" y="2057400"/>
            <a:ext cx="2923920" cy="3683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C : public A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c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3(void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b1 = a1 + a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2(int i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2 = c1 + 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5435640" y="5460480"/>
            <a:ext cx="0" cy="582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730840" y="5460480"/>
            <a:ext cx="0" cy="582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386240" y="5967360"/>
            <a:ext cx="115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cla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545800" y="596736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f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795920" y="2028960"/>
            <a:ext cx="1209600" cy="39528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19600" y="2224080"/>
            <a:ext cx="1312920" cy="1994040"/>
          </a:xfrm>
          <a:custGeom>
            <a:avLst/>
            <a:gdLst/>
            <a:ahLst/>
            <a:rect l="l" t="t" r="r" b="b"/>
            <a:pathLst>
              <a:path w="827" h="1256">
                <a:moveTo>
                  <a:pt x="773" y="20"/>
                </a:moveTo>
                <a:cubicBezTo>
                  <a:pt x="800" y="10"/>
                  <a:pt x="827" y="0"/>
                  <a:pt x="727" y="20"/>
                </a:cubicBezTo>
                <a:cubicBezTo>
                  <a:pt x="627" y="40"/>
                  <a:pt x="284" y="9"/>
                  <a:pt x="174" y="143"/>
                </a:cubicBezTo>
                <a:cubicBezTo>
                  <a:pt x="64" y="277"/>
                  <a:pt x="0" y="641"/>
                  <a:pt x="66" y="826"/>
                </a:cubicBezTo>
                <a:cubicBezTo>
                  <a:pt x="132" y="1011"/>
                  <a:pt x="352" y="1133"/>
                  <a:pt x="573" y="1256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6009840" y="1646280"/>
            <a:ext cx="706680" cy="35244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29560" y="1393920"/>
            <a:ext cx="16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C ob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A602-CBC6-4744-9C8F-5A2DAB401F4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Exampl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3" name=""/>
          <p:cNvSpPr/>
          <p:nvPr/>
        </p:nvSpPr>
        <p:spPr>
          <a:xfrm>
            <a:off x="547560" y="1962000"/>
            <a:ext cx="3838320" cy="292464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abstract class Shape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oolean IsShape() {return true;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oolean IsRectangle() {return false;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oolean IsSquare() {return false;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abstract double SurfaceArea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lass Rectangle extends Shape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double SurfaceArea { ...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oolean IsRectangle() {return true;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lass Squrae extends Rectangle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oolean IsSquare() {return true;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5246640" y="1179360"/>
          <a:ext cx="2678040" cy="2211480"/>
        </p:xfrm>
        <a:graphic>
          <a:graphicData uri="http://schemas.openxmlformats.org/drawingml/2006/table">
            <a:tbl>
              <a:tblPr/>
              <a:tblGrid>
                <a:gridCol w="2678040"/>
              </a:tblGrid>
              <a:tr h="55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hod table for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ectang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Shape_Shape_</a:t>
                      </a:r>
                      <a:r>
                        <a:rPr b="1" lang="en-US" sz="12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Sha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Rectangle_Shape_</a:t>
                      </a:r>
                      <a:r>
                        <a:rPr b="1" lang="en-US" sz="12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Rectang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Square_Shape_</a:t>
                      </a:r>
                      <a:r>
                        <a:rPr b="1" lang="en-US" sz="12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Sha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rfaceArea_Shape_</a:t>
                      </a:r>
                      <a:r>
                        <a:rPr b="1" lang="en-US" sz="12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Rectang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"/>
          <p:cNvSpPr/>
          <p:nvPr/>
        </p:nvSpPr>
        <p:spPr>
          <a:xfrm>
            <a:off x="5216400" y="3797280"/>
            <a:ext cx="283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hod table fo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Squ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16400" y="5888160"/>
            <a:ext cx="283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urfaceArea_Shape_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Rectang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216400" y="5356080"/>
            <a:ext cx="2830680" cy="532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sSquare_Shape_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Squ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216400" y="4838760"/>
            <a:ext cx="283068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sRectangle_Shape_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Rectang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216400" y="4317840"/>
            <a:ext cx="2830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sShape_Shape_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216400" y="3797280"/>
            <a:ext cx="2830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216400" y="4838760"/>
            <a:ext cx="2830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216400" y="5356080"/>
            <a:ext cx="2830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216400" y="5888160"/>
            <a:ext cx="2830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216400" y="6408720"/>
            <a:ext cx="28306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216400" y="3797280"/>
            <a:ext cx="0" cy="520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047080" y="3797280"/>
            <a:ext cx="0" cy="520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216400" y="4317840"/>
            <a:ext cx="2830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047080" y="4317840"/>
            <a:ext cx="0" cy="20908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216400" y="4317840"/>
            <a:ext cx="0" cy="20908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5920" y="5450040"/>
            <a:ext cx="3341520" cy="8240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compiler needs to u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SYMBOL TABLE to keep tr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object types and relationshi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CD3D-E4F9-4E8F-B8F7-A692CC02549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 Black"/>
              </a:rPr>
              <a:t>Static vs. Dynamic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ich method to invoke on overloaded polymorphic typ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7240" y="3890880"/>
            <a:ext cx="2771640" cy="150372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C *c = ...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A *a = 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-&gt;m2(3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537000" y="4137480"/>
            <a:ext cx="739080" cy="7970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4297320" y="3733920"/>
            <a:ext cx="3929040" cy="1592280"/>
            <a:chOff x="4297320" y="3733920"/>
            <a:chExt cx="3929040" cy="1592280"/>
          </a:xfrm>
        </p:grpSpPr>
        <p:grpSp>
          <p:nvGrpSpPr>
            <p:cNvPr id="136" name=""/>
            <p:cNvGrpSpPr/>
            <p:nvPr/>
          </p:nvGrpSpPr>
          <p:grpSpPr>
            <a:xfrm>
              <a:off x="4602240" y="3886200"/>
              <a:ext cx="3200400" cy="459720"/>
              <a:chOff x="4602240" y="3886200"/>
              <a:chExt cx="3200400" cy="459720"/>
            </a:xfrm>
          </p:grpSpPr>
          <p:sp>
            <p:nvSpPr>
              <p:cNvPr id="137" name=""/>
              <p:cNvSpPr/>
              <p:nvPr/>
            </p:nvSpPr>
            <p:spPr>
              <a:xfrm>
                <a:off x="4602240" y="3917880"/>
                <a:ext cx="2112840" cy="368280"/>
              </a:xfrm>
              <a:prstGeom prst="rect">
                <a:avLst/>
              </a:prstGeom>
              <a:noFill/>
              <a:ln w="284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Courier New"/>
                  </a:rPr>
                  <a:t>m2_A_A(a, 3);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910200" y="3886200"/>
                <a:ext cx="892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stati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4602240" y="4724280"/>
              <a:ext cx="3624120" cy="459720"/>
              <a:chOff x="4602240" y="4724280"/>
              <a:chExt cx="3624120" cy="459720"/>
            </a:xfrm>
          </p:grpSpPr>
          <p:sp>
            <p:nvSpPr>
              <p:cNvPr id="140" name=""/>
              <p:cNvSpPr/>
              <p:nvPr/>
            </p:nvSpPr>
            <p:spPr>
              <a:xfrm>
                <a:off x="4602240" y="4754520"/>
                <a:ext cx="2112840" cy="368280"/>
              </a:xfrm>
              <a:prstGeom prst="rect">
                <a:avLst/>
              </a:prstGeom>
              <a:noFill/>
              <a:ln w="284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Courier New"/>
                  </a:rPr>
                  <a:t>m2_A_C(a, 3);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911640" y="4724280"/>
                <a:ext cx="131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dynami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4297320" y="3733920"/>
              <a:ext cx="304920" cy="159228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41400 h 1592280"/>
                <a:gd name="textAreaBottom" fmla="*/ 1550880 h 159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02F3-C793-43A9-A3B8-4CB4B55343C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2-21T10:20:51Z</dcterms:modified>
  <cp:revision>274</cp:revision>
  <dc:subject/>
  <dc:title>Slide 1</dc:title>
</cp:coreProperties>
</file>