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C53-604D-4B3F-82F1-BD29FC1E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115-92E7-4584-A774-C50D4E54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A2C-317D-409B-9FD7-EF9842AC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0B4-70E3-4092-9752-005A3BC6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493-CF3E-4891-A7AC-5203FD45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2C8-EB69-4D3C-A2B4-1C262F83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47A-2938-4C5D-A38A-642A5CCB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711-E5D8-4962-A939-88692609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203-8FBB-4036-979E-40E1717A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7F5-C501-46F3-8961-2B69670C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06D-46B4-4E58-8DF5-331561BB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E09-2620-4BED-B4F3-BAAA167A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D4FC-6139-4275-AF08-E2606EC60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0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126-5662-41A3-9AC6-D643902176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a : gets address from stack top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3181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600" y="2789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2120" y="39574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5520" y="404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57320" y="3813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42559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336-7B85-4666-AB4B-E6491E28B5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to translate Applic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31800" y="1306440"/>
            <a:ext cx="2229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 (e1, e2 …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360" y="2457360"/>
            <a:ext cx="28857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0160" y="2911320"/>
            <a:ext cx="290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920" y="4133880"/>
            <a:ext cx="291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640" y="4606920"/>
            <a:ext cx="303660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to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ress of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heap, le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t on top of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60" y="6167520"/>
            <a:ext cx="280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" y="3610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       :      :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94520" y="178128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94520" y="268452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: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1960" y="4640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1840" y="181116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2714760"/>
            <a:ext cx="114912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7200" y="47545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81640" y="181764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4760" y="47959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68200" y="984240"/>
            <a:ext cx="11160" cy="587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5760" y="2658960"/>
            <a:ext cx="9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25920" y="2796840"/>
            <a:ext cx="641520" cy="12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2232000"/>
            <a:ext cx="91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0920" y="1415880"/>
            <a:ext cx="92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360" y="1819440"/>
            <a:ext cx="90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: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1000" y="1000080"/>
            <a:ext cx="90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1680" y="5145120"/>
            <a:ext cx="3815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ituation just before c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0160" y="5850000"/>
            <a:ext cx="404244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: code for function must treat v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mplicit parameter in order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local variables on 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C6C-7392-46C8-8C3B-4438D95F52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his works for functions-as-arg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65280" y="1986120"/>
            <a:ext cx="719100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j(x: int, k: int-&gt; int) { return k(k(x)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j(3, f(21)) + j(-1, f(17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A1A-DC50-4A73-9716-7068B96850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ilar problem with reference cell lifetimes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1757520"/>
            <a:ext cx="4752720" cy="3751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fun f(a : int) : int r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b : int ref := 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return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z : int ref = f(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!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DC3-4783-426B-AFE4-53312CA2E3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1217520"/>
            <a:ext cx="216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" y="3846600"/>
            <a:ext cx="272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000" y="1909800"/>
            <a:ext cx="23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22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8640" y="4529160"/>
            <a:ext cx="296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ocate space for x on hea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address of x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4480" y="1863720"/>
            <a:ext cx="407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un sum(x : int) : 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k : int ref :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s : int ref :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while  0 &lt; !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 := !s + !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k := !k -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 !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m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90840" y="1243080"/>
            <a:ext cx="25560" cy="537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8ED-63DA-4B9F-9E39-BBAEF8D497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references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729080" y="1244520"/>
            <a:ext cx="2553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2249640"/>
            <a:ext cx="498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 0             ; space for x’s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ll __allocate    ; get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py               ; duplicate top of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pto offset       ; store address of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store value of x in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2880" y="4357800"/>
            <a:ext cx="101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x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7000" y="5103720"/>
            <a:ext cx="402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from offset    ; x’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0" y="4257720"/>
            <a:ext cx="424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!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720" y="515772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from offset ; x’s addres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t             ; x’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01320" y="36133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9CC-2006-4B82-B065-F61B425775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functions-as-value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17440" y="1459080"/>
            <a:ext cx="6124320" cy="314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8600" y="5060880"/>
            <a:ext cx="5164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h NO!  Our previous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ambda lifting” no longer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433-0E8F-4488-98E6-85BD7684F3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dea --- function values as “closures”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95200" y="1201680"/>
            <a:ext cx="4935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0440" y="423216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960" y="44197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1600" y="459900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5360" y="6257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280" y="62690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e store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29320" y="341136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431496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0360" y="62118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91120" y="4389120"/>
            <a:ext cx="2179440" cy="3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5400" y="529272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5479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6920" y="565956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17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0720" y="4417560"/>
            <a:ext cx="2238480" cy="1041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53020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1240" y="42418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4120" y="1735200"/>
            <a:ext cx="28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closure is a record cont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address of a fun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its fre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442-AAAE-4015-8952-7B5A736097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401472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96040" y="52387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y arra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4280" y="271620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840" y="227664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3740040"/>
            <a:ext cx="1157400" cy="15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040" y="1440000"/>
            <a:ext cx="115740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116856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217656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48200" y="123480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8960" y="15271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3680" y="2232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44612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262728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035600"/>
            <a:ext cx="3387600" cy="2092320"/>
          </a:xfrm>
          <a:custGeom>
            <a:avLst/>
            <a:gdLst/>
            <a:ahLst/>
            <a:rect l="l" t="t" r="r" b="b"/>
            <a:pathLst>
              <a:path w="2654" h="1130">
                <a:moveTo>
                  <a:pt x="0" y="301"/>
                </a:moveTo>
                <a:cubicBezTo>
                  <a:pt x="125" y="301"/>
                  <a:pt x="251" y="301"/>
                  <a:pt x="343" y="381"/>
                </a:cubicBezTo>
                <a:cubicBezTo>
                  <a:pt x="435" y="461"/>
                  <a:pt x="480" y="670"/>
                  <a:pt x="554" y="782"/>
                </a:cubicBezTo>
                <a:cubicBezTo>
                  <a:pt x="628" y="894"/>
                  <a:pt x="677" y="1003"/>
                  <a:pt x="788" y="1052"/>
                </a:cubicBezTo>
                <a:cubicBezTo>
                  <a:pt x="899" y="1101"/>
                  <a:pt x="1026" y="1130"/>
                  <a:pt x="1218" y="1074"/>
                </a:cubicBezTo>
                <a:cubicBezTo>
                  <a:pt x="1410" y="1018"/>
                  <a:pt x="1768" y="875"/>
                  <a:pt x="1940" y="716"/>
                </a:cubicBezTo>
                <a:cubicBezTo>
                  <a:pt x="2112" y="557"/>
                  <a:pt x="2134" y="236"/>
                  <a:pt x="2253" y="118"/>
                </a:cubicBezTo>
                <a:cubicBezTo>
                  <a:pt x="2372" y="0"/>
                  <a:pt x="2513" y="4"/>
                  <a:pt x="2654" y="9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5320" y="540396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9960" y="63781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200" y="625140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1240" y="115416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7000" y="275904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88080" y="25729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5400" y="24242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0400" y="10810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heal_limi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41280"/>
            <a:ext cx="38880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A38-73D5-4626-86E0-22B9E0DFD4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5880" y="2541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1400" y="2806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886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6960" y="39924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3765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880" y="1776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3160" y="4452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178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9720" y="28130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4395960"/>
            <a:ext cx="11570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7040" y="63691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6800" y="43959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5259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4299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4880" y="6465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080" y="61722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80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24D-4705-4E62-8792-E3D1A97E48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360" y="25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403848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16800" y="62229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97720" y="3746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15040" y="38527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6840" y="362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4640" y="63198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5840" y="6026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8200" y="11145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8640" y="4056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5800" y="2649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6120" y="1641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3240" y="397368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615780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8280" y="3681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5600" y="3787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7400" y="3560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6254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6040" y="59612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1160" y="39974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978-FD54-41F4-B96B-6AFADFEC44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Implementation Conven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4883040"/>
            <a:ext cx="6520680" cy="1797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__allocate : load 2       ; entry point for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copy  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push 1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arith +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store 2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return       ; exit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81280" y="1395360"/>
            <a:ext cx="10792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1760" y="32464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17640" y="3258720"/>
            <a:ext cx="1066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3587760"/>
            <a:ext cx="1054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8320" y="1295280"/>
            <a:ext cx="10796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5280" y="985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1840" y="92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90760" y="2649600"/>
            <a:ext cx="313056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4920" y="27320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4760" y="290844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0160" y="191772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51880" y="3271680"/>
            <a:ext cx="12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free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450360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k this onto every jargon 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6880" y="2822400"/>
            <a:ext cx="166824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We will tal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ut “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llec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other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576-B3FF-4F74-8E57-0102066E08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ress of code may not be known at compile-tim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27280" y="1727280"/>
            <a:ext cx="6581520" cy="344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17(3) + f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641-FC9A-4EBF-A816-1BC2B6C967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osure conversion (similar to “lambda lifting”)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1200240"/>
            <a:ext cx="65815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)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)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40" y="3913200"/>
            <a:ext cx="84103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c, x) {return c.1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c, x) {return c.1 *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c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(g, [a]) else return (h, 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4040" y="2790720"/>
            <a:ext cx="995400" cy="90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8560" y="596736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0 = code pointer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8320" y="6221520"/>
            <a:ext cx="38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1 = array of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or some other data structure…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1E4-1D1C-4190-8FE5-018FF2391B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2T14:43:11Z</dcterms:modified>
  <cp:revision>280</cp:revision>
  <dc:subject/>
  <dc:title>Slide 1</dc:title>
</cp:coreProperties>
</file>