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2A10-B38C-4360-970F-93CFD4175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0151-BAB4-4277-B889-3DDE2B4E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A07C-FF77-45C6-8E1C-51CA82A17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4E22-0E40-4045-9299-369D03FA3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1ACA-F142-4545-AC15-402E776C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8DE9-97C6-444E-8CB6-B646B73F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265B-9F6D-44A3-AF72-683B953B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997A-DEEA-4AF8-B854-A9B33E89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C783-4E8A-4E3E-B9B8-6F4427EC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F601-E4C4-483A-8EE7-AFCDA135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916B-E0C7-4CD5-BE04-EBEAC489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E092-42E6-4397-BA17-7E9ABCA2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A15D-407D-4DE2-9B23-2B75C6B8E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imeanddate.com/calendar/monthly.html?year=2007&amp;month=1&amp;country=1" TargetMode="External"/><Relationship Id="rId2" Type="http://schemas.openxmlformats.org/officeDocument/2006/relationships/hyperlink" Target="http://www.timeanddate.com/calendar/monthly.html?year=2007&amp;month=2&amp;country=1" TargetMode="External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10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7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tatic Analysis --- Variables, Scope, and Typ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E7E1-5DBD-40CC-9259-EC3EC2D9F62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ypes and Type Error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583200" y="1582560"/>
            <a:ext cx="3106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x = “this” + 3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6080" y="2687760"/>
            <a:ext cx="43869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nt f(int x, int y) {…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f(1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92840" y="4165560"/>
            <a:ext cx="645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 type systems imposes a discipline on programming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nsures that the abstractions represented by type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t violated by a correct progra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78320" y="1463760"/>
            <a:ext cx="854280" cy="2352600"/>
          </a:xfrm>
          <a:custGeom>
            <a:avLst/>
            <a:gdLst>
              <a:gd name="textAreaLeft" fmla="*/ 0 w 854280"/>
              <a:gd name="textAreaRight" fmla="*/ 308520 w 854280"/>
              <a:gd name="textAreaTop" fmla="*/ 61200 h 2352600"/>
              <a:gd name="textAreaBottom" fmla="*/ 2291400 h 23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251760" y="2462040"/>
            <a:ext cx="21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vious type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32040" y="5425920"/>
            <a:ext cx="63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ules can be enforced 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pile-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un-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28280" y="5925960"/>
            <a:ext cx="12049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c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02800" y="5859360"/>
            <a:ext cx="1497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186D-F81C-4E84-B13B-1CD5DF1751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is a type error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813960" y="1736640"/>
            <a:ext cx="7313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x = (if true then 8 else “this”) + 1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9440" y="120636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is a type error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8560" y="2508120"/>
            <a:ext cx="26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ill never go wrong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9080" y="333684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about thi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9480" y="3854520"/>
            <a:ext cx="7313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x = (if g(x) then 8 else “this”) + 1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5240" y="4773600"/>
            <a:ext cx="769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we can prove that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g(x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lways true, then is will never go wrong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9320" y="5499000"/>
            <a:ext cx="846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that might be too much to ask for a (static) type checking system, si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looks like a undecidable problem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F760-545C-4483-8372-1CEF58EC44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ype Sys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3560" y="1074240"/>
            <a:ext cx="8229600" cy="26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nguage’s type system specifies how to construct types and which operations are valid for which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systems provide a concise formalization of the semantic checking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systems can be thought of a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g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which some very weak assertions can be proved automat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01200" y="3973680"/>
            <a:ext cx="52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preconditions} program {postconditions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65200" y="5261040"/>
            <a:ext cx="55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{ x :int } y = x + 17;  { y : int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4092-722C-4182-8D2A-BE80035D12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nother way to think of types as a logic…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5712120" y="231300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 |- a :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955120" y="140184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75360" y="1484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71960" y="2395440"/>
            <a:ext cx="28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 |- A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70240" y="1547640"/>
            <a:ext cx="34920" cy="464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57160" y="4538520"/>
            <a:ext cx="33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, A |- A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44480" y="4489560"/>
            <a:ext cx="429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, x:A |- x : A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3800" y="39258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i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31D4-B0C9-48E0-9A55-AD9BA747DB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junction and Pair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5081040" y="1825560"/>
            <a:ext cx="342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: A                H |- b :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(a, b) : A *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68280" y="4332240"/>
            <a:ext cx="188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p : A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fst(p) :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67520" y="4317840"/>
            <a:ext cx="192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p : A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snd(p) :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13240" y="2120760"/>
            <a:ext cx="12600" cy="397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53400" y="109692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ng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81680" y="12398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5200" y="2028960"/>
            <a:ext cx="342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               H |-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*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2440" y="4535640"/>
            <a:ext cx="188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63040" y="4521240"/>
            <a:ext cx="188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1657-9276-4212-9EF6-C757543A8B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mplication and function types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4413240" y="212076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53400" y="109692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ng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81680" y="12398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2028960"/>
            <a:ext cx="154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, A |-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59640" y="3571920"/>
            <a:ext cx="306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         H |-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3160" y="2233440"/>
            <a:ext cx="291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, x:A |- e: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fun x:A.e :A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80400" y="3776760"/>
            <a:ext cx="3579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f: A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         H |- a: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f(a) :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6D2A-D665-4FED-833B-6EB693B48B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isjunction and Case Switch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71360" y="3164040"/>
            <a:ext cx="872820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8800" y="340056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ng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5440" y="11556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4240" y="1994040"/>
            <a:ext cx="154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||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49640" y="1962000"/>
            <a:ext cx="3850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||B     H,A |- C    H,B|-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84680" y="1954080"/>
            <a:ext cx="154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||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09840" y="3867120"/>
            <a:ext cx="239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: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inr(a) : A ||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99440" y="3790800"/>
            <a:ext cx="239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b: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inl(b) : A ||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0000" y="5286240"/>
            <a:ext cx="624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d : A||B     H, x:A |- e1 : C    H, y:B |- e2 :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(case d of inr(x)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1, inr(y)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2) :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2761-1FAD-4008-B348-DA71F8E672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e Morgan’s Laws as Code!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2260440" y="1109520"/>
            <a:ext cx="343620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d: (A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|| (B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p : A*B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d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l(f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f(fst p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r(g) -&gt; g(snd 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4520" y="324180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63520" y="3522600"/>
            <a:ext cx="48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(A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 || (B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*B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812960" y="4633920"/>
                <a:ext cx="4218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¬</m:t>
                    </m:r>
                    <m:r>
                      <m:t xml:space="preserve">A</m:t>
                    </m:r>
                    <m:r>
                      <m:t xml:space="preserve">∨</m:t>
                    </m:r>
                    <m:r>
                      <m:t xml:space="preserve">¬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¬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657000" y="4091040"/>
            <a:ext cx="54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a generalization of De Morgan’s 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8342280" y="4235400"/>
                <a:ext cx="5126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7316280" y="4170240"/>
            <a:ext cx="1789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en re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lse by 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7684920" y="4773600"/>
                <a:ext cx="11494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fals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7302600" y="3975120"/>
            <a:ext cx="1841400" cy="19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07120" y="5522760"/>
            <a:ext cx="591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this same thing be done with all of De Morgan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three rules?   Yes?  N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3119-FCFD-4D45-B3F1-0481C05725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03440" y="4483080"/>
            <a:ext cx="46332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L(k) vs. LR(k) reduction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928800" y="1130400"/>
                <a:ext cx="7002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β</m:t>
                    </m:r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w</m:t>
                    </m:r>
                    <m:r>
                      <m:t xml:space="preserve">'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∪</m:t>
                    </m:r>
                    <m:r>
                      <m:t xml:space="preserve">N</m:t>
                    </m:r>
                    <m:sSup>
                      <m:e>
                        <m:r>
                          <m:t xml:space="preserve">)</m:t>
                        </m:r>
                      </m:e>
                      <m:sup/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'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665360" y="1930320"/>
                <a:ext cx="1187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L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4451400" y="1817640"/>
            <a:ext cx="23760" cy="460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8040" y="2498760"/>
            <a:ext cx="815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892840" y="1878120"/>
                <a:ext cx="11858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R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708120" y="2936880"/>
            <a:ext cx="29257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68600" y="2935440"/>
            <a:ext cx="11095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862280" y="2846520"/>
                <a:ext cx="5554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 flipV="1">
            <a:off x="1682640" y="3474720"/>
            <a:ext cx="0" cy="608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1881000" y="3161880"/>
            <a:ext cx="220680" cy="598320"/>
          </a:xfrm>
          <a:custGeom>
            <a:avLst/>
            <a:gdLst>
              <a:gd name="textAreaLeft" fmla="*/ 141120 w 220680"/>
              <a:gd name="textAreaRight" fmla="*/ 221040 w 220680"/>
              <a:gd name="textAreaTop" fmla="*/ 15480 h 598320"/>
              <a:gd name="textAreaBottom" fmla="*/ 582840 h 59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32200" y="3651120"/>
            <a:ext cx="19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token look a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160" y="4950000"/>
            <a:ext cx="463680" cy="107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24320" y="571176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703440" y="4498920"/>
                <a:ext cx="426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2822400" y="4479840"/>
            <a:ext cx="46368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27440" y="4933800"/>
            <a:ext cx="46332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822400" y="4441680"/>
                <a:ext cx="4273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1474920" y="4863960"/>
            <a:ext cx="987120" cy="560520"/>
          </a:xfrm>
          <a:prstGeom prst="rightArrow">
            <a:avLst>
              <a:gd name="adj1" fmla="val 50000"/>
              <a:gd name="adj2" fmla="val 440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10640" y="4422600"/>
            <a:ext cx="108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eft-m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bol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81680" y="4383000"/>
            <a:ext cx="46368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23000" y="2860560"/>
            <a:ext cx="3412800" cy="42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83120" y="2859120"/>
            <a:ext cx="110988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6076800" y="2770200"/>
                <a:ext cx="5558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 flipV="1">
            <a:off x="6970680" y="3288960"/>
            <a:ext cx="0" cy="608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7216560" y="3085560"/>
            <a:ext cx="220680" cy="598320"/>
          </a:xfrm>
          <a:custGeom>
            <a:avLst/>
            <a:gdLst>
              <a:gd name="textAreaLeft" fmla="*/ 141120 w 220680"/>
              <a:gd name="textAreaRight" fmla="*/ 221040 w 220680"/>
              <a:gd name="textAreaTop" fmla="*/ 15480 h 598320"/>
              <a:gd name="textAreaBottom" fmla="*/ 582840 h 59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92160" y="3514680"/>
            <a:ext cx="138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token loo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73760" y="4849920"/>
            <a:ext cx="46368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02920" y="561168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8026560" y="4373640"/>
                <a:ext cx="426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8001000" y="4379760"/>
            <a:ext cx="46368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05680" y="4834080"/>
            <a:ext cx="46368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904000" y="4329000"/>
                <a:ext cx="42696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6653160" y="4764240"/>
            <a:ext cx="987480" cy="560160"/>
          </a:xfrm>
          <a:prstGeom prst="rightArrow">
            <a:avLst>
              <a:gd name="adj1" fmla="val 50000"/>
              <a:gd name="adj2" fmla="val 440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9200" y="4398840"/>
            <a:ext cx="120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ight-m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bol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7400" y="1838160"/>
            <a:ext cx="815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015400" y="4375080"/>
                <a:ext cx="426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879440" y="6103800"/>
            <a:ext cx="2126880" cy="580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The language of th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Stack IS REGULA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6AFB-1B86-4D9D-B5A1-8A6BAF5BC6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2610000"/>
            <a:ext cx="8510400" cy="208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97000" y="1109520"/>
            <a:ext cx="4267440" cy="7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67480" y="3019320"/>
            <a:ext cx="46368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R(k) states (non-deterministic)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373480" y="1136520"/>
                <a:ext cx="411156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β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1390680" y="2911320"/>
            <a:ext cx="2925720" cy="42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51160" y="2909880"/>
            <a:ext cx="11095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544840" y="2820960"/>
                <a:ext cx="5554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 flipV="1">
            <a:off x="2365200" y="3449160"/>
            <a:ext cx="0" cy="608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59560" y="3486240"/>
            <a:ext cx="46368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25120" y="293220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567480" y="3070080"/>
                <a:ext cx="4269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927080" y="5205240"/>
                <a:ext cx="37720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7250760" y="2800440"/>
            <a:ext cx="120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ight-m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bol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5680" y="119052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2360" y="196848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hould represent this situ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5240" y="2940120"/>
            <a:ext cx="75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npu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9200" y="535608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E9DD-C5D9-41E4-9921-B31E41B4A4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piler Construction, Revised 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32120" y="1187280"/>
            <a:ext cx="443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exical 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heory of Context Free Grammars (CFGs) and Predictive (recursive descent) Par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Variables, Scope, Typ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Stack Machi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Procedures, Functions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Procedures, Functions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Register Machine &amp; MinCaml middle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y code, linker, load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Code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MinCaml back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Garbage Colle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bject Orien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Interpreters, Byte Code interpreters, virtual mach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4920" y="1687680"/>
            <a:ext cx="2099160" cy="3987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an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2   3   4   5   6  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  9 10 11 12 13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16 17 18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3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ebr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3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6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8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3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7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2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4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7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55880" y="37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16280" y="279396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16280" y="399888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04240" y="1330200"/>
            <a:ext cx="233280" cy="1403640"/>
          </a:xfrm>
          <a:custGeom>
            <a:avLst/>
            <a:gdLst>
              <a:gd name="textAreaLeft" fmla="*/ 0 w 233280"/>
              <a:gd name="textAreaRight" fmla="*/ 84240 w 233280"/>
              <a:gd name="textAreaTop" fmla="*/ 36360 h 1403640"/>
              <a:gd name="textAreaBottom" fmla="*/ 1367280 h 14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81160" y="173196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ont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45280" y="5005440"/>
            <a:ext cx="198360" cy="1287360"/>
          </a:xfrm>
          <a:custGeom>
            <a:avLst/>
            <a:gdLst>
              <a:gd name="textAreaLeft" fmla="*/ 0 w 198360"/>
              <a:gd name="textAreaRight" fmla="*/ 71640 w 198360"/>
              <a:gd name="textAreaTop" fmla="*/ 33480 h 1287360"/>
              <a:gd name="textAreaBottom" fmla="*/ 1253880 h 128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61880" y="5024520"/>
            <a:ext cx="8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e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49960" y="2863800"/>
            <a:ext cx="196920" cy="1013040"/>
          </a:xfrm>
          <a:custGeom>
            <a:avLst/>
            <a:gdLst>
              <a:gd name="textAreaLeft" fmla="*/ 0 w 196920"/>
              <a:gd name="textAreaRight" fmla="*/ 70920 w 196920"/>
              <a:gd name="textAreaTop" fmla="*/ 26280 h 1013040"/>
              <a:gd name="textAreaBottom" fmla="*/ 986760 h 101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87560" y="491184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47080" y="4068720"/>
            <a:ext cx="220680" cy="709560"/>
          </a:xfrm>
          <a:custGeom>
            <a:avLst/>
            <a:gdLst>
              <a:gd name="textAreaLeft" fmla="*/ 0 w 220680"/>
              <a:gd name="textAreaRight" fmla="*/ 79560 w 220680"/>
              <a:gd name="textAreaTop" fmla="*/ 18360 h 709560"/>
              <a:gd name="textAreaBottom" fmla="*/ 691200 h 70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80800" y="3094200"/>
            <a:ext cx="126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iddle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03200" y="4260960"/>
            <a:ext cx="105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ack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1C39-A0DC-4FF8-B73D-036E85E98B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3680" y="380520"/>
            <a:ext cx="885996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Black"/>
              </a:rPr>
              <a:t>Names, binding, scope, type checking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14280" y="2565360"/>
            <a:ext cx="4089600" cy="188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s,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pe (visibil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01200" y="1297080"/>
            <a:ext cx="3061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tatic int x = 17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void f(int x, int 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t i, 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 = i + x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t g(int i, int 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t 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(k, x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(i, k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1393-B332-453A-B4B0-CACDD65BB1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cop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: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co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variable is the range of statements over which it is v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: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onlocal variab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program unit are those that are visible but not declared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ope rules of a language determine how references to names are associated with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1B34-EAE6-4323-9940-C9602A2288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-values vs. R-valu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3124800" y="14479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x = x + 3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1480" y="1523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n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597040" y="1864800"/>
            <a:ext cx="573120" cy="560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9880" y="2462040"/>
            <a:ext cx="26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L-value repres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memory loc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4154400" y="1923840"/>
            <a:ext cx="473040" cy="48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40960" y="2459160"/>
            <a:ext cx="35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R-value repres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value stored at the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ion associated with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90240" y="44560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A[j*2] = j + 3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88920" y="4375080"/>
            <a:ext cx="27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L-values may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d at run-ti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5385-BCDC-4472-89DC-CB3E777966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27400" y="-360"/>
            <a:ext cx="461304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Bind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46200" y="115560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ing is not formally defined. Intuitively, we associate (that is, bind) an attribute with an entity. Examples of attributes are name, type,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ing occurs at various times in the life of a program. Three periods are usually conside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pile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ctually, translation time, because binding happens both in compilers and interpreter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ad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eparing object code for execution, pulling in the necessary code for built-in operations or operations defined in libraries of module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un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etween starting the program's execution and its terminatio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CEE8-F392-403D-B681-554844F48D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ynamic binding is just a BAD IDEA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2557440" y="1774800"/>
            <a:ext cx="292392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a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f()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g(a) = f(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int g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620800" y="3608280"/>
            <a:ext cx="11224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92280" y="374184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c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39960" y="3701880"/>
            <a:ext cx="168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49840" y="3605040"/>
            <a:ext cx="1155600" cy="766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64320" y="4545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6680" y="4529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43720" y="5156280"/>
            <a:ext cx="627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though dynamic scoping is easier to implement, reading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derstanding code can be nearly impossib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BE37-023A-4D58-9611-A074F6F632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23T09:29:01Z</dcterms:modified>
  <cp:revision>282</cp:revision>
  <dc:subject/>
  <dc:title>Slide 1</dc:title>
</cp:coreProperties>
</file>