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9B29-35F5-47AA-BB4B-E2CFBB3A8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4E93-E54F-4CCA-B944-F67B8528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15EC-640E-49E2-A1B8-E7A93E9B0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23FA-0617-4C61-BFD4-493093CD2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EA6C-34CA-4BF2-AF02-2DCFF8DA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A644-DCFC-48D2-A056-F8B8A769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ABA7-3789-449D-B719-7067D035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0238-1DB9-4E88-A605-AE7D630D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5A66-792B-4166-A59F-6156BD4F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9FA9-CA6A-4A0E-A810-34067603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BEA3-082A-4DB1-A29E-3DA53B5E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F982-E52A-4A3B-A42F-E43BBFA4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F419-4607-4C63-95AB-9447AE95A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Jon.crowcroft@cl.cam.ac.uk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leable Ubiquitou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should be enough – 1 or 2 in the US and 1 in England”…(ok, Scotland)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needs from other discip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heor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– need to accommodate theory of ubi systems – e.g. location, reliable, e.g. Need to work between network calculi and process calculi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User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need to tell us what new model of transparencies are!!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exemplar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ct as a clock for systems work…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problem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ple of other thoughts about meta-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location of data and code a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tag;  but include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en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principles/capabilities) in some (many?) applications to feed into user confidence. TR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some sort of syste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conom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of combined data, processing and communications) AFFORD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mpl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sentient building, street, hospital, city, planet, solar system, 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uture is bright, the future is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windows, IP, in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ole new business in processor, OS,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re importantly, whole new models for systems, including a science, not just engineering, and including people, not just technolo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leable Ubiquitou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ystems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CS Systems Grand Challe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Jon.crowcroft@cl.cam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ttp://www.cl.cam.ac.uk/~jac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biquity&amp;Environment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sumptions – extend scale down and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rst Dow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psilon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mited traditional resources (comms, cpu, memo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y low (range, and variability) MTBF, high MTTR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ut: do assume a large“infrastructure”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ear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(i.e.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ot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bsolutely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NOT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d hoc self or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biquity&amp;Environment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sumptions – extend scale down and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then u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000 powered devices per pers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rabytes of store per person per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xed network capacity Gbps per person 24*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TBF 100 year line, disk, 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nformation Theory app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de must be executed redundantly ,but not greedily!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ta must be stored (and moved) in some FEC manner (c.f. eternity/pastry etc) (DHT, Rabin Fingerprint, stripe/wra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nsmission need to deal with lowering overheads, adapting to circumstance and converging in determined time (e.g. routing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ggressive use of intermediaries to cache, transform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wer, location, identity and ownership are a first class member of (meta) data, code, node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erating System, Comms “Stack”, Storage all subject to same limitations as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s minimal unit we “boot” – pico/nano hypervisor (xen) ker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s the VM of a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 subset of nodes that present a traditional “computer” to the world (I.e. is hierarchical decomposition of function still ok or do we need new model (components in a graph combine to provide overall service – e.g. store an object, deliver a sense…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is refl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n monitor and reason about (and report) its own behaviour and esp. performance (e.g. accuracy, timeliness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n reason about trust in system from h/w up (viz TCB will be here before mid way through G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oal is Highly Optimized Tolerance (see Doy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eria for Ubiquitou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Programmabl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y “naïve” u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rate continuously in evolving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ale to 10^12 nodes – measure \(IMW) ubi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ustworthy (“proof of behaviour” carrying code) – I.e. us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stainable, Adaptable, Multipur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cept of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Transparenci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revised from ODP…accuracy+certainty derived from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or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f…expresses principles (e.g. e2e, parsimony, soft state, etc etc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Ubiquitou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mpowers some users (c.f. normal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uman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mpowers some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.e. economic in some sense, although for some (e.g. support for field work, whether science, medicine or what have you) not do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corporate range of intermediaries for pipelines of  transforms (lego like)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6:41:37Z</dcterms:created>
  <dc:creator>jon</dc:creator>
  <dc:description/>
  <dc:language>en-US</dc:language>
  <cp:lastModifiedBy>Computer Laboratory</cp:lastModifiedBy>
  <dcterms:modified xsi:type="dcterms:W3CDTF">2002-12-10T12:55:34Z</dcterms:modified>
  <cp:revision>22</cp:revision>
  <dc:subject/>
  <dc:title>Scaleable Ubiquitous Systems</dc:title>
</cp:coreProperties>
</file>