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6C3-3A16-4708-8CBB-53A27DA9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FD4-9CFC-4E30-8B1E-7906CBCF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613-2B1E-4E22-B153-8E2F3240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ED4-A70D-4D11-8B06-D2F38EDC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D1F-A383-46EC-AF65-56DB61DB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58B-89A2-47DF-9B18-2CBD653D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7F9-F7FD-4D68-AB50-EBCD3B2F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FBC-F542-43F1-B356-210940D1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462-00DC-4E3E-B155-712D46AB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5D5-5EE7-4A99-8363-5EE3E903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8BE-8BCB-490D-86AE-E86360B2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6E7-4A60-4F93-AF40-B574DC58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D8E6-F5F1-4928-A60C-D0592DB13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lessness is next to go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es: you can google for me as well as the next person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y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-to-peer: Still worth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3228840" cy="241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21052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1. Are P2P concepts worth so much time and ener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ve looked at lots of P2P papers and they (almost) always seem compare performance between this and that P2P system (myDht v. yourDHT or structured v. unstructur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one cares about P2p In the real world until you compare p2p with akam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2. What is P2P good for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us have been working on MANETs and DTNs (Also Terrible Mistakes?: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eems like it ma be that the _only_ way to organise applications in that space is to use P2P (combined with cross layer optimisation or even no layers) - perhaps that way (e.g. in community wifi deployment and disaster zones) lie indispensible P2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3. What next,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ple of grand challenge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ot ony beat the performance (latency and throughput) Of current mainstream commercial CDNs? (as well as providing the nebulous claimed benefits things like anonimity and attack-proofn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ys were never meant to be the end of history- they are a way to develop the replacement for the underlay - in DTNs, P2P can _be_ the network. Can this be true for the internet t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(if google was P2P, could we get rid of Cisco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slid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1. Any useful P2P concep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things about www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 no consistency=&gt;interne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no semantics=&gt;free text index/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bit of P2P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anonymity=&gt;beat copyright/d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ivious to network efficiency=&gt;attracts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2. Legal C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not just BBC but Warner use P2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we had zero knowledge payment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market research with privacy!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rcial reality is need 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 VCD by post more predictabl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ce between broadband &amp; storag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3: 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are about network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gure out right type of pseud-anoni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hide, but I can’t not p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get discount for ser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sion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d-to-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get about DHTs and Hybercub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cy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bittorrent, video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entralised carousel/digital f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1:47:30Z</dcterms:created>
  <dc:creator>jac22</dc:creator>
  <dc:description/>
  <dc:language>en-US</dc:language>
  <cp:lastModifiedBy>Jon Crowcroft</cp:lastModifiedBy>
  <dcterms:modified xsi:type="dcterms:W3CDTF">2005-10-24T09:13:10Z</dcterms:modified>
  <cp:revision>4</cp:revision>
  <dc:subject/>
  <dc:title>Peerlessness is next to godlessness</dc:title>
</cp:coreProperties>
</file>