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350-CCF4-4733-AD82-9D438FCD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914-BDA7-4BE5-8117-D66C3BC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6BA-C778-42C8-BAC8-F7ECEA4D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8FE-FDBD-48A2-AA0F-5F409CEE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F73-EA70-4390-BBD0-7A15F17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4193-80EF-42AA-9AD3-622B49B9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2B9-077E-4069-80DC-73F992BC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0C4E-9D32-4C71-8436-55EE863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9A4D-F3B1-47AC-ACCB-BAE7403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F76-4534-4AFF-AD61-8289799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7778-ED5C-427C-ADB9-641E5A2B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121-D515-4F8F-BFBC-12309E02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FF2-E280-4747-A813-6DCC9F32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16DC-0813-4A7D-AF79-12826766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B0C6-F394-4153-A86C-E59A99E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CCE0-A3E1-42F7-979B-52275DFB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6216-E9B8-4827-AD22-60506F9B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EA8-54F0-41C2-8350-93FC2A6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773-431E-4026-8C31-0D859704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A9F-D3DB-4352-AA43-0610AAA3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360-94D9-48FC-848C-0CC6C9E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7C3-13B5-4892-8EDC-FC3B103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17C-19F6-4C23-983C-9FF2048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D1C-28EA-4F31-85EA-9C2EA43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3DF4-F54C-455E-A698-A9107B26A96A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, Fi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A015-7222-4288-9233-7DA05BEFD32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C981-DF87-42DC-8C82-D226D6B39D79}" type="datetime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REALMAN 2006 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F79F-68F4-4A1A-BC12-CA9FDABBFE7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University of Cambridge"/>
          <p:cNvPicPr/>
          <p:nvPr/>
        </p:nvPicPr>
        <p:blipFill>
          <a:blip r:embed="rId3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8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35880" cy="155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REALMAN ‘06 Pan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REAL must be the ad hoc network research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172200" cy="205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Gothic"/>
              </a:rPr>
              <a:t>Jon Crowcroft (University of Cambridg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1"/>
              </a:rPr>
              <a:t>Jon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2"/>
              </a:rPr>
              <a:t>crowcroft@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3"/>
              </a:rPr>
              <a:t>.cam.ac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4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6"/>
              </a:rPr>
              <a:t>cl</a:t>
            </a:r>
            <a:r>
              <a:rPr b="0" lang="en-GB" sz="2800" spc="-1" strike="noStrike" u="sng">
                <a:solidFill>
                  <a:srgbClr val="0081cc"/>
                </a:solidFill>
                <a:uFillTx/>
                <a:latin typeface="Century Gothic"/>
                <a:hlinkClick r:id="rId7"/>
              </a:rPr>
              <a:t>.cam.ac.uk/~jac2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666880" y="609480"/>
            <a:ext cx="7621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7680" y="88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33640" y="612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2FAC1C3-93E1-46E2-9F71-6F84E2809146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3 MANET Research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ersity, Heterogeneity, Ad Hocke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“one size fits all” generic solu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silver bull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I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racterize by Scenari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pplication, Us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ower, Spectrum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bility, RF Pr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2F87A-F887-447C-82CE-28E48EF32760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s per Internet, pre IMC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ut many different ne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eed to interconnect the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is bespoke/custo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to build codified mod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 can pick one for scenari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 of a “library” of models&amp;cod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s like software defined rad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t for whole network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2E69D-9928-4302-811D-73A45B4B664D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buted Learn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uld we build self-awareness 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ll MANETs log behaviou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load to infrastructure when onlin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t like sourceforge+crawda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bin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eed some sort of authentica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 bad guys don’t infect co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like p2p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ECA17-C5E8-4F45-99B5-A4A6133D4D4F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hase 1,2,3,4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liferation of rout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totypical de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be codification of scenari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etting commercial uptak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C VF Talk 23/5/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C6B36-2D74-44D9-A9FF-A9E905F967E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on Crowcroft</dc:creator>
  <dc:description/>
  <dc:language>en-US</dc:language>
  <cp:lastModifiedBy>jon crowcroft</cp:lastModifiedBy>
  <dcterms:modified xsi:type="dcterms:W3CDTF">2006-05-21T16:05:26Z</dcterms:modified>
  <cp:revision>231</cp:revision>
  <dc:subject/>
  <dc:title>Inroads</dc:title>
</cp:coreProperties>
</file>