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ADF-A2F2-49D3-943F-6B0D719D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DCC-8A86-4697-A062-F5C4F58A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EA0-8441-4F80-956F-7FE1ABBF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938-B092-4595-99BE-FA7B6B37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D839-76AF-4529-B625-0A8A4AD3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862-8AE1-4530-8271-40017881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96E-C14A-42BD-AF39-6CEFBE4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1481-AC1E-4B0D-9A24-981D1A95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17D-58F7-4142-BE72-9AEB286F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7FDB-7149-405E-9C0E-D797FC8F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B82F-9F5A-4AED-B91E-3DEA8F1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142-BC61-40A7-9108-32F4B384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ED5C-2E71-495D-BDBE-E54279D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7F47-BAF9-4C0C-9DB3-53CFFBA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4C43-AAA7-452E-AEAB-7137DD6E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FD0F-39C9-4E01-9622-CEDD9CC7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2C6B-BD99-4A5E-A564-98CB9901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055-A58D-4172-A124-1B35006C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4C5-F592-492E-B42C-33CCE5C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140-0D66-4B23-B731-0A5A0E50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920-37BA-427D-9558-FB717F9A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FCB-2228-4521-8D30-D8BCA03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D5F-4565-4D47-ADCD-532A80FE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0C1-8250-450E-B465-18711DDF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7266-B934-4CF2-B690-93CD52C5481C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0DBE-5A58-4494-877C-ABD6A1875F3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2B98-714D-4999-B737-C4FB9E923968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0FE9-1333-46FD-BDFB-8E8FE2D745B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University of Cambridge"/>
          <p:cNvPicPr/>
          <p:nvPr/>
        </p:nvPicPr>
        <p:blipFill>
          <a:blip r:embed="rId3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8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35880" cy="155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ALMAN ‘06 Pan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REAL must be the ad hoc network research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17220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Jon Crowcroft (University of Cambridg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1"/>
              </a:rPr>
              <a:t>Jon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crowcroft@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.cam.ac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6"/>
              </a:rPr>
              <a:t>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7"/>
              </a:rPr>
              <a:t>.cam.ac.uk/~jac2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666880" y="60948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7680" y="88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3640" y="612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EC9079E-BCD9-40CE-B4B3-FA4253D4D222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3 MANET Research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ersity, Heterogeneity, Ad Hocke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“one size fits all” generic solu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silver bull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I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racterize by Scen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pplication, U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wer, Spectrum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bility, RF Pr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7BF6F-218F-495B-B251-05AF033D350F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s per Internet, pre IMC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many different n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eed to interconnect the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is bespoke/cust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to build codified mod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 can pick one for scenar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 of a “library” of models&amp;co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s like software defined rad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t for whole network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4B5F3-052C-47C6-B105-CF6BD0A24FE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buted Learn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uld we build self-awareness 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ll MANETs log behavi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load to infrastructure when onl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t like sourceforge+crawda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some sort of authentic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 bad guys don’t infect co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like p2p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B3E6C-6DAF-48B5-A897-5DCB93C6FF39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1,2,3,4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liferation of rout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otypical de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be codification of scenari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tting commercial uptak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57229-8DBC-4120-A108-5B92CDF7A787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on Crowcroft</dc:creator>
  <dc:description/>
  <dc:language>en-US</dc:language>
  <cp:lastModifiedBy>jon crowcroft</cp:lastModifiedBy>
  <dcterms:modified xsi:type="dcterms:W3CDTF">2006-05-21T16:05:26Z</dcterms:modified>
  <cp:revision>231</cp:revision>
  <dc:subject/>
  <dc:title>Inroads</dc:title>
</cp:coreProperties>
</file>