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5E85-AF19-4148-8918-A2F49AE70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91212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9942-E63E-4A76-8610-7E785A8C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F167-E557-47FF-BCBF-A05A3CECC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9F89-046D-440F-B7D2-10B9FEFAA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2BD34-22A1-4032-A080-484460E2D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DF5A8-80A6-41DF-8EF8-A33C579DD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51F7C-9355-4D85-97B2-4BDC8C9CF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8755E-7549-4C09-B594-DF0386C27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D6868-7E42-4D58-8290-D542AD1F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FDB38-43C6-48A6-B42A-C512E810F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8CFE5-DD2C-4E02-918E-29994170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D941-6DDD-4374-B8F3-1D02B3FC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04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CD3B1-02F7-491C-AB71-0D6DB0D4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F9E56-38C2-45DE-884A-158DF036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880" y="391212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A4A11-DBBE-4AE9-8C45-3DF7EFAD9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04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92E2F-7A33-47BC-955B-7B9A6EC66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516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4944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88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516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4944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1DFBD-CC69-4701-ABCE-0AB69475B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5D8C-E0EC-41C3-AB87-B24A5DC39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DA58-6277-4C5D-9458-399EB56BF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5A62-9BF1-442B-9082-0148A6B33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83A7-2EEF-4265-A69D-67543A31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C66E-461E-45E7-BB95-A745F2BA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F798-8176-48FE-9344-FCE270E7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1363-8F3C-4CE8-81D7-8FAC67DF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5280" y="6381720"/>
            <a:ext cx="244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oFIS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1BEFD-ECE5-4BC0-A5A4-C73BBCA6D0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934320" y="6093000"/>
            <a:ext cx="1823760" cy="5950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493560" y="1143000"/>
            <a:ext cx="838224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838080"/>
            <a:ext cx="381240" cy="32767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2735280" y="6237000"/>
            <a:ext cx="367344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924F4-0B1C-483A-9726-53815C9030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10080" y="4818240"/>
            <a:ext cx="3027600" cy="987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9172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100" spc="-1" strike="noStrike">
                <a:solidFill>
                  <a:srgbClr val="000000"/>
                </a:solidFill>
                <a:latin typeface="Arial"/>
              </a:rPr>
              <a:t>Mobile QoS:Can we provide predictable services for unpredictably mobile users?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62120" y="2666880"/>
            <a:ext cx="7696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n Crowcro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14600" y="3103560"/>
            <a:ext cx="41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on.Crowcroft@cl.cam.ac.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pplication Adaption v. Guarante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old chestnut – can always do adaptation, but users (particularly humans) don’t like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need admission control (Yes, I agree with Jim Roberts!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s to be policed down to the MAC/physical layer, and included in spectrum allo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suggest spectrum allocation by economic meas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titute surprising price for surprising QoS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bilem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ostring/gibbens/kelly/crowrof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Optimis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user has a utility function to optimis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is optimise the aggregate utilit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l Algorith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s adapt their transmission rates (c.f. TC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 prices set by aggregate traffi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al Algorith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nodes adapt prices (c.f. ATM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ssion rates are set by route pr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ffff66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ces are used to guide a system to its optimum operating poi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ystem Mode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of N nodes:  node S has R routes to send traffic to 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 select particular route(s) to us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s are equipped with one directional transcei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des cannot send/receive simultaneousl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ffic sent, received or forwarded (received &amp; sent) is constrained by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um speed of wireless car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power consumption at a node is constrained b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consumed by transmitting/receiving/forwarding traff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ate Control, Price Adapt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node has a willingness-to-pay paramet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s on node’s credit balanc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 S determines the route with minimum pr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s discovered by, e.g. DS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orithm for sending r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 price is the cumulative cost of sending traffic on each hop along the rou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mission cost &amp; receiving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s include power costs and capacity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s adapt bandwidth and power pri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 local total traffic load and power consump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6477120" y="3657600"/>
                <a:ext cx="13683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redit Bala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18560" cy="456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incentives for users to forward traffi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s receive credit for forwarding traffi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unt of credit received is dependent on the node prices and the magnitude of the f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receive an initial credit balance of 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ingness-to-pay is proportional to credit balanc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dit is lost when users leave the syst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unt of credit lost depends on credit accrued by the user during its stay in the networ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 a discount fact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590920" y="4191120"/>
                <a:ext cx="49705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B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β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d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r</m:t>
                        </m:r>
                        <m:r>
                          <m:t xml:space="preserve">:</m:t>
                        </m:r>
                        <m:r>
                          <m:t xml:space="preserve">s</m:t>
                        </m:r>
                        <m:r>
                          <m:t xml:space="preserve">∈</m:t>
                        </m:r>
                        <m:r>
                          <m:t xml:space="preserve">r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r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imulation Desig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ly placed nodes in a 100mx100m gri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nodes within range of a node’s radio are its neighbour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s are ON-OFF sour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/OFF periods are exponentially distribute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inations for traffic during ON period are uniformly distribute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 costs are determined when a connection is initia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cost route is selecte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 not changed during connectio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s routing information being distributed within the networ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s route flapp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optimum not achieved, but reflects routing in actual networ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andom Static Networ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30520" y="1671480"/>
            <a:ext cx="5676840" cy="425952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ic Nodes: Power Pric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971800" y="1676520"/>
            <a:ext cx="5676840" cy="425916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228600" y="1523880"/>
            <a:ext cx="27432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 prices are strongly dependent on loca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8 has the highest power pri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It is often used by other nodes to forward traffi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It’s location requires higher energy to transmit to neighbouring no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1 has very low power price</a:t>
            </a: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ic Nodes: Bandwidth Pric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5676840" cy="425772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762120" y="2286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72200" y="1676160"/>
            <a:ext cx="2743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8 does not have the highest bandwidth pri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Traffic can be routed around edge of the netw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eme edge nodes (N1 and N7) carry minimal traffi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bandwidth prices rapidly head to zer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ic Nodes: Credit Balanc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1143000"/>
            <a:ext cx="27432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 balances are strongly dependent on locatio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8 has the highest power pr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ff"/>
                </a:solidFill>
                <a:latin typeface="Arial"/>
              </a:rPr>
              <a:t>It accumulates the most credit by forwarding traffic for other nod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1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n-negligi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redit replen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970360" y="1671480"/>
            <a:ext cx="5676840" cy="425160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ationa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oS is most wanted when it is least 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reless networks are the last frontier of scarce resource, and will remain so for som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Big Challenge appears to be coping with uncertain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dictable service is what the subscriber and provider both w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lessons are there from QoS Architectures from Wired Networks, and What is Missing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ynamic Network Simul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des arrive according to a Poisson proces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s are geographically placed according to a uniform distrib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des’ stay in the network is exponentially distribute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s must be updated within the network for ongoing connection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total credit evolve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1760" y="-457200"/>
            <a:ext cx="8381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tal Credit Bala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970360" y="1671480"/>
            <a:ext cx="5676840" cy="425952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  <p:sp>
        <p:nvSpPr>
          <p:cNvPr id="135" name=""/>
          <p:cNvSpPr/>
          <p:nvPr/>
        </p:nvSpPr>
        <p:spPr>
          <a:xfrm>
            <a:off x="0" y="914400"/>
            <a:ext cx="27432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rrival of a user </a:t>
            </a: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always increases the total credit by 1.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hange in total credit, due to a departure of a user, </a:t>
            </a: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varies depending on the credit the user has accumula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credit in the system </a:t>
            </a: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decays to the number of us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 of decay </a:t>
            </a: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depends on </a:t>
            </a:r>
            <a:r>
              <a:rPr b="0" lang="en-US" sz="2000" spc="-1" strike="noStrike">
                <a:solidFill>
                  <a:srgbClr val="9999ff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ath of Mobile No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727280" y="1676520"/>
            <a:ext cx="5676840" cy="425916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bility: Node Power Pric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970360" y="1671480"/>
            <a:ext cx="5676840" cy="425160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  <p:sp>
        <p:nvSpPr>
          <p:cNvPr id="140" name=""/>
          <p:cNvSpPr/>
          <p:nvPr/>
        </p:nvSpPr>
        <p:spPr>
          <a:xfrm>
            <a:off x="0" y="1066680"/>
            <a:ext cx="27432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 price of N1 increases as it moves towards the centre of the networ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Routes are increasingly chosen with N1 as a forwarding nod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 price of N8  decrea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N1 provides competition for N8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Less energy is required to transmit to N1 as it moves clos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bility: Bandwidth Pric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400800" y="0"/>
            <a:ext cx="27432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dwidth price of N1 increa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Overall increase in traffic in the netw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dwidth price of N8 also increa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Greater flow of traffic between N1 and N8 as they move closer toget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Overall increase in traffic in the netw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dwidth Price of N4 increa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ffff6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bil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55760" y="1671480"/>
            <a:ext cx="5676840" cy="425160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dividual Node Throughpu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970360" y="1690560"/>
            <a:ext cx="5676840" cy="425160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  <p:sp>
        <p:nvSpPr>
          <p:cNvPr id="146" name=""/>
          <p:cNvSpPr/>
          <p:nvPr/>
        </p:nvSpPr>
        <p:spPr>
          <a:xfrm>
            <a:off x="0" y="990720"/>
            <a:ext cx="27432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oughputs of both N1 and N8 increa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More traffic between the nod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Both nodes have more credit to send traffi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oughput of N4 increa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N4 is the node most often used to forward traffic to N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Traffic transmitted from N4 to N1 is relatively chea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tal Network Throughpu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55760" y="1671480"/>
            <a:ext cx="5676840" cy="425160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  <p:sp>
        <p:nvSpPr>
          <p:cNvPr id="149" name=""/>
          <p:cNvSpPr/>
          <p:nvPr/>
        </p:nvSpPr>
        <p:spPr>
          <a:xfrm>
            <a:off x="6400800" y="380880"/>
            <a:ext cx="27432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network throughput increa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Increased throughput for N1 has not been at the expense of the overall network throughp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Mobility (in an appropriate direction) has increased the performance of the 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ff6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Credit in system  is const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 summary..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ed a system model for the interaction between nodes in a mobile ad hoc network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d price mechanisms and credit balance to provide framework for cooperati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ations demonstrat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s of total cr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put increases with mo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our scheme fur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timescale decomposition prope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stop people working on pure ad hoc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 we know its fun, but it makes no sens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in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uade Intel to build some c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uade FCC to let us do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er denial,theft,witness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ash (double spend/for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orithm signatures (trust h/w – e.g. AR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ll done!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99640" y="2060280"/>
            <a:ext cx="4032360" cy="16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s for liste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What becomes a Wired Internet QoS Archite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mescale decomposition (short to longest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ha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ro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mission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ada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ffic 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k Provisio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de and Link Pla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A Priori Knowled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Much do we know or lear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urc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TCP Padhye Equa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RTP VOIP/on-off 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Poisson Arrival of se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VOIP – Erlang sta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ffic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ce/Elephant aggreg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te 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P level source/destination 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What’s similar for mobile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ellular/Wireless Access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ckhaul capacity 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ell capacity 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 H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backha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have sp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yb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p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What’s different for mobile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nk” capacity not necessarily con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pends on spectrum allocation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pends (less usually) on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ource model may be affected by vari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 cell, distance from base 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 ad hoc, route capac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f feedback, e.g. TCP adapts (or proxy/splice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trix is more rapidly time var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f aggregate behaviour is really random…s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an we still use traditional tools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pends on what we believe about random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real world, we know about the disposition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il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lk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ve RF propagation models for th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rs do not move random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ong architected and planned ro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 not use communication random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s ad hoc/hybrid case specially hard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pends on why you use ad ho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eting networks-  small, not multi-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ndezvou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d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n\t need high capacity (unless to reach printer/backu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hicle networks – take a different approa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network in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hicle constellation simply swap through cells in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use multi-hop, but, eventually, reach roads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enty of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l in vehicle makes spectrum re-use efficient even in flash crow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ar true random movement between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sequences for MAC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have power/distance aware MACs (trend in 802.11* and Blue Tooth is to hide this inform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think about information theory in regard to applic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vehicle network, for real time monitor and contro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where between Gupta/Kuma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Grossglauser/Ts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design to be at the good en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19:02:12Z</dcterms:created>
  <dc:creator>Karl Jeacle</dc:creator>
  <dc:description/>
  <dc:language>en-US</dc:language>
  <cp:lastModifiedBy>jon</cp:lastModifiedBy>
  <dcterms:modified xsi:type="dcterms:W3CDTF">2003-10-01T13:07:28Z</dcterms:modified>
  <cp:revision>65</cp:revision>
  <dc:subject/>
  <dc:title>Multicast extensions for TCP</dc:title>
</cp:coreProperties>
</file>