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997700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F76A6-AB49-40C5-9640-3210318AA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912120"/>
            <a:ext cx="83822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D9F71-DFF8-43A6-A12F-6877007EA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4090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040" y="1523880"/>
            <a:ext cx="4090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912120"/>
            <a:ext cx="4090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040" y="3912120"/>
            <a:ext cx="4090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86FAB-56C4-43EA-B71A-A49B3DA8B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2698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15160" y="1523880"/>
            <a:ext cx="2698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9440" y="1523880"/>
            <a:ext cx="2698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912120"/>
            <a:ext cx="2698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15160" y="3912120"/>
            <a:ext cx="2698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9440" y="3912120"/>
            <a:ext cx="2698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A47E1-F042-4C81-9CFE-2899FD807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B3BD0-808E-4CC1-9DF3-038865929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E8D2B-D17F-4B21-9606-D8D0C651B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E2090-9928-4588-8FB9-7F523AE6C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4090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6040" y="1523880"/>
            <a:ext cx="4090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B5FC6-4825-4BD8-A370-5ACA01792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76F96-B435-4E56-B0C6-033D9673B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80880" y="228240"/>
            <a:ext cx="8382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91F90-C3DC-4C75-877B-73E6C8FD5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4090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040" y="1523880"/>
            <a:ext cx="4090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0880" y="3912120"/>
            <a:ext cx="4090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6F133-3BBA-42FF-BDF7-49B753101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02616-9D06-469B-8DD1-CCB876961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4090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040" y="1523880"/>
            <a:ext cx="4090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6040" y="3912120"/>
            <a:ext cx="4090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4F81E-E068-45E0-8BE4-16A6D4A65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4090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6040" y="1523880"/>
            <a:ext cx="4090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0880" y="3912120"/>
            <a:ext cx="83822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EC872-DDF1-49D2-94BF-596DA2D33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0880" y="3912120"/>
            <a:ext cx="83822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BAABD-FA3F-4498-A04D-9FCDDE1B6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4090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6040" y="1523880"/>
            <a:ext cx="4090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0880" y="3912120"/>
            <a:ext cx="4090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6040" y="3912120"/>
            <a:ext cx="4090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99516-3064-4348-85E1-AE094DFEA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2698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15160" y="1523880"/>
            <a:ext cx="2698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49440" y="1523880"/>
            <a:ext cx="2698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80880" y="3912120"/>
            <a:ext cx="2698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15160" y="3912120"/>
            <a:ext cx="2698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49440" y="3912120"/>
            <a:ext cx="2698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81914-203E-4C4F-84A0-AAFA45080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6A626-9364-4E8C-AC8C-34ECE04E2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4090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040" y="1523880"/>
            <a:ext cx="4090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A83C6-161D-4431-97AF-FDDB35134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AB77D-FA09-441A-98D4-5EE7F4114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880" y="228240"/>
            <a:ext cx="8382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8A875-A8EB-46B2-8F96-C533CB0E6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4090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040" y="1523880"/>
            <a:ext cx="4090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912120"/>
            <a:ext cx="4090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FF41F-EB7F-4111-B51D-243495018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4090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040" y="1523880"/>
            <a:ext cx="4090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040" y="3912120"/>
            <a:ext cx="4090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2ADE6-7ADF-4CE6-8831-04F20D95E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4090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040" y="1523880"/>
            <a:ext cx="4090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912120"/>
            <a:ext cx="83822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D6ADE-08C6-4867-8FB5-AC250E9A8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95280" y="6381720"/>
            <a:ext cx="2448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QoFIS 200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048D9-596D-4A61-944A-A9F64CE36E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6934320" y="6093000"/>
            <a:ext cx="1823760" cy="59508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493560" y="1143000"/>
            <a:ext cx="8382240" cy="76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99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80880" y="838080"/>
            <a:ext cx="381240" cy="327672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68580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2735280" y="6237000"/>
            <a:ext cx="367344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308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337F5-A379-4997-8E65-6E4E5C6009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410080" y="4818240"/>
            <a:ext cx="3027600" cy="9871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6699ff"/>
              </a:buClr>
              <a:buFont typeface="Webdings" charset="2"/>
              <a:buChar char="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6699ff"/>
              </a:buClr>
              <a:buFont typeface="Webdings" charset="2"/>
              <a:buChar char="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62120" y="91728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100" spc="-1" strike="noStrike">
                <a:solidFill>
                  <a:srgbClr val="000000"/>
                </a:solidFill>
                <a:latin typeface="Arial"/>
              </a:rPr>
              <a:t>Mobile QoS:Can we provide predictable services for unpredictably mobile users?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62120" y="2666880"/>
            <a:ext cx="76960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n Crowcro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14600" y="3103560"/>
            <a:ext cx="414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on.Crowcroft@cl.cam.ac.u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pplication Adaption v. Guarante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e old chestnut – can always do adaptation, but users (particularly humans) don’t like 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 need admission control (Yes, I agree with Jim Roberts!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s to be policed down to the MAC/physical layer, and included in spectrum alloc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suggest spectrum allocation by economic measur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stitute surprising price for surprising QoS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obilema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ostring/gibbens/kelly/crowrof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em Optimis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user has a utility function to optimis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al is optimise the aggregate utility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mal Algorith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s adapt their transmission rates (c.f. TC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de prices set by aggregate traffic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al Algorith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work nodes adapt prices (c.f. ATM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mission rates are set by route pri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buClr>
                <a:srgbClr val="ffff66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ces are used to guide a system to its optimum operating poi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ystem Mode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work of N nodes:  node S has R routes to send traffic to 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st select particular route(s) to us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des are equipped with one directional transcei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des cannot send/receive simultaneously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ffic sent, received or forwarded (received &amp; sent) is constrained by 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ximum speed of wireless card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power consumption at a node is constrained b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ergy consumed by transmitting/receiving/forwarding traffi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ate Control, Price Adaptat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219320"/>
            <a:ext cx="77724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node has a willingness-to-pay parameter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pends on node’s credit balanc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de S determines the route with minimum pri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utes discovered by, e.g. DS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gorithm for sending ra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ute price is the cumulative cost of sending traffic on each hop along the rout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mission cost &amp; receiving c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sts include power costs and capacity co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des adapt bandwidth and power pri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asure local total traffic load and power consumpti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6477120" y="3657600"/>
                <a:ext cx="1368360" cy="6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redit Balanc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918560" cy="456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 incentives for users to forward traffi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s receive credit for forwarding traffic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ount of credit received is dependent on the node prices and the magnitude of the flo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receive an initial credit balance of 1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llingness-to-pay is proportional to credit balanc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dit is lost when users leave the syste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ount of credit lost depends on credit accrued by the user during its stay in the network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roduce a discount factor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2590920" y="4191120"/>
                <a:ext cx="497052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B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β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−</m:t>
                    </m:r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</m:e>
                    </m:d>
                    <m:r>
                      <m:t xml:space="preserve">+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r</m:t>
                        </m:r>
                        <m:r>
                          <m:t xml:space="preserve">:</m:t>
                        </m:r>
                        <m:r>
                          <m:t xml:space="preserve">s</m:t>
                        </m:r>
                        <m:r>
                          <m:t xml:space="preserve">∈</m:t>
                        </m:r>
                        <m:r>
                          <m:t xml:space="preserve">r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r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imulation Desig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-360" y="114300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ly placed nodes in a 100mx100m grid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nodes within range of a node’s radio are its neighbour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s are ON-OFF sour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/OFF periods are exponentially distribute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tinations for traffic during ON period are uniformly distribute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ute costs are determined when a connection is initiat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nimum cost route is selecte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ute not changed during connectio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uces routing information being distributed within the network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voids route flapping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optimum not achieved, but reflects routing in actual networ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andom Static Network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730520" y="1671480"/>
            <a:ext cx="5676840" cy="4259520"/>
          </a:xfrm>
          <a:prstGeom prst="rect">
            <a:avLst/>
          </a:prstGeom>
          <a:ln w="57240">
            <a:solidFill>
              <a:srgbClr val="6600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tatic Nodes: Power Pric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971800" y="1676520"/>
            <a:ext cx="5676840" cy="4259160"/>
          </a:xfrm>
          <a:prstGeom prst="rect">
            <a:avLst/>
          </a:prstGeom>
          <a:ln w="57240">
            <a:solidFill>
              <a:srgbClr val="660066"/>
            </a:solidFill>
            <a:miter/>
          </a:ln>
        </p:spPr>
      </p:pic>
      <p:sp>
        <p:nvSpPr>
          <p:cNvPr id="123" name=""/>
          <p:cNvSpPr/>
          <p:nvPr/>
        </p:nvSpPr>
        <p:spPr>
          <a:xfrm>
            <a:off x="228600" y="1523880"/>
            <a:ext cx="274320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wer prices are strongly dependent on locatio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8 has the highest power pric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9999ff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99ff"/>
                </a:solidFill>
                <a:latin typeface="Arial"/>
              </a:rPr>
              <a:t>It is often used by other nodes to forward traffic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9999ff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99ff"/>
                </a:solidFill>
                <a:latin typeface="Arial"/>
              </a:rPr>
              <a:t>It’s location requires higher energy to transmit to neighbouring nod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1 has very low power price</a:t>
            </a:r>
            <a:r>
              <a:rPr b="0" lang="en-US" sz="2000" spc="-1" strike="noStrike">
                <a:solidFill>
                  <a:srgbClr val="9999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tatic Nodes: Bandwidth Pric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5676840" cy="4257720"/>
          </a:xfrm>
          <a:prstGeom prst="rect">
            <a:avLst/>
          </a:prstGeom>
          <a:ln w="57240">
            <a:solidFill>
              <a:srgbClr val="660066"/>
            </a:solidFill>
            <a:miter/>
          </a:ln>
        </p:spPr>
      </p:pic>
      <p:sp>
        <p:nvSpPr>
          <p:cNvPr id="126" name=""/>
          <p:cNvSpPr/>
          <p:nvPr/>
        </p:nvSpPr>
        <p:spPr>
          <a:xfrm>
            <a:off x="762120" y="228600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172200" y="1676160"/>
            <a:ext cx="27432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8 does not have the highest bandwidth pric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99ff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99ff"/>
                </a:solidFill>
                <a:latin typeface="Arial"/>
              </a:rPr>
              <a:t>Traffic can be routed around edge of the networ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treme edge nodes (N1 and N7) carry minimal traffic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99ff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99ff"/>
                </a:solidFill>
                <a:latin typeface="Arial"/>
              </a:rPr>
              <a:t>bandwidth prices rapidly head to zer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tatic Nodes: Credit Balanc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1143000"/>
            <a:ext cx="274320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dit balances are strongly dependent on locatio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8 has the highest power pri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buClr>
                <a:srgbClr val="9999ff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99ff"/>
                </a:solidFill>
                <a:latin typeface="Arial"/>
              </a:rPr>
              <a:t>It accumulates the most credit by forwarding traffic for other node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1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non-negligib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redit repleni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970360" y="1671480"/>
            <a:ext cx="5676840" cy="4251600"/>
          </a:xfrm>
          <a:prstGeom prst="rect">
            <a:avLst/>
          </a:prstGeom>
          <a:ln w="57240">
            <a:solidFill>
              <a:srgbClr val="6600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ational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QoS is most wanted when it is least pres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ireless networks are the last frontier of scarce resource, and will remain so for some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Big Challenge appears to be coping with uncertain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edictable service is what the subscriber and provider both wa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at lessons are there from QoS Architectures from Wired Networks, and What is Missing??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ynamic Network Simulat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des arrive according to a Poisson proces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des are geographically placed according to a uniform distrib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des’ stay in the network is exponentially distributed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utes must be updated within the network for ongoing connection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es the total credit evolve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61760" y="-457200"/>
            <a:ext cx="83818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otal Credit Balanc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970360" y="1671480"/>
            <a:ext cx="5676840" cy="4259520"/>
          </a:xfrm>
          <a:prstGeom prst="rect">
            <a:avLst/>
          </a:prstGeom>
          <a:ln w="57240">
            <a:solidFill>
              <a:srgbClr val="660066"/>
            </a:solidFill>
            <a:miter/>
          </a:ln>
        </p:spPr>
      </p:pic>
      <p:sp>
        <p:nvSpPr>
          <p:cNvPr id="135" name=""/>
          <p:cNvSpPr/>
          <p:nvPr/>
        </p:nvSpPr>
        <p:spPr>
          <a:xfrm>
            <a:off x="0" y="914400"/>
            <a:ext cx="27432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arrival of a user </a:t>
            </a:r>
            <a:r>
              <a:rPr b="0" lang="en-US" sz="2000" spc="-1" strike="noStrike">
                <a:solidFill>
                  <a:srgbClr val="9999ff"/>
                </a:solidFill>
                <a:latin typeface="Arial"/>
              </a:rPr>
              <a:t>always increases the total credit by 1.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hange in total credit, due to a departure of a user, </a:t>
            </a:r>
            <a:r>
              <a:rPr b="0" lang="en-US" sz="2000" spc="-1" strike="noStrike">
                <a:solidFill>
                  <a:srgbClr val="9999ff"/>
                </a:solidFill>
                <a:latin typeface="Arial"/>
              </a:rPr>
              <a:t>varies depending on the credit the user has accumulat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tal credit in the system </a:t>
            </a:r>
            <a:r>
              <a:rPr b="0" lang="en-US" sz="2000" spc="-1" strike="noStrike">
                <a:solidFill>
                  <a:srgbClr val="9999ff"/>
                </a:solidFill>
                <a:latin typeface="Arial"/>
              </a:rPr>
              <a:t>decays to the number of user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te of decay </a:t>
            </a:r>
            <a:r>
              <a:rPr b="0" lang="en-US" sz="2000" spc="-1" strike="noStrike">
                <a:solidFill>
                  <a:srgbClr val="9999ff"/>
                </a:solidFill>
                <a:latin typeface="Arial"/>
              </a:rPr>
              <a:t>depends on </a:t>
            </a:r>
            <a:r>
              <a:rPr b="0" lang="en-US" sz="2000" spc="-1" strike="noStrike">
                <a:solidFill>
                  <a:srgbClr val="9999ff"/>
                </a:solidFill>
                <a:latin typeface="Symbol"/>
                <a:ea typeface="Symbol"/>
              </a:rPr>
              <a:t>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ath of Mobile Nod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727280" y="1676520"/>
            <a:ext cx="5676840" cy="4259160"/>
          </a:xfrm>
          <a:prstGeom prst="rect">
            <a:avLst/>
          </a:prstGeom>
          <a:ln w="57240">
            <a:solidFill>
              <a:srgbClr val="6600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obility: Node Power Pric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2970360" y="1671480"/>
            <a:ext cx="5676840" cy="4251600"/>
          </a:xfrm>
          <a:prstGeom prst="rect">
            <a:avLst/>
          </a:prstGeom>
          <a:ln w="57240">
            <a:solidFill>
              <a:srgbClr val="660066"/>
            </a:solidFill>
            <a:miter/>
          </a:ln>
        </p:spPr>
      </p:pic>
      <p:sp>
        <p:nvSpPr>
          <p:cNvPr id="140" name=""/>
          <p:cNvSpPr/>
          <p:nvPr/>
        </p:nvSpPr>
        <p:spPr>
          <a:xfrm>
            <a:off x="0" y="1066680"/>
            <a:ext cx="274320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wer price of N1 increases as it moves towards the centre of the network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499"/>
              </a:spcBef>
              <a:buClr>
                <a:srgbClr val="9999ff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99ff"/>
                </a:solidFill>
                <a:latin typeface="Arial"/>
              </a:rPr>
              <a:t>Routes are increasingly chosen with N1 as a forwarding node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4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wer price of N8  decreas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499"/>
              </a:spcBef>
              <a:buClr>
                <a:srgbClr val="9999ff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99ff"/>
                </a:solidFill>
                <a:latin typeface="Arial"/>
              </a:rPr>
              <a:t>N1 provides competition for N8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499"/>
              </a:spcBef>
              <a:buClr>
                <a:srgbClr val="9999ff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99ff"/>
                </a:solidFill>
                <a:latin typeface="Arial"/>
              </a:rPr>
              <a:t>Less energy is required to transmit to N1 as it moves clos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obility: Bandwidth Pric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400800" y="0"/>
            <a:ext cx="274320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ndwidth price of N1 increas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99"/>
              </a:spcBef>
              <a:buClr>
                <a:srgbClr val="9999ff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99ff"/>
                </a:solidFill>
                <a:latin typeface="Arial"/>
              </a:rPr>
              <a:t>Overall increase in traffic in the networ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ndwidth price of N8 also increas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99"/>
              </a:spcBef>
              <a:buClr>
                <a:srgbClr val="9999ff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99ff"/>
                </a:solidFill>
                <a:latin typeface="Arial"/>
              </a:rPr>
              <a:t>Greater flow of traffic between N1 and N8 as they move closer togeth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99"/>
              </a:spcBef>
              <a:buClr>
                <a:srgbClr val="9999ff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99ff"/>
                </a:solidFill>
                <a:latin typeface="Arial"/>
              </a:rPr>
              <a:t>Overall increase in traffic in the networ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ndwidth Price of N4 increas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99"/>
              </a:spcBef>
              <a:buClr>
                <a:srgbClr val="ffff66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bilit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455760" y="1671480"/>
            <a:ext cx="5676840" cy="4251600"/>
          </a:xfrm>
          <a:prstGeom prst="rect">
            <a:avLst/>
          </a:prstGeom>
          <a:ln w="57240">
            <a:solidFill>
              <a:srgbClr val="6600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523880" y="-36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dividual Node Throughpu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2970360" y="1690560"/>
            <a:ext cx="5676840" cy="4251600"/>
          </a:xfrm>
          <a:prstGeom prst="rect">
            <a:avLst/>
          </a:prstGeom>
          <a:ln w="57240">
            <a:solidFill>
              <a:srgbClr val="660066"/>
            </a:solidFill>
            <a:miter/>
          </a:ln>
        </p:spPr>
      </p:pic>
      <p:sp>
        <p:nvSpPr>
          <p:cNvPr id="146" name=""/>
          <p:cNvSpPr/>
          <p:nvPr/>
        </p:nvSpPr>
        <p:spPr>
          <a:xfrm>
            <a:off x="0" y="990720"/>
            <a:ext cx="27432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roughputs of both N1 and N8 increas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9999ff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99ff"/>
                </a:solidFill>
                <a:latin typeface="Arial"/>
              </a:rPr>
              <a:t>More traffic between the node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9999ff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99ff"/>
                </a:solidFill>
                <a:latin typeface="Arial"/>
              </a:rPr>
              <a:t>Both nodes have more credit to send traffic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roughput of N4 increas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9999ff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99ff"/>
                </a:solidFill>
                <a:latin typeface="Arial"/>
              </a:rPr>
              <a:t>N4 is the node most often used to forward traffic to N1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9999ff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99ff"/>
                </a:solidFill>
                <a:latin typeface="Arial"/>
              </a:rPr>
              <a:t>Traffic transmitted from N4 to N1 is relatively chea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otal Network Throughpu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455760" y="1671480"/>
            <a:ext cx="5676840" cy="4251600"/>
          </a:xfrm>
          <a:prstGeom prst="rect">
            <a:avLst/>
          </a:prstGeom>
          <a:ln w="57240">
            <a:solidFill>
              <a:srgbClr val="660066"/>
            </a:solidFill>
            <a:miter/>
          </a:ln>
        </p:spPr>
      </p:pic>
      <p:sp>
        <p:nvSpPr>
          <p:cNvPr id="149" name=""/>
          <p:cNvSpPr/>
          <p:nvPr/>
        </p:nvSpPr>
        <p:spPr>
          <a:xfrm>
            <a:off x="6400800" y="380880"/>
            <a:ext cx="27432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tal network throughput increas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9999ff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99ff"/>
                </a:solidFill>
                <a:latin typeface="Arial"/>
              </a:rPr>
              <a:t>Increased throughput for N1 has not been at the expense of the overall network throughpu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9999ff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99ff"/>
                </a:solidFill>
                <a:latin typeface="Arial"/>
              </a:rPr>
              <a:t>Mobility (in an appropriate direction) has increased the performance of the syste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ffff66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tal Credit in system  is consta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 summary...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ed a system model for the interaction between nodes in a mobile ad hoc network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roduced price mechanisms and credit balance to provide framework for cooperation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ulations demonstrate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ynamics of total cred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roughput increases with mo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utur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luate our scheme fur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 timescale decomposition proper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to stop people working on pure ad hoc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es we know its fun, but it makes no sense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y in pract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suade Intel to build some chi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suade FCC to let us do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ust Mechanis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ier denial,theft,witnesse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Cash (double spend/forg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gorithm signatures (trust h/w – e.g. AR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ll done!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99640" y="2060280"/>
            <a:ext cx="4032360" cy="168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anks for listening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What becomes a Wired Internet QoS Architectu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imescale decomposition (short to longest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ck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hedu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hap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ropp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l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dmission 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ate ada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raffic Engine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ink Provisio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ode and Link Plac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A Priori Knowledg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ow Much do we know or lear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urce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.g. TCP Padhye Equan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.g. RTP VOIP/on-off spee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.g. Poisson Arrival of ses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.g. VOIP – Erlang stat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affic Matri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ice/Elephant aggreg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oute lo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OP level source/destination fl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What’s similar for mobile?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ellular/Wireless Access Net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ackhaul capacity kn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ell capacity kn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d H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 backha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y have sp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ybr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pe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What’s different for mobile?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ink” capacity not necessarily cons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epends on spectrum allocation poli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epends (less usually) on no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ource model may be affected by vari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n cell, distance from base s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n ad hoc, route capaci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f feedback, e.g. TCP adapts (or proxy/splice et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atrix is more rapidly time vary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f aggregate behaviour is really random…so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Can we still use traditional tools?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pends on what we believe about random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 real world, we know about the disposition 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6699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uild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6699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alkw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6699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oa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6699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ave RF propagation models for the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ers do not move random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6699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ong architected and planned ro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6699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o not use communication random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Is ad hoc/hybrid case specially hard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28120" indent="-528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pends on why you use ad ho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-45252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eeting networks-  small, not multi-h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82320" indent="-37692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ndezvou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82320" indent="-37692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ind infrastru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82320" indent="-37692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on\t need high capacity (unless to reach printer/backu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-45252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ehicle networks – take a different approach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82320" indent="-37692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network in sp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82320" indent="-37692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hicle constellation simply swap through cells in sp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82320" indent="-37692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uld use multi-hop, but, eventually, reach roadsi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82320" indent="-37692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enty of pow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82320" indent="-37692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l in vehicle makes spectrum re-use efficient even in flash crow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82320" indent="-37692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ar true random movement between vehic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82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sequences for MAC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to have power/distance aware MACs (trend in 802.11* and Blue Tooth is to hide this inform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to think about information theory in regard to applic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 vehicle network, for real time monitor and contro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where between Gupta/Kumar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nd Grossglauser/Tse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ld design to be at the good end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7T19:02:12Z</dcterms:created>
  <dc:creator>Karl Jeacle</dc:creator>
  <dc:description/>
  <dc:language>en-US</dc:language>
  <cp:lastModifiedBy>jon</cp:lastModifiedBy>
  <dcterms:modified xsi:type="dcterms:W3CDTF">2003-10-01T13:07:28Z</dcterms:modified>
  <cp:revision>65</cp:revision>
  <dc:subject/>
  <dc:title>Multicast extensions for TCP</dc:title>
</cp:coreProperties>
</file>