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E1199-B4D8-4FE5-9E79-CC3C3398EE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FCC61-F60C-4D5C-9F0B-5FD2370F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B16DD-19E2-43A7-B7DB-2F2E2B59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20CC9-2D20-42CD-AE92-476657F14E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D1986-641D-426E-9BE6-C8F423B9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564EA-9E98-40B0-8041-5A00E9BC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A588F-179E-41D1-8822-007DB817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3DFEF-894D-49DF-BF80-80563298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DF6A3-E6F7-45CB-8F17-6F16506D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2C756-EDC1-4A8A-BF8B-7AFD42B9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00B57-743C-4093-98CD-6A96188D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0C931-C850-4813-8F68-82DDAA06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352920"/>
            <a:ext cx="190512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TSS’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D033-921C-42E8-93AC-F7A85E540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.cam.ac.uk/~jac22" TargetMode="External"/><Relationship Id="rId2" Type="http://schemas.openxmlformats.org/officeDocument/2006/relationships/hyperlink" Target="http://www.cl.cam.ac.uk/~jac22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5200" y="1293480"/>
            <a:ext cx="884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NREDS ‘03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63840" y="309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Tolga Uzuner, Jon Crowcroft, Steve Hand, Andrew Warfield et al, The Computer Laboratory, The University of Cambridge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 Gothic"/>
                <a:hlinkClick r:id="rId1"/>
              </a:rPr>
              <a:t>http://www.cl.cam.ac.uk/~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 Gothic"/>
                <a:hlinkClick r:id="rId2"/>
              </a:rPr>
              <a:t>jac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432480" y="330120"/>
            <a:ext cx="2305080" cy="78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85608-C736-460E-8563-DC2FBF30AD5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ere are we in innovation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3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ustry Evolution studied by economi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re compan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phases (see Wroclawski “tipping” – exactly right but wrong use of word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pid growth in number of entrants, lots of different ways of building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ll out of companies, emergence of few key players, switch to Concentration on microoptimis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CE8E9-10B1-4015-AAE0-54D2D504D32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Process v. Product Innov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CS/Comms, the “fun” is in product 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E/Telecom, the real profession is in refining processes for production, not the product itsel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sson for Networks, there are two quite different rolesat periods of a network technology – there’s not one “better” and one “worse” – they reflect maturity of technolog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DF73D-20D8-4881-A977-3C7C7B229DC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CS Emphasis on this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mic Sans MS"/>
              </a:rPr>
              <a:t>Integratio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akes big step functions to set up plant – this means that we have to get product innovation stage really really right, since the investment is so high, to get commoditized version price so l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mic Sans MS"/>
              </a:rPr>
              <a:t>Post-commodity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ltas are in refining usability, optimising etc….need a lot of traditional engineering to understand where to apply eff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7B854-AF27-4D2B-A429-7F073F5674F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 means this for researc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ed to have research in both kinds of 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cognize skill sets not quite same for each kind of 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ave responsibility to communities we deliver to say which place our output is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.e. don’t tell cisco to use multicast in 1988 – it will be 15 years too early for prime time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E828D-4C74-4104-A6CD-92C79544C56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Questions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ank you…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5715000"/>
            <a:ext cx="2305080" cy="78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5C484-4F53-4CE1-B66F-836E651CA3F4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16:39:47Z</dcterms:created>
  <dc:creator>Jon Crowcroft</dc:creator>
  <dc:description/>
  <dc:language>en-US</dc:language>
  <cp:lastModifiedBy>jon</cp:lastModifiedBy>
  <cp:lastPrinted>1999-11-30T18:30:16Z</cp:lastPrinted>
  <dcterms:modified xsi:type="dcterms:W3CDTF">2003-08-25T08:19:34Z</dcterms:modified>
  <cp:revision>107</cp:revision>
  <dc:subject/>
  <dc:title>Network Field Theory</dc:title>
</cp:coreProperties>
</file>