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B85-B34E-4A41-8097-E0B50CE9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F11-15C5-4CE2-8600-CF0B3DF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472-AF8D-4146-BAD4-53D5733D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07B-E1B7-42B3-BF57-6C2DBF78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23FC-3EF9-4625-BDED-8921B90A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B5BB-AF27-43EA-92C1-38CCA72F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218C-BF66-4125-AE17-1284508E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645B-FB05-42AA-83A4-43ACFD29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968D-459D-4A96-AEAE-19EE455F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A571-C43F-42DC-B5CF-F160E064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E6B0-3C28-4C4C-891B-79B85488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163-1832-4192-A3FB-73699F08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66B5-10CF-4E6F-A9C8-DC1D9300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74F4-3589-442B-9CAC-C538AA62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BFAB-BFBA-42DF-8FC0-7AEE5663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6422-7215-42B8-ABC2-EF75E1C6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A9D2-87E1-4F23-BBF5-5A725177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69C-372C-4DA8-A29E-EF713F11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B69-F342-4F15-BD0E-1343E439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612-1B12-44FB-ACD8-E94BB3D7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50E-6CD2-4104-81A8-0E84ADCF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C50-026A-42F4-A774-0984F36B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8D0-D7FA-4DE5-9E74-0543BA98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6FF-41E4-44F7-A03C-D85827D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Hands Meeting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9F80-9FF3-4700-AC46-0B204B16A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E194-D05A-4190-811E-CBC6A5BEB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Reliable high-speed Grid data delivery using IP Multicas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l Jeacle &amp; 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52840" y="310356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.lastname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switch to unicast after failed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y splitting receivers into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ccording to cwin /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ip_addr group_i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group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um tx_mode txmod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uni/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8t nrtx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# re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*next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ext “m”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06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13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20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27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34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ture Grid Cont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karl-ahm-p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5596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21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unicast / multicast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back / fall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look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 eScience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Plane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cience volunte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che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amp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esb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g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europ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lking to intel about more EU sites doing plane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y specialise (or enhance) To add e.g. 3G wireless and WiFi at 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allow more local experimentation without the usual “Big Science” hassle of engaging with NRN and Ge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have a lot of EU Datagrid sites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with good (netherlight/starlight/uklight) connectivirt to each other and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do some Big Science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goal is to see if TCP-XP can go faster than FAST TCP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ybrid, Purist, Overl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e argument is to leave incentive for subscriber to demand and provider to deploy ip native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n’t worked (15 years after first had i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schemes not much examined (SCE prob. One of f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retains understanding gained in unicast and mcast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lay requires lots of new mechanisms to be debug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2P promising, but side by side problems alluded to in Diot’s anti-deployment paper still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bly good for “grid”like users (shared incentive to forward for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te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etlab &gt;100 “random”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value – if have account on 1 site, have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ed multicast deployment from all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chance of tx being about to use mcast is to k out of r non zero but chance of all paths to all receivers working is close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.g. p of AS doing mcast, average path len a Ass, 1- (1-p)^a per receiver -&gt; [1-(1-p)^a]^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r receivers al working, but a lot better for k&lt;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6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9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09-17T04:52:10Z</dcterms:modified>
  <cp:revision>58</cp:revision>
  <dc:subject/>
  <dc:title>Multicast extensions for TCP</dc:title>
</cp:coreProperties>
</file>