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9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00A9-E37B-4FAE-8FCB-3C7C10E28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CF04-F5E3-436F-8A28-4262E601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39C72-BEFF-42D3-A102-F08DFA64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3CAC-49A6-44CA-B20C-C9AB4AF6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03AC-AE65-4D98-A369-E09FA642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DF00-5AA2-4AE5-8B52-B140801D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87DC-B5B8-4AD5-9D22-D57E851C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3B32-3ABC-48FA-ADF5-A8DE30D7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7AC1-32CB-4B53-AD71-913CD6ED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86D54-3174-4630-B6B9-1525C284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928A-733F-43EE-9C22-E845B050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4231-D812-4F05-A9E5-85A610D2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C68DE-60C9-4F04-8556-72303901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Imperial College London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talk for Erol Gelenbe’s research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A87DD1-D740-46C5-AF3A-267B5AA89FC7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February 15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02-16T14:03:57Z</dcterms:modified>
  <cp:revision>129</cp:revision>
  <dc:subject/>
  <dc:title>Bubble Rap: Forwarding in Small World DTNs in Ever Decreasing Circles</dc:title>
</cp:coreProperties>
</file>