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1.png" ContentType="image/png"/>
  <Override PartName="/ppt/media/image12.pct" ContentType="image/x-pict"/>
  <Override PartName="/ppt/media/image19.gif" ContentType="image/gif"/>
  <Override PartName="/ppt/media/image7.pct" ContentType="image/x-pict"/>
  <Override PartName="/ppt/media/image37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0.pct" ContentType="image/x-pict"/>
  <Override PartName="/ppt/media/image28.pct" ContentType="image/x-pict"/>
  <Override PartName="/ppt/media/image20.gif" ContentType="image/gif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6.png" ContentType="image/png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3602-D013-4CAF-82AB-4D9C0F75D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6910-D3C1-4CB2-8130-5B766B81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6C44-3883-4712-BA9F-A6F8E1DF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C6E6-612E-49FC-AC0F-7ED3F6D0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09AB-24DB-443A-AF49-A81FAAA3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46E7-0A02-453D-8A3B-5598B29D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981B-B77C-4397-8539-610F4B99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0D0F-8556-449E-9C60-2D6A47EB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2386-F305-4956-8DE9-7F44E570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2747-27C2-4B33-B257-B99748CD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9AA6-8F9A-4903-A071-8644C47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2EC6-1564-4C30-8A48-923A107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A3D1-C194-47F5-9951-838309E6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DASSON Workshop, 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C312A0-EA96-46DB-AAC0-D0CE0AF8CA42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June 2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pct"/><Relationship Id="rId8" Type="http://schemas.openxmlformats.org/officeDocument/2006/relationships/image" Target="../media/image22.pct"/><Relationship Id="rId9" Type="http://schemas.openxmlformats.org/officeDocument/2006/relationships/image" Target="../media/image23.pct"/><Relationship Id="rId10" Type="http://schemas.openxmlformats.org/officeDocument/2006/relationships/image" Target="../media/image24.pct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on crowcroft</cp:lastModifiedBy>
  <dcterms:modified xsi:type="dcterms:W3CDTF">2007-06-12T09:05:35Z</dcterms:modified>
  <cp:revision>130</cp:revision>
  <dc:subject/>
  <dc:title>Bubble Rap: Forwarding in Small World DTNs in Ever Decreasing Circles</dc:title>
</cp:coreProperties>
</file>