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29.pct" ContentType="image/x-pict"/>
  <Override PartName="/ppt/media/image6.pct" ContentType="image/x-pict"/>
  <Override PartName="/ppt/media/image31.pct" ContentType="image/x-pict"/>
  <Override PartName="/ppt/media/image11.pct" ContentType="image/x-pict"/>
  <Override PartName="/ppt/media/image1.png" ContentType="image/png"/>
  <Override PartName="/ppt/media/image12.pct" ContentType="image/x-pict"/>
  <Override PartName="/ppt/media/image19.gif" ContentType="image/gif"/>
  <Override PartName="/ppt/media/image7.pct" ContentType="image/x-pict"/>
  <Override PartName="/ppt/media/image37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30.pct" ContentType="image/x-pict"/>
  <Override PartName="/ppt/media/image28.pct" ContentType="image/x-pict"/>
  <Override PartName="/ppt/media/image20.gif" ContentType="image/gif"/>
  <Override PartName="/ppt/media/image10.pct" ContentType="image/x-pict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33.pct" ContentType="image/x-pict"/>
  <Override PartName="/ppt/media/image36.png" ContentType="image/png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media/image1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DD36-1D14-4C7D-8E9D-DDF6E4CDDF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53315-CF32-4316-84A7-A3FA08CB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14E9-F9DB-4877-8851-7CDEE5F8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65855-A214-499E-86FE-FD4EE760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380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456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380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456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AC4DB-BC32-4B6D-B283-9886D127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71E2F-F1C2-486F-9D3A-38BC4504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ADA83-A4F0-4844-823D-6CE2E558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850E0-4E4E-4D86-B3CA-88FD26FD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1123-FF7C-4BF3-88DB-BFF1F1A8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EB9CE-E789-4BB5-A24C-1F691791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765BD-1F97-4C24-8E7D-4F75B902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D1A92-C80F-40F5-BAB0-9492DCEA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AECCC-C7BE-432F-AF1E-D45523A1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DASSON Workshop, Edinbur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27B007-9E03-4860-A00E-DF1A3A45191A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2384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June 26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pct"/><Relationship Id="rId8" Type="http://schemas.openxmlformats.org/officeDocument/2006/relationships/image" Target="../media/image22.pct"/><Relationship Id="rId9" Type="http://schemas.openxmlformats.org/officeDocument/2006/relationships/image" Target="../media/image23.pct"/><Relationship Id="rId10" Type="http://schemas.openxmlformats.org/officeDocument/2006/relationships/image" Target="../media/image24.pct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image" Target="../media/image32.pct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image" Target="../media/image34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Mob Handed: Realworld Human Mobility Model driven design of forwarding algorithms for Opportunistic Networ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0" y="3860280"/>
            <a:ext cx="37767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n 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ther Community Detection Method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ness [Newman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arity [Newman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theory[Rosvall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entrality in Tempora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unlimited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sourced and temporal traff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mes on shortest delay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ue to Freeman centrality [freema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ogenous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327640" cy="5085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268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26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860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foco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860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lity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95640" y="1214280"/>
            <a:ext cx="5400720" cy="5123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40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5080" y="1406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el Node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7358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centrality should be modelled in different levels of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rity and Famili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759640" cy="503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4520" y="1198440"/>
            <a:ext cx="42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4560" y="6310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5840" y="568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020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9840" y="421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89480" y="24940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784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7840" y="422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9480" y="607680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 Community   II. Familiar Strangers  III. Strangers  IV.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19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rrelation Coefficient   = 0.9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04960" y="32716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16240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19640" y="32716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574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5719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46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6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1280" y="45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5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70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776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7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terogeneous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0840" y="206064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second goal of this research is to devise efficient forwarding algorithms for PSNs which take advantage of bo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learned knowledge of the structure of human mobilit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28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levels human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communit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rsity of centrality in differen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categories of huma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terogeneous forward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(central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(commun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BBLE RAP (centrality meet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ximation and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ed approximation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action and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generation human inter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human contac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ity/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natures of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Forwar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, Wait, and Multiple-copy-multiple-hop (M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im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Greedy Ranking Algorithm  (RANK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e-calculated centrality/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traffic to nodes have highe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small and homogen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12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eedy Rank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paths [Trusina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percentage in mos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32000" y="3009960"/>
            <a:ext cx="7343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84720" y="3591000"/>
            <a:ext cx="1400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76640"/>
            <a:ext cx="139680" cy="12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00536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3068640"/>
            <a:ext cx="14148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306864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882880" y="2852640"/>
            <a:ext cx="3816360" cy="3340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node for the whole system may not be best node for a spec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75280" y="32130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37893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3668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0920" y="2948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924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284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bel Strategy (LA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980640"/>
            <a:ext cx="840096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 label, e.g.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d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nodes have same label as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 in conference mix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3370320" cy="294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3829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ess mixing environment (e.g. Re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one group may not meet members in another group s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stination group no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tion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has a global and local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popular node like a postman, or politician in 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 popular node like Christophe Diot in SIG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276640"/>
            <a:ext cx="782316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irst goal of this research is to move to a third generation of human mobility models, understanding heterogeneity at multiple levels of detai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0280"/>
            <a:ext cx="72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derstanding multiple levels of heterogene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Centrality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each node know its own centrality in decentralised way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does past centrality predict the futur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3040" y="4365720"/>
            <a:ext cx="840096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gree, per-6-hour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efficients, 0.7401 and 0.9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indow (Exponential Smo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258920" y="3043080"/>
            <a:ext cx="6338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ability of Human Mo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essions of Reality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ssions using the ranking calculated from the firs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sam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6720" y="3429000"/>
            <a:ext cx="5975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and Future W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warding using priori label or social structure inferred throug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k-clique building through gossi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per-6-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ed version of k-cliqu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gener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ocial Structures Vs Network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unit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communities, i.e.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pological cohesive groups or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hubs, celebrities and po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weenness, closeness, inference power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on of k-cliques reachable through a series of adjacent k-cliques [Palla et 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jacent k-cliques share k-1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in a community reachable through well-connected well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clique (connected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clique (overlapping triang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verlapp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colation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20380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k)= 1/[(k-1)N]^(1/(k-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122400"/>
            <a:ext cx="721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80960"/>
            <a:ext cx="88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57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7840" y="1413000"/>
            <a:ext cx="8858160" cy="4248000"/>
            <a:chOff x="177840" y="1413000"/>
            <a:chExt cx="8858160" cy="4248000"/>
          </a:xfrm>
        </p:grpSpPr>
        <p:grpSp>
          <p:nvGrpSpPr>
            <p:cNvPr id="65" name=""/>
            <p:cNvGrpSpPr/>
            <p:nvPr/>
          </p:nvGrpSpPr>
          <p:grpSpPr>
            <a:xfrm>
              <a:off x="177840" y="1413000"/>
              <a:ext cx="8858160" cy="4248000"/>
              <a:chOff x="177840" y="1413000"/>
              <a:chExt cx="8858160" cy="4248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413000"/>
                <a:ext cx="8858160" cy="42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907400" y="2936160"/>
                <a:ext cx="16740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907400" y="2555280"/>
                <a:ext cx="166680" cy="169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75160" y="335988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1000" y="242856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98240" y="221652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0160" y="204732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5720" y="276696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9240" y="33598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46080" y="310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95240" y="3783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37320" y="3274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28840" y="344376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45360" y="344484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8560" y="319104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58200" y="289404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23680" y="3529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4680" y="31910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51920" y="344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8600" y="3021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8040" y="51382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5080" y="48844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48960" y="53499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58120" y="505332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6560" y="196272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3960" y="2894040"/>
                <a:ext cx="5139000" cy="11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22560" y="4715280"/>
                <a:ext cx="1211400" cy="84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839040" y="476424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9040" y="4488840"/>
              <a:ext cx="14004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9040" y="504072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39040" y="531576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7320" y="455904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7320" y="44208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9120" y="469584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7320" y="49557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7320" y="524772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2400" y="200700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1080" y="249048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5720" y="18248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1600" y="214560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240" y="423684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560" y="462744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on crowcroft</cp:lastModifiedBy>
  <dcterms:modified xsi:type="dcterms:W3CDTF">2007-06-12T09:05:35Z</dcterms:modified>
  <cp:revision>130</cp:revision>
  <dc:subject/>
  <dc:title>Bubble Rap: Forwarding in Small World DTNs in Ever Decreasing Circles</dc:title>
</cp:coreProperties>
</file>