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0D815-4379-4492-AE20-5890780A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3DC32-687A-4C3C-8C44-2326246E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238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238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F25A0-236E-4258-A7F7-AFF57286D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6008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0084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6008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0084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ABD74-508A-48C0-888A-6645A7AD2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50F2F-83B5-46A1-9EBF-671C68E5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F3852-BFB9-4F3B-A0BE-F294941F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238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C486A-CDF0-4C67-985D-7C0FD16F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2F46A-683F-482A-9CA2-FF2BCCA4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20480" y="-360"/>
            <a:ext cx="78231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C1A12-CD60-414F-A20B-F8139D52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238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23D10-0E6D-4E88-A92D-957A8AD1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238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238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56D9E-E1DB-429A-8DF9-D1B2105F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238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1B79C-84E1-439A-B57B-E4D108DB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618920" y="6237360"/>
            <a:ext cx="6661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ootlight MT Light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Footlight MT Light"/>
              </a:rPr>
              <a:t>Thomson Labs Paris, just outside Paris :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400" y="6237360"/>
            <a:ext cx="1155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488242C-58E0-450D-B7C1-ABD1AF11F0BE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21932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250920" y="62373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ootlight MT Light"/>
              </a:rPr>
              <a:t>Nov 23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384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l.cam.ac.uk/techreports/UCAM-CL-TR-703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Jon.Crowcroft@cl.cam.ac.uk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Lazy Susan: dumb waiting as proof of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700360" y="3860280"/>
            <a:ext cx="5376960" cy="193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on.Crowcroft@cl.cam.ac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ttp://www.cl.cam.ac.uk/~jac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ut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iversity of Cambridge &amp; Thomson Research Paris&amp; LIP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56080" y="6251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4680" y="5994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 Que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09640" y="1800360"/>
            <a:ext cx="752472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 parallizable Shared Secr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Tech Report for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l.cam.ac.uk/techreports/UCAM-CL-TR-703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ally chained with time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ome type of homomorphic h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formance of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impact of attac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look at impact of adding our PoW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graphs are from analysis (no implementation yet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 of Attacker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5438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 of PoW-de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5438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Layer P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3040" y="1267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work, but requires our system deploye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t of valid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location might be access rou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OpenWRT linux router would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t of ingress devices that police d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be CPE, or ISP ingress router,or even D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(k1,k2,k3) idea using 3 IP address spaces (client=k1,server=k3,validator=k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otherwise I must go and celebrate my birthda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132000" y="2492280"/>
            <a:ext cx="257184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5640" y="256500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n.Crowcroft@cl.cam.ac.uk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CAM-CL-TR-703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done with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 Deegan at Xensource, Christian Kreibich at ICSI, Richard Mortier at Microsoft Research,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icholas Weaver at Berkeley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t merci a CNRS et Thom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ean Slate DoS Proof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zy Susan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way for service to control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l aspect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roof of work (PoW)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decentralized way to implement P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 and C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permits arbitrary clients, 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(some) ingress control/po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azy Susan &amp; Dumb Wa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2689200" cy="3586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3124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architectural colum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zy Sus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fers to three layers of identifi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 required to acquire each to get to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referred to as k1,k2,k3, but not PC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umb Wai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fers to novel proof of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CPU or memory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ncy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of of Work (P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, Memory, Cogn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are scale of botnets ver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resource available to legitimate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ized, Distributed P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PoW service itself target for at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entralized PoW hard to make exclu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llelized attacks a problem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tion 1 on P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r impose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aten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new cli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r clients that have misbehav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ised techniq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ait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ghly analogous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 Cook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next slide for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0480" y="-243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ay Cookie Ex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6338880" cy="54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tion 2 on PoW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401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P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 parallis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client must contact validat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 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many validators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ire client p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ze 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secre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idator can help new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ult tol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ne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-out-of-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id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er Clients become Valid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9000" y="1838160"/>
            <a:ext cx="750600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3:29:44Z</dcterms:created>
  <dc:creator>BenHui</dc:creator>
  <dc:description/>
  <dc:language>en-US</dc:language>
  <cp:lastModifiedBy>jac22</cp:lastModifiedBy>
  <dcterms:modified xsi:type="dcterms:W3CDTF">2007-11-20T13:00:02Z</dcterms:modified>
  <cp:revision>176</cp:revision>
  <dc:subject/>
  <dc:title>Bubble Rap: Forwarding in Small World DTNs in Ever Decreasing Circles</dc:title>
</cp:coreProperties>
</file>