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917-3FE7-4249-93B4-DA389BCD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550-69A5-405B-A5AA-C99DE1A0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10A-1B33-4D1E-8E9A-DB7C2C52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977-3A17-4B7C-B5B4-CF6D3BB5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4A16-2341-4970-8265-F3652B2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340C-A4E6-4A09-84EA-2AB3D3CF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9638-F21F-4373-BC60-E585770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4A0F-3E0F-44C0-9C51-C5B967F9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A123-2175-4C37-9F94-E7113D0D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7281-D13D-4592-9F4C-D200120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A80D-1027-4EE7-A901-354A39E3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F48-653E-4686-94B0-D2EBA265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2BC5-B9E2-4538-A5D9-27A9BB6B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9F11-CDAC-484C-A2BD-5EDAF7D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AD6F-CDFE-415D-8347-A4653AC8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8A15-D0C4-44EE-9FC2-00B49CDD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02B0-C501-42E7-BB3F-2132FB44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1BD-4E40-4071-A68D-FF21EA23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100-39FD-41A3-A137-17276367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825D-CC25-43B6-B61D-0C401954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E384-F996-47BA-9685-40D8E815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ECC-A204-4893-B6AD-6E5409A8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D01-790E-4D85-BAE8-844553E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F83-DFBE-4A6C-9FE2-7BF3FB66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EX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B338-73AD-46A8-9CDB-504AC326E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2E6A-0841-4286-B4DF-CC83AFEF6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456264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brid Reliable Multicast with TCP-X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273996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25296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ho P Barcellos, UNI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fano Pettini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349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l Je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fall back/forward to unicast/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protocol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30360" y="1663560"/>
            <a:ext cx="608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back / fall forw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if possible, unicast when necess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ransmission mode is group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uccessful initial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forward to multicast on 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fter ~75K unica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back to unicast on repeated mcas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feedback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edback option sent in ACKs from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d between TCP-X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% of last n packets received via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nder to fall forward to multicast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8376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840" y="224316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 Multicast Packet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 how la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s received (u/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firstpcb;/* first of the mpcb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nextm;   /* next tcpxm pcb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um tx_mode txmode;     /* unicasting or multicasting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nrtxm;              /* number of retransmits for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nrtxmtime;         /* time since last retransmi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sent;        /* total bytes sent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rcvd;        /* total bytes received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sent;        /* total bytes sent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rcvd;        /* total bytes received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segrcv msegrcv[128]; /* ismcast boolean for last n seg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per;         /* % of last segs receiv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cnt;         /* counter for segs recv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sntper;         /* % of last segs deliver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29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36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43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50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57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lly so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time taken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cast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ultiple TCP-XM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vs TCP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id multicas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ulticast be used in Gri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s new multicast-cap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us is de-facto Grid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CP-XM support in Glob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us X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Input Outpu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“i/o plugins” to Gl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SIX-like API / set of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pen/close/read/writ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protocol details / Allows for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f 1 transport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can be selected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948360" y="407880"/>
            <a:ext cx="19432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87480" y="1523880"/>
            <a:ext cx="3567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/XM driver specif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XIO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user when XIO framework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all open/close/read/writ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IP netconn connection structu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XIO driver-specific parame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CP-XM protocol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destination addr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code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init(&amp;stack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oad drivers onto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driver_load(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px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&amp;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push_driver(stack, 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cntl(attr, txdriver, GLOBUS_XIO_TCPXM_SET_REMOTE_HOSTS, hosts, numhos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create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handle_create(&amp;handle, st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e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open(&amp;handle, NULL, 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write(handle, "hello\n", 6, 1, &amp;nbytes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close(handle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-to-many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assumes one-to-on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O user interface requires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support for one-to-man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r 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changes mo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I is one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with peer on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not authenticat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form of “GSI-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ver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ansport driver for Globus X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lobus 3.2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xi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cp &amp; mcp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file transfer application using TCP-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d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 file host1 host2… host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m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ource cod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BSD, Linux, 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TCP – Mysore &amp; Varg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MP – Barcellos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3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4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imed at pus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initiated – advance knowledge of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session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ation host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is used when multicast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headers used to exchange multicas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ncorporates multiple destination and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requires n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friendly, by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 Bond</cp:lastModifiedBy>
  <dcterms:modified xsi:type="dcterms:W3CDTF">2005-07-15T15:48:39Z</dcterms:modified>
  <cp:revision>106</cp:revision>
  <dc:subject/>
  <dc:title>A Multicast Transport Driver for Globus XIO</dc:title>
</cp:coreProperties>
</file>