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D0E-032C-41F3-9899-83C4977F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F3C-0C0D-458C-AA30-EDB2AF24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AA8-5B7D-4859-81C8-5E80110E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154-77E9-407E-9092-FFEEC104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A931-E5A1-450E-91E1-A9CCB8DC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BB81-D4E5-40B4-9AA3-A2F41210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1C39-6CD8-4A45-A22D-1DE90D81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600E-77FB-4C85-BE01-030E4577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FD93-E3C7-404C-AF2A-22448F78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C8F1-89F0-4A45-B23F-11A89A93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CEAD-D52D-4ADD-A5FE-B41603F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EEC-F37B-40B7-9BE3-CB33A240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EE35-5761-4073-AF6C-2D29FBB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FCE1-0BCC-4F95-98C4-545D3F98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8114-610E-4461-BA7F-E387C98E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DC6D-A86C-490C-9083-92D254AB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02B3-9E6D-4768-84A2-EB27D26C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FD6-A8D1-4028-BBFC-DA1D3681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FB2-AA9F-410E-B055-C9E39946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E65-B73C-4256-B2DD-55E0E111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E16-B4EB-4E52-AC56-98DA965D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80E-0944-4EA7-9A0F-166B5861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0FD-C82E-4126-B922-2C8A1478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A79-F59D-4F55-87FD-1805EA70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12A2-4FF6-4E04-B7CF-E2CA08CB9A9B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2E67-ACD0-4D0A-9D47-ACFDE32D86BD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eploying Mesh Networks through Public Transpor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36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 Huang, J Crowcroft,, I Wassell, Wenjun 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boratory of Communication Enginee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obileMAN Project:IST 2001 38113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-108000" y="508464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ic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bility model based on Manhattan Grid System with realistic movement and traffic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dio propagation model for microcells, based on a recursive path loss model with multipath fading and interference from other no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ance evaluation made based on outage durations, connectivity, maximum outage time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ed relationships between performance and number of nodes, connection times, traffic congestion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7280" y="1052640"/>
            <a:ext cx="4537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s us to establish physical bound for network connectivity independent of upper layer protoco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stem is unsuitable for real time communication, however feasible for dispatch type applic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a number of business and technical risks to consider, however serves to highlight considerations for this type of applic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38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bile Ad Hoc Networks (MANETs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27640" y="167328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st of a set of self-organized, decentralized, mobile hosts that roam at will and communicate directly with each 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ropose a novel application scenario in the form of a MANET dispatch system for tax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95280" y="2276640"/>
          <a:ext cx="4033800" cy="27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4033800" cy="27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Business Scenar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llab with SUPSI-DS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e of Wiki to elicit user prefer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3 detailed business cases devised f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Taxi Cab Radio 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Ad Hoc Gam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Shopping Mall Messaging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alistic Business Case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at retain p2p/ad hoc n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reak down to stakehol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vi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isk analysis (for busi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curity requirements analysi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or customer and business ration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 find requirements for incentives/cooperation (reput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cab operation’s primary play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600200"/>
            <a:ext cx="6857280" cy="4343400"/>
            <a:chOff x="914400" y="1600200"/>
            <a:chExt cx="6857280" cy="4343400"/>
          </a:xfrm>
        </p:grpSpPr>
        <p:grpSp>
          <p:nvGrpSpPr>
            <p:cNvPr id="170" name=""/>
            <p:cNvGrpSpPr/>
            <p:nvPr/>
          </p:nvGrpSpPr>
          <p:grpSpPr>
            <a:xfrm>
              <a:off x="5166360" y="4952160"/>
              <a:ext cx="2605320" cy="991440"/>
              <a:chOff x="5166360" y="4952160"/>
              <a:chExt cx="2605320" cy="99144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6360" y="51217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66360" y="5518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88960" y="4952160"/>
                <a:ext cx="1782720" cy="9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914400" y="1600200"/>
              <a:ext cx="6035040" cy="4343040"/>
              <a:chOff x="914400" y="1600200"/>
              <a:chExt cx="6035040" cy="4343040"/>
            </a:xfrm>
          </p:grpSpPr>
          <p:sp>
            <p:nvSpPr>
              <p:cNvPr id="175" name=""/>
              <p:cNvSpPr/>
              <p:nvPr/>
            </p:nvSpPr>
            <p:spPr>
              <a:xfrm>
                <a:off x="914400" y="1600200"/>
                <a:ext cx="6035040" cy="3116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63040" y="2025000"/>
                <a:ext cx="123444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810"/>
                    </a:solidFill>
                    <a:latin typeface="Arial Unicode MS"/>
                  </a:rPr>
                  <a:t>Custome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920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oft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204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H/W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20624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571500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520440" y="3110400"/>
                <a:ext cx="3154680" cy="1274760"/>
                <a:chOff x="3520440" y="3110400"/>
                <a:chExt cx="3154680" cy="1274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520440" y="3110400"/>
                  <a:ext cx="3154680" cy="127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Cab Compan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0352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810"/>
                      </a:solidFill>
                      <a:latin typeface="Verdana"/>
                    </a:rPr>
                    <a:t>Dispatcher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5760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Verdana"/>
                    </a:rPr>
                    <a:t>Cab driv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92040" y="3818520"/>
                  <a:ext cx="4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051560" y="5093640"/>
                <a:ext cx="150876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Internet Service Provider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access point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6120" y="5093640"/>
                <a:ext cx="164592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Credit card service provider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credit card facility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1588320" y="2756160"/>
                <a:ext cx="22680" cy="23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828440" y="2768040"/>
                <a:ext cx="22680" cy="231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97480" y="2401920"/>
                <a:ext cx="123444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31840" y="4095000"/>
                <a:ext cx="44568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166360" y="4101480"/>
                <a:ext cx="41112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23160" y="2741760"/>
                <a:ext cx="1097280" cy="235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206240" y="438480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8056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148840" y="3534840"/>
                <a:ext cx="0" cy="155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342880" y="3936600"/>
                <a:ext cx="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354400" y="3960360"/>
                <a:ext cx="11656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48840" y="35352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12648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ad hoc gaming on ubiquitous devices scenario’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76360" y="2637000"/>
            <a:ext cx="6400800" cy="2568240"/>
            <a:chOff x="1476360" y="2637000"/>
            <a:chExt cx="6400800" cy="2568240"/>
          </a:xfrm>
        </p:grpSpPr>
        <p:grpSp>
          <p:nvGrpSpPr>
            <p:cNvPr id="203" name=""/>
            <p:cNvGrpSpPr/>
            <p:nvPr/>
          </p:nvGrpSpPr>
          <p:grpSpPr>
            <a:xfrm>
              <a:off x="5705280" y="2979720"/>
              <a:ext cx="2171880" cy="799920"/>
              <a:chOff x="5705280" y="2979720"/>
              <a:chExt cx="2171880" cy="799920"/>
            </a:xfrm>
          </p:grpSpPr>
          <p:sp>
            <p:nvSpPr>
              <p:cNvPr id="204" name=""/>
              <p:cNvSpPr/>
              <p:nvPr/>
            </p:nvSpPr>
            <p:spPr>
              <a:xfrm>
                <a:off x="5705280" y="31165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05280" y="34369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91080" y="2979720"/>
                <a:ext cx="148608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476360" y="2637000"/>
              <a:ext cx="4114800" cy="256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0460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Manufactur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7648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End Custo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7648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Content Develo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0460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Retail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0680" y="3147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171600" y="3700080"/>
              <a:ext cx="7333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90680" y="4633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190680" y="3490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1976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Game Service Provi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62560" y="458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362560" y="3703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370480" y="44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381040" y="37411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retail mall based scenari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03280" y="1773360"/>
            <a:ext cx="6400080" cy="3886200"/>
            <a:chOff x="1403280" y="1773360"/>
            <a:chExt cx="6400080" cy="3886200"/>
          </a:xfrm>
        </p:grpSpPr>
        <p:grpSp>
          <p:nvGrpSpPr>
            <p:cNvPr id="223" name=""/>
            <p:cNvGrpSpPr/>
            <p:nvPr/>
          </p:nvGrpSpPr>
          <p:grpSpPr>
            <a:xfrm>
              <a:off x="1403280" y="1773360"/>
              <a:ext cx="6400080" cy="3886200"/>
              <a:chOff x="1403280" y="1773360"/>
              <a:chExt cx="6400080" cy="38862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632200" y="4288680"/>
                <a:ext cx="2171160" cy="799920"/>
                <a:chOff x="5632200" y="4288680"/>
                <a:chExt cx="2171160" cy="799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632200" y="4425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2200" y="47458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17640" y="4288680"/>
                  <a:ext cx="1485720" cy="79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mone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informat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403280" y="1773360"/>
                <a:ext cx="6172200" cy="3886200"/>
                <a:chOff x="1403280" y="1773360"/>
                <a:chExt cx="6172200" cy="38862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403280" y="1773360"/>
                  <a:ext cx="4114800" cy="3886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3152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Manufactur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0340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Publish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0340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Develop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3152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and Software Retail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117600" y="22845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17600" y="3770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3117240" y="2627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307960" y="2877840"/>
                  <a:ext cx="0" cy="3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45920" y="451728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End Custom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3993840" y="41742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426060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466092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117600" y="34884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2774880" y="414576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03480" y="417420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746680" y="3144960"/>
                  <a:ext cx="1828800" cy="8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all get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ore custom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 flipH="1">
              <a:off x="3117240" y="2436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re Details on Ad Hoc Network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axi Dispatch Sy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ails in Mobihoc pap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mobility (from “Panther”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RF propag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lication is decentralis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aces expensive central alternat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anci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53708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sing the value proposition for primary p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ng technolog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st comparis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s likely to be cheaper and easier to roll 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6-02-12T12:32:11Z</dcterms:modified>
  <cp:revision>90</cp:revision>
  <dc:subject/>
  <dc:title>Ultra Wideband Radio Technology: Potential &amp; Challenges Ahead</dc:title>
</cp:coreProperties>
</file>