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434-FDA8-4976-8060-56DE2BB3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2E7-644D-479F-A49D-D7F92102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A4F-44B7-4A49-8576-7C71F592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364-50B5-42CD-A347-1C571CEC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314F-EED6-4764-BB3A-070758EA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2973-4818-4E08-B82D-98619C42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72AB-2174-4D69-8270-87C8683B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4F30-1B4C-42D4-B84E-61576D46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CD9F-7440-41C4-88E2-C3DAE7CC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C5AD-4B87-449E-A738-718FCD0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007D-9525-4685-87D5-F8B57C9E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C2C-6BDC-40FC-ADD8-A416ED9E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B037-078B-405C-AE11-3DB915B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E148-5BF4-4FEA-934E-09E5FE4E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AEDE-44F1-41D7-9BBA-37A45E6C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2B0E-292A-4715-9E62-72FA6862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6E84-BB01-4326-879C-ADB9FEC8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105-D631-4D9E-A45B-85348942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A2A-24E2-4136-97D6-9AA2BF0D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755-65A1-451B-806E-489AE06F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C24-E1C3-4064-8FD0-EFDB4363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849-7402-4C75-9EE3-F4AFE674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D9C-2E9B-4F31-A64E-B8E6C7D8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CBB-FAAD-42C9-92FF-38361A1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1D08-6223-4F25-863B-093A03A7BA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41F8-B8E8-4483-9B35-203A3DCD94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chitectural Principles for Architectures - an elicita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 Crowcro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1: What are the architectural problems in the Internet &amp; why are they showing up n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sure if there are any - the Internet works for 95% of what people want it to do, and I don’t want to replace gsm in my phone with vo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 do I want to fit TCP/IP to anything else quite frankly…s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m going to ignore the Internet for the purposes of Architectural Elici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tead, move to (and modify) Q2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: A Clean Sl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for the Internet Applications or Usage, but for new stuff - e.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portunistic Networking, related 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ay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ruption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these, what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a: Requirement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b Usage assump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a&amp;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portunitistic Nets (Ons) are partly an instance of DT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have e2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nectiv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,DTNs,ONs all share this, and also, typically, lack of seperation of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is tell us about architectur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al Elici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P, X.25, XNS, DNS, SNA… all OSI mo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en Systems Interconnection use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ganising princip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ay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principle is not useful in 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e2e principle is 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.g. in extreme (have no network layer so no routing in net - but can have end system rout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 Wroclawski’s point…partial re-use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3: Evolve or Overla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, and No, at least not for ON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P is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verlays are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some 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nteresting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’s no interesting research in these new requirement areas that can be done in IP or Overlay (but see next for mitigating commen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ide: Plea for Internet Experimental Ethics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’s still a lot of interesting Internet Architecture Evolution work to do - much of it is in scaling routing, DOS resistence, better worm prevention, etc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not test any hypothesis in today’s Internet is governed by short term, litigious-minded, and often inappropriate knee-jerk respon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fix this URGEN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keh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requirements need new architectures that deviate radically fro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rchitectural principles reu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ust do evolution of Internet Arch, need to be able to test ideas - need a richer world than todays to let you do it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4-08-30T18:19:35Z</dcterms:modified>
  <cp:revision>67</cp:revision>
  <dc:subject/>
  <dc:title>Ultra Wideband Radio Technology: Potential &amp; Challenges Ahead</dc:title>
</cp:coreProperties>
</file>