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AD3-DE7B-4D75-BD92-7172E593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DB7-71A3-4431-9AAB-29493FC3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3A0-09EE-4DBD-9C7F-A24BAC5F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B14-137C-4D44-B5A4-0B32537E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8A4-DFAE-4019-B80C-3722D4C4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E3B-1922-40D4-B109-9275ECAB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CD8-5F53-4863-AC10-23EC6E71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480-F128-42F1-ABC0-314D106D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EB9-A7FC-4497-B7EF-72088906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04E-2D9A-4971-AC5A-FE54894D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5BF-C6E8-499E-A587-30E2320B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27F-B7B1-4258-86DF-87B421AC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F935-643D-4A7D-B422-DE547BAFF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s for Decentralised Spectrum Co-Allo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jac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an be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, social, political, geographic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-community trust much higher than int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unities align social and ge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 are not just abou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cales vary from minutes to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time of use o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 of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rain, Vehicles,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ther, mobility, traffic matric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yment/tokens need to be unfor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double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nimity versus trac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ed Reservation v. Decentralised Congestio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urce Reserva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ireline networks (rsvp, q2931) interfac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ssion control,  policy management, traff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I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ct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atekeep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resource (which is 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gestion Control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buted dual optimisation (TCP/ECN or AB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systems adapt to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signals end systems (through loss or E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protocols traditionally resourc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ion, hidden terminal etc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iciency considerations (not gre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MA/CA is quite like TCP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cales of feedback quit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radio and software defined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modulation, coding, CRC,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wnloaded, or selected, based o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e environment (congnitive) or ask ora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 antennae, power budget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undrum: where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logy: give me all the capacity for my download then go to next user, or give me 1/nth of the capacity all the ti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ingle optimum operating point for give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timescales mean that sensing is not going to detect future (or recent) potential contend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 continu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&gt; Need to kee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&gt; Need infrastructure for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ost, but given geograph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also use repository for (signed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oken validation (ecash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ole for incumbent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haul (c.f. multihop horizon limi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:-- Hybridiz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entralised managed thru central neutral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then use reservation protocols and auctions and other mechanisms to allocate 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center to offer checks and balances (polices spectrum “bill of right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fully decentralised techniques within power budget and spectrum allocation for re-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7:09Z</dcterms:created>
  <dc:creator>daniel</dc:creator>
  <dc:description/>
  <dc:language>en-US</dc:language>
  <cp:lastModifiedBy>daniel</cp:lastModifiedBy>
  <dcterms:modified xsi:type="dcterms:W3CDTF">2005-11-06T14:56:53Z</dcterms:modified>
  <cp:revision>11</cp:revision>
  <dc:subject/>
  <dc:title>Protocols for Decentralised Spectrum Co-Allocation </dc:title>
</cp:coreProperties>
</file>