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537C-A315-4E6D-824C-03E366CA5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A676-0FD8-4EA4-8ECE-1CF2C4666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732-C692-49F0-812B-B576BF30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FC3-55B0-432C-80C2-9805CFB5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6B6-A8AD-4729-B637-912FCA43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F47-FEB3-471F-8260-96DD4B3D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315-5CA6-4922-AA12-A0254463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5AF-CB9D-4EBC-9317-571A5FB3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04F-1661-4E17-A532-20A87A16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0454-D382-432C-AB52-C2057B56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F62-EF64-4692-A499-2C3D7AA4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6A8-3BE1-455C-B06E-1FDF2EAF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0E6C-6827-4569-9227-97F00EE3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C66D-A016-4F3C-A56B-5B35E729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7720" y="6324120"/>
            <a:ext cx="752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14 June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TU Darmsta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77A4-D1B8-44EB-9DB8-3097D069367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3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Or The Internet Conspiracy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47440" y="4212720"/>
            <a:ext cx="5797800" cy="278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James Scott (xxx Research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n Hui (University of Cambridge)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hristophe Diot (Thoms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othy Roscoe (ETH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7927-8AF3-4B64-B4C0-335DC8F7D2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C3A33-CB6C-4438-9A10-4F2E5DC10F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The alternativ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ere is no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ust a bunch of computers with lin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moves “semantic bottleneck” from application writer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mbrace “radically heterogeneous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wo end-systems should be able to communicate even if they hav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nothing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in common: protocols, address realms, semantic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016-2D89-4C9D-A881-5956BD590A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A45EE-A015-4262-BAD6-2062F08F2A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Surely something must be common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Of course: but it is only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the application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at what is common is that which is application-specifi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ven DTN has single overlay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bundle routing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8D1D-4B0B-47B6-834B-14D2A1004D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704EE-0984-441F-B78D-18C58D2FCC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2D5-378F-4DA7-8616-825C5185B7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96A50-512E-4034-A4A8-E7C82692A3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417-B13A-4A41-975C-FD66ED49A3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F5088-F8DA-4CC3-BDD5-6C28570472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CED-08E4-455F-BABB-D6D9A0544D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868A9-7CF4-4674-AE0D-03712030BA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799-C643-409D-B607-76F4BFF5770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1D7F9-8844-4178-B52D-4026240703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51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8122400">
              <a:off x="5420160" y="258588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27C-4232-4FB8-AC25-EE01B57AACD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24E01-1B91-40DF-B060-B5F317EB6F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22320" y="11970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6200" y="37638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1A2-B231-454C-AC35-B32C32CA2A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82E25-8E3C-4370-8862-B3AB510D74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9DA-57A0-4C57-A36D-37EF6A1E973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3D9D8-8E89-471A-A8A3-9C2168EE0F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(ex cambridge, sprint, intel, berkeley, oz, now ETH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 (Wenjun Hu, Jon, Mothy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 to FIND/GENI? - n.b. my abstract’s comments(*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rchitectures emerge (ANSA/Herbert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E146-BB38-4C0D-819B-55E63420E63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B74B8-3C79-4D8A-856C-160763A105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68E-A6B6-4D71-A395-9F2E23ED6D7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BD048-C06E-4B56-9B2D-BA894A873C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4AF-4BA5-4061-97C5-F2EB3BD4F2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4B09D-66EB-4FD6-A08F-67661FB819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1345-B9FF-40ED-A9CB-D567BC23AC7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D0631-6150-4763-9228-86E4F36D45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Back to FIND/GENI &amp; Architecture/Testbeds &amp; EU v. U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s per my contentious (*) abstract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ND and GENI are to fill a funding gap US h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U doesn’t have g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chitecture research is philosophy, not science or enginee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e devil is in the details, s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 1000 architectures bl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orld will pick a winn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ego will declare it the new architecture and beco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ther-in-law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the Next Generation Inter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should fund good communications systems research as usual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93A-06A7-4710-B61F-2FA87D65AC5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F5831-D268-458F-A746-F577A3F2D3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obrigado …ciao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cknowledgements: James Scott, Mothy Roscoe, Mark Handley, Richard Mortier, Steve Hand, Keshav, Nick Feamster, Kevin Fall, for arguments about architecture, post modern or otherwise :-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4826-06B9-493A-A10C-82E791600BD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D35E1-3573-4F87-8062-9405C38457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y have an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hat does an Internet Architecture hope to achieve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teroperability across networ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asier for applications to code t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ramework for providers to compe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oes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Internet architecture really address these issues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1380-F00A-49DE-B139-E9EA5642EF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35074-22AE-49FB-AA6C-AC245C7313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2590-DFD9-49EF-A0C7-BF6B6F8CF7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1494C-DAA7-4870-BC46-0D3F54ABEC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operability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o – not really</a:t>
            </a:r>
            <a:r>
              <a:rPr b="0" lang="en-US" sz="2000" spc="-1" strike="noStrike">
                <a:solidFill>
                  <a:srgbClr val="0860a8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form API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Bad thing: hides useful features of the underlying network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.f. cross layer optimisations and other oxymor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rovider framework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as any tier-1 ISP ever made significant profit from offering IP servic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et Neutrality Debate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D393-5D4D-4ECE-AAFD-264C886300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B5605-50B9-4E07-85A3-EF06AB7A80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used to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enable rapid innov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im: lack of attention to value flow &amp; economics was a Good Thing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igh commercial value blunts innovation (c.f. other industrie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ruption is bad for busines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dea: goal of networking research should be to enable surprising thing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0FE-97DD-4B4F-8166-C167712A95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B869A-3EC2-4CED-9F42-8DB5C3DEFB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3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801A-E945-4E07-AC23-A7C11D7E510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D32D2-B6B3-4A69-AA1E-AB61F156A8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11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C5F-FA47-48D5-A5DC-47182BFDCE6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6D44E-BB11-40CD-94E9-2B4435E89C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32800" y="4684680"/>
            <a:ext cx="36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9080" y="2017800"/>
            <a:ext cx="30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3E1-7F40-4DFD-BDCC-4611906E216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C4B3D-2581-40F5-955F-AFCD1C87A7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7-06-12T09:03:31Z</dcterms:modified>
  <cp:revision>250</cp:revision>
  <dc:subject/>
  <dc:title>Haggle Work </dc:title>
</cp:coreProperties>
</file>