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715F-B2D3-4122-B82C-34B494E74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s already have 500 computers in (40% of car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184-0354-45E7-BA4F-02C6BBBB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DDD-E8C8-4FE8-9058-21A391D0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9DB-C323-4106-98A6-2EB07B50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5FD-17F1-432E-8BFF-5F60439C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914-2F79-49EA-9CC7-B5C7193B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B3A-627D-413E-9CC8-C98013D2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8BB-3571-48AD-890E-4C4260B0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AB0-415A-47F4-BD35-EFCB939C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C13-DFE6-4902-8488-72B7EEA9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349-A899-4484-AE8D-12850A0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11F-9E71-458A-88B9-B4EFED1C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0BF-6DFA-4DFB-BD7F-7C2A8879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mdcen School for Girls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6418-8379-4B03-AAA5-6BC940680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Future of Computing and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mpute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586728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CD8-82A8-4AD6-92EA-EFA2ADE10D0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 of interaction without phys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put the computer away from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wall of the h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door of the c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heel of a sho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ve it into your shir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will you interact with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 Victoria Bellotti at Apple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ech, gesture, context - no keyboard, no mouse, no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8E8-64F9-47A5-900A-9FEA457442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 havnt mention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ould like to empower every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and control the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how the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use/configure/re-purpos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ans we need an accesible program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like VCR, DVD, Skybox, Windo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hing new? Yes, but what ? Any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F6B-AA0F-4F03-922D-622A6AA8BF8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(or 2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+5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(or 1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 again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thinking, logic or compu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FF9-FAFA-4FB1-A476-DA2D031CE5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9, Computer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BA in Natural Sciences in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 years as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MSc at U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0 years sentence t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back to Cambridge…sinc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16C-9DFD-4B63-BE53-1A9F57C144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ing: the Science of 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t on a formal, but also practical fo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is the business of build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just gadgets, but the world (ecosystem) that supports ga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The Internet, The Web, Google, iTunes, Amazon,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Cs, Browsers, Searching/Maps, MP3, secure online payment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9F5-4C93-40DD-85E8-64D0A629B9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eople think CS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people want to cross a narrow rope bridge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1 torch, and only 2 people can fit on the bridge safel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west takes 10 mins, the next slowest 5, the next slowest 2, and the fastest 1 min. You need to take the torch back for the next 2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et everyone across in 17 mins. 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F28-2D8F-443D-A5D1-7807584A59A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lot of Computing is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ol Goble (A Prof at Manchester) s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ever we do something right in computing, it becomes invisible to the 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wireless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music down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cell phones or ipods, or … 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5F8-9F4C-4A9E-B36F-2B003E06DC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ensible to en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s that computer, storage and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n capacity every year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ost 1/2 as much each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10 years, will have hand held movie device with 15000 film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carry it? Why not have 100 of them if they cost 1 eu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lse will we dream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6BA-5C13-4575-A49E-0BA775745E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are going to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 the hig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ots and point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health/wellbe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v. Psychology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computing in the fa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alk about just these 3 exampl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1BD-4064-476D-B6AD-6627518C69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 High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000 people a year die in the UK on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accidents don’t have to happen if car does collision avoidance-  simpler is to control gap betwee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vers don’t like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 even worse habits (viz ABS, Airbag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urance companies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not put a pointy stick in the middle of the steering whe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d people don’t learn much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38E-4EFF-4DB6-8718-2F34968C85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ust in online medical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you let a machine make decisions about your medical treat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 the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another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a “human in the lo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trust the doctor, and the doctor trusts the program, should I trust the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dy Hall (prof at Southampton) sa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 meets psychology (math loses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54C-6BE1-4F0A-91A9-FD3E4CC143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Jon Crowcroft</cp:lastModifiedBy>
  <dcterms:modified xsi:type="dcterms:W3CDTF">2006-03-19T19:43:30Z</dcterms:modified>
  <cp:revision>29</cp:revision>
  <dc:subject/>
  <dc:title>Scaleable Ubiquitous Systems</dc:title>
</cp:coreProperties>
</file>