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FC1-07B4-4B71-9400-37068F36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073-F2AB-4045-AD8B-6659DBFA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4CE-02D3-4628-8029-214E790A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20F-1AD9-42F8-995B-BE04348F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4A3-1B59-4A75-B5D6-1AD3A366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99B-7512-4203-86E3-8CC9D6CC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A18-36BA-4A28-A35E-7476514E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CE5-7321-48A6-99AC-63AA5A0B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7BC-53B6-4FBF-8B08-A05E6E1E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92C-204F-44AA-8EDE-3F2FD934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0E7-0BA1-4369-96D0-ECB49327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987-E19E-4AA8-BB1A-384B1DF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D2D8-B2EC-467C-8A6B-FC7DB67B267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oNeXt/COST ARCADIA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Future Internet Workshop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Panel Session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620856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Christophe Dio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Serge Fdid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Kenjiro Ch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The Flo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754520" y="6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ote of the da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yone who isn't dead or from another plane of existence would do well to cover their ears right about now.”, Smith, et al…199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88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9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e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No, but seriousl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1 we’ve seen a lot of actual technical work going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specially the student posters !!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europe is a live and well and happen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I am asking people to decide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trategy&amp; Prior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ctiv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lus coordinating with new places  - vi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ina, Japan, Korea e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xample Topics for prioritisation from this workshop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Virtualisation (or is i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Virtualiz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Xen, Xorp, XCP and XI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ed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r is it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ubsidiarity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nitoring/Measur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Day in the Lif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ast Bit Tx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n the Interne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reless&amp;Security&amp;Nam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wher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urop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as distinguishing streng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IP over Voice Networks… …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re Workshops… … 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just wanna go to Rehab, baby” (apols to Amy Winehouse :-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4T16:43:48Z</dcterms:modified>
  <cp:revision>241</cp:revision>
  <dc:subject/>
  <dc:title>Haggle Work </dc:title>
</cp:coreProperties>
</file>