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180-D38F-4889-BD91-2FCB099A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C3F-DD8C-41C0-A15F-A029CB11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89E-07B6-4788-AF29-6D6CAB71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ED6-5BAE-4FDD-A936-A1A02B3A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A17F-F5A1-4D5F-AB36-1F27D9D3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AD56-FD9E-436A-9BA8-F3798AC6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DAE8-8CA4-4972-9DF3-467C1ECD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F597-8EAC-414F-864C-66030144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AC16-6F9A-4555-806B-1CA964A0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1347-C81A-4B2B-8621-CD91C7B6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4587-AA96-4899-909B-F4EC7FE6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07A-E839-49A5-B795-8B459A23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8C15-36BB-43F1-A638-8BE48710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9C81-E7B7-4CE8-9AA3-9AAF82F7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1D3F-ED1E-42D3-A579-1F5FCB52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0940-43EB-4229-B385-EA442C67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3214-DEED-44B3-938B-8EC579CC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EF8-05EF-4852-9A50-58D4EE0B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397-C7C2-4BF7-B290-C22BCAEB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567-66CD-446D-B3CF-8A291CC7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C9A-9B00-40EC-BEE6-A336FF44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7BA-683D-40C7-94B9-B806DB8A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F38-8322-4771-B5A1-9F7D04DE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E66-448D-4A98-A0E9-F538D6BD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0591-0496-43D7-921A-7361CC18B75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007C-E8E3-432C-8B01-CB3E007A1C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3EB0-73BE-4CA4-B80C-77A1C3304F2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F0D5-2A43-486A-87BC-A58B68A961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(Nearly) MAC-less MANET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’s proposal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 when we got rid of x.25 layer 3 and 2 reliabilty and flow control when we found TCP over IP over X.25 was very, very b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for TCP/IP over A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gnore MPLS:-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lso, amateur packet radio X.25 (phil karn’s KA9Q code) could disable tcp functions if ax25 layer did wor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lem of 2 different Timescal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(alt) TCP-less M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88D-1AF8-4FC2-B7EE-070DCF7789A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84B4C-E532-4877-A440-AEA4F3B2991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adband ques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teby, a hamlet about 15km outside Katrineholm, Sörm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ia, versus Tyfon versus SB Broad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L v. WiMAX v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deas … :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flashearth.com/?lat=58.994309&amp;lon=16.404535&amp;z=14.7&amp;r=0&amp;src=g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.crowcroft@cl.cam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934-710F-45AE-B2EE-10B8F2D308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3D9F6-5DF1-4167-A493-C76E48F86B9F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jon crowcroft</cp:lastModifiedBy>
  <cp:lastPrinted>1904-01-01T00:00:00Z</cp:lastPrinted>
  <dcterms:modified xsi:type="dcterms:W3CDTF">2007-05-02T15:41:55Z</dcterms:modified>
  <cp:revision>14</cp:revision>
  <dc:subject/>
  <dc:title>General</dc:title>
</cp:coreProperties>
</file>