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483-CC40-4994-A0CB-EE0FD42A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264-8ACA-4DC0-AA50-9DAA53E0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3E6-21C7-40D8-ABD1-3EC25777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CC8-2614-4792-A32C-E5B81BCC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2B6-8767-4799-9838-6A930E5D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F7E-47FF-4F4F-B624-F0609FA6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5F2-2333-4596-8087-566130F2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49E-9EDD-4C02-A419-5105799F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509-9B68-4275-B182-E191C689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8ED-FCD1-4752-9D31-0D02A692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0AD-25B3-4722-8782-4168B200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AED-FC1D-49F6-9A31-C74BF3D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7E55-F9D4-4341-8A83-59B4E04B6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G Workshop Panel</a:t>
            </a: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~jac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Internet: Services, technical challenges;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 &amp;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ND/GENI programme is very very weak in wireless (and only so-so in photo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adical work in Europe is also leapfrogging 3G/4G (e.g. cognitive radio and software defined radio, cooperative mimo etc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disconnect between thes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uded by ease of past:-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imensions of tension:- next 3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+Internet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ellular is just another access network, 2G and 3G convergence with IP is easy (so is IPTV since multicast is d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xt generation wireless is no longer architecturally an acc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architecture (well, will ha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ensions #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oS is quite a bad problem in today’s wired internet, but is a minor problem in telephone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a critical problem, potentially disastrous, in 4G and Next Ge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errorists jamming lond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 blackmailed to pay money to get money out at cash point :-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of multihomed mobile, users and assurance, when P2P, MANET, Mesh or similar cooperative wireless net 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n’t optional - in future services, it is crucial (if we want to charge people for low latency games, VOD, music/skyp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udget ceiling in data centers means content services must be P2P, not server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lationships are both horizontal and vertical. To date, ISPs only do horizontal (BGP) and CDNs do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bundl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ransparency and parsimonious regulatory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needs to take a lead on doing the wireless, but needs to underpin architectural work that US will do in IP, not j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a mess with massive costs and vulner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1:24:31Z</dcterms:created>
  <dc:creator>jon crowcroft</dc:creator>
  <dc:description/>
  <dc:language>en-US</dc:language>
  <cp:lastModifiedBy>jon crowcroft</cp:lastModifiedBy>
  <dcterms:modified xsi:type="dcterms:W3CDTF">2007-04-17T11:41:29Z</dcterms:modified>
  <cp:revision>1</cp:revision>
  <dc:subject/>
  <dc:title>4G Workshop Panel http://www.cl.cam.ac.uk/~jac22 jon.crowcroft@cl.cam.ac.uk</dc:title>
</cp:coreProperties>
</file>